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D10-BDC7-4A78-A9B1-685FAB1A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F26-F0ED-42DD-B9EB-22E7AD24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9F3-7C18-45C4-9673-7ECBDE5C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E62-94E1-4507-A19C-60C8F1A8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5FC9-DA3F-4434-8BF4-D8307CAC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52ED-F035-4C74-AB2B-19DFDE2F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D0C5-8C7A-4804-9124-F25C770E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637D-AB91-4726-A861-4382BD45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28D9-01F2-47E6-BB05-442F9BCF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FD31-37DF-4E32-B32B-1BBC0070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4B9A-C185-467C-B55D-D4A3F4E2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285-6D19-41DF-A5A7-7BE99E96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B19D-0674-4941-BE58-0D88E391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BED6-EE93-4A2D-AB7D-57EF24E8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CFD3-CACC-47F2-9CEB-DEAFA28B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5DC9-5490-4E28-BB32-44C83ED8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E8A4-140D-42AE-A791-63628EFA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3D7E6-C173-4ECB-BC09-15BDB1F4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CD51D-42C5-45AF-B88D-301FACE6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BC95A-8383-49CF-AC9F-3205AF65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71A26-70B1-4306-95D3-ED069418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73350-9580-459D-9B36-5CD116D0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A96-B068-4154-A0B3-C15CCBC6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74B91-BC6F-4D7C-B15A-79D02F33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0C9EF-E82D-4BFD-BFE1-364273FD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E72A7-5B9F-4DC4-A9EF-2BEDE29C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6175B-B5FE-4857-B9B6-1D3B94E1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26D3F-7D23-4D5D-946D-4895C997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B6556-A744-4B10-B1BC-F2A5B146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129F9-6B12-4CC8-B68F-DECC8BAE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ACBE5-689F-47D0-AAD9-4717AF06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26F3E-E043-46BF-9783-A48863E1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63A1D-BCC7-4E91-AC6C-899632E1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1BB-DC98-4E93-A201-B430F5F0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9F10A-75DE-495C-A89E-2D1128D0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A3F66-670B-450D-B3BC-C8A766BD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5BCC1-4ABC-4CE1-B58E-35A14611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0A6B3-465A-45CA-B8F6-643BC440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93B67-FCAD-4CE5-8F3E-D92FFFC9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4E200-FD15-4E41-92B6-3E1FC00A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1CD60-E7B5-41BD-9DF7-63E41032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101CC-369B-472E-95DA-26563289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B2047-EBC5-4389-8F45-40370585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57E-6F32-4658-8AC7-5E8CD8AE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631-435D-4F99-8B7B-21DEE11D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9DA-C4B2-49EF-B0E9-E80ED9B4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456-E6BE-4651-A362-73260B56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7B1-1909-4614-AFE4-9A8FD21D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6690-C2CE-46C2-BB2F-A563BB7FCEE8}" type="slidenum"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23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24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25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26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40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41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42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43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44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35A2-5B4B-49C6-90D6-41080310498B}" type="slidenum"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4FC5-97BD-4845-973F-8FAE2A3BA12B}" type="slidenum"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42B0-A690-48F8-8C24-77E48B1C7819}" type="slidenum"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3 Rectángulo"/>
          <p:cNvGrpSpPr/>
          <p:nvPr/>
        </p:nvGrpSpPr>
        <p:grpSpPr>
          <a:xfrm>
            <a:off x="219240" y="2097000"/>
            <a:ext cx="8766000" cy="3172320"/>
            <a:chOff x="219240" y="2097000"/>
            <a:chExt cx="8766000" cy="3172320"/>
          </a:xfrm>
        </p:grpSpPr>
        <p:pic>
          <p:nvPicPr>
            <p:cNvPr id="215" name="3 Rectángulo" descr=""/>
            <p:cNvPicPr/>
            <p:nvPr/>
          </p:nvPicPr>
          <p:blipFill>
            <a:blip r:embed="rId1"/>
            <a:stretch/>
          </p:blipFill>
          <p:spPr>
            <a:xfrm>
              <a:off x="219240" y="2097000"/>
              <a:ext cx="8766000" cy="314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85840" y="2189160"/>
              <a:ext cx="857232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ff"/>
                  </a:solidFill>
                  <a:latin typeface="Century Gothic"/>
                </a:rPr>
                <a:t>Diseño de métodos de trabajo. Formulación y análisis de los problemas de diseño de métodos. Búsqueda de alternativas, diseño, experimentación, evaluación y especificación de una solución. Evoluciones de la teoría y la práctica empleadas en el diseño de métodos.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17" name="4 CuadroTexto"/>
          <p:cNvSpPr/>
          <p:nvPr/>
        </p:nvSpPr>
        <p:spPr>
          <a:xfrm>
            <a:off x="6643800" y="61437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Miguel Hernández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1 Rectángulo"/>
          <p:cNvSpPr/>
          <p:nvPr/>
        </p:nvSpPr>
        <p:spPr>
          <a:xfrm>
            <a:off x="500040" y="121428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l estudio de métodos tienen sus raíces en la actividad de la administración científica. Federick Taylor mejoro los métodos de trabajo mediante el estudio detallado de movimiento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Otra de las contribuciones de Taylor fue la idea de que un estándar de producción (ejemplo, minutos por pieza) debe establecerse por cada trabaj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·.-Aplicar las interrogantes: por qué, cómo, cuando, dónde, quién, de tal forma que en base a esto nos permita mejorar métodos, procesos, tiempos. Todos esto con el fin de poder brindarle un ahorro a la empresa en muchos aspectos. 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·.-Realizar un estudio y enfocándonos en: el diseño, materiales, tolerancia, procesos y herramientas, y en base a esto podernos plantear la interrogante: cóm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2 CuadroTexto"/>
          <p:cNvSpPr/>
          <p:nvPr/>
        </p:nvSpPr>
        <p:spPr>
          <a:xfrm>
            <a:off x="500040" y="5716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INTRODUCCIÒ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 Rectángulo"/>
          <p:cNvSpPr/>
          <p:nvPr/>
        </p:nvSpPr>
        <p:spPr>
          <a:xfrm>
            <a:off x="214200" y="10414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·.- Estudiar los elementos productivos e improductivos de una operación. 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·.- Dirigir la atención del operario y el diseño del trabajo preguntando </a:t>
            </a:r>
            <a:r>
              <a:rPr b="0" i="1" lang="es-MX" sz="1800" spc="-1" strike="noStrike">
                <a:solidFill>
                  <a:srgbClr val="000000"/>
                </a:solidFill>
                <a:latin typeface="Century Gothic"/>
              </a:rPr>
              <a:t>quién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. 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·.- Realizar un estudio en la distribución de planta preguntando </a:t>
            </a:r>
            <a:r>
              <a:rPr b="0" i="1" lang="es-MX" sz="1800" spc="-1" strike="noStrike">
                <a:solidFill>
                  <a:srgbClr val="000000"/>
                </a:solidFill>
                <a:latin typeface="Century Gothic"/>
              </a:rPr>
              <a:t>dónde.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·.- Realizar arreglos, ya sea: simplificando, eliminando, combinando y arreglando las operaciones. Con el propósito de poder detectar los posibles cambios en cada uno de ellos. Ya sea haciéndolos mas eficientes, productivos, o en su defecto poder eliminar procesos innecesarios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1 Rectángulo"/>
          <p:cNvSpPr/>
          <p:nvPr/>
        </p:nvSpPr>
        <p:spPr>
          <a:xfrm>
            <a:off x="928800" y="1305000"/>
            <a:ext cx="7072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Los diez enfoques del análisis de la operación.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Análisis de la operación.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Es posible lograr mejores resultados de otra manera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Se puede eliminar la operación analizada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Se puede combinar con otra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Se puede efectuar durante el tiempo muerto de otra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Es la secuencia de operaciones la mejor posible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Debe realizarse la operación en otro departamento, para ahorrar en costo y manejo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1 Rectángulo"/>
          <p:cNvSpPr/>
          <p:nvPr/>
        </p:nvSpPr>
        <p:spPr>
          <a:xfrm>
            <a:off x="1071720" y="1166760"/>
            <a:ext cx="7358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Diseño de la pieza. 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a). ¿Se puede simplificar los diseños para reducir el número de partes? 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b). ¿Se pueden reducir el número de operaciones y las distancias recorridas en la fabricación, ensamblando mejor las partes y facilitando el maquinado? 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). ¿Se pueden utilizar otros materiales mejores?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Tolerancias y especificaciones.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Son necesarias la tolerancia, el margen , el acabado y otros requisitos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Son costosas estas especificaciones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Son adecuadas para la pieza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1 Rectángulo"/>
          <p:cNvSpPr/>
          <p:nvPr/>
        </p:nvSpPr>
        <p:spPr>
          <a:xfrm>
            <a:off x="357120" y="611280"/>
            <a:ext cx="8358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MATERIAL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Considerar el tamaño, en uso apropiado y las condiciones y características adecuadas.</a:t>
            </a: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¿Puede emplearse material de más bajo costo?</a:t>
            </a: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encontrar un material de poco riesgo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encontrar materiales que sean más fáciles de procesar.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.-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usar materiales de manera más económica.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usar materiales de desecho.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estandarizar los materiales.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reducción del tiempo dedicado a recoger el material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.- 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usar equipo mecanizado o automático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utilizar las instalaciones de manejo de materiales existentes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.- 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manejar los materiales con mas cuidado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considerar la aplicación de códigos de barras par los inventarios y actividades relacionada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1 Rectángulo"/>
          <p:cNvSpPr/>
          <p:nvPr/>
        </p:nvSpPr>
        <p:spPr>
          <a:xfrm>
            <a:off x="285840" y="128592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NDICIONES DE TRABAJO.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l alumbrado es el correcto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a calefacción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Ventilación de polvos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Bebederos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uartos de aseo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ondiciones de seguridad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Diseño y piezas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Trabajo de oficina necesario (para llevar tarjetas de tiempo, etc.)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Probabilidad de retrasos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antidades de fabricación probables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193840" y="1339920"/>
          <a:ext cx="4735440" cy="5175360"/>
        </p:xfrm>
        <a:graphic>
          <a:graphicData uri="http://schemas.openxmlformats.org/drawingml/2006/table">
            <a:tbl>
              <a:tblPr/>
              <a:tblGrid>
                <a:gridCol w="1231920"/>
                <a:gridCol w="3503520"/>
              </a:tblGrid>
              <a:tr h="24588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perd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a de eliminar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breprodu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Reducir los tiempos de preparación, sincronizando cantidades y tiempos entre procesos, haciendo sólo lo neces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p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lvl="1" marL="743040" indent="-28584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Sincronizar fluj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Balancear cargas de trabaj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Trabajador flex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208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Distribuir las localizaciones para hacer innecesario el manejo / transpor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Racionalizar aquellos que no se pueden elimin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Analizar si todas las operaciones deben de realizarse o pueden eliminarse algunas sin afectar la calidad el producto / servic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en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Acortar los tiempos de preparación, de respuesta y sincronizar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16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v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Estudiar los movimientos para buscar economía y conciencia. Primero mejorar y luego automatiz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244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os defectuo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Desarrollar el proyecto para prevenir defectos, en cada proceso ni hace ni aceptar defec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Hacer los procesos a prueba de to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2 CuadroTexto"/>
          <p:cNvSpPr/>
          <p:nvPr/>
        </p:nvSpPr>
        <p:spPr>
          <a:xfrm>
            <a:off x="1428840" y="84456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PROBLEMAS A ATACAR EN UNA ACTIVIDAD PRODUCTIVA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21:37:12Z</dcterms:created>
  <dc:creator>MIGUEL HERNANDEZ</dc:creator>
  <dc:description/>
  <dc:language>en-US</dc:language>
  <cp:lastModifiedBy>MIGUEL HERNANDEZ</cp:lastModifiedBy>
  <dcterms:modified xsi:type="dcterms:W3CDTF">2010-03-09T22:15:28Z</dcterms:modified>
  <cp:revision>4</cp:revision>
  <dc:subject/>
  <dc:title>Diapositiva 1</dc:title>
</cp:coreProperties>
</file>