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92D-D9CD-478D-A171-FB512490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3D6-ECF6-4C67-9E4E-9AE0C575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A41D-A74C-43F7-AB6E-CE51EDDF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2A5-85C4-435C-A4FF-ECDFBF24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7E5B-9FDC-4441-A4B3-1FB62155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7B38-7120-4458-94E9-C703499B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FFD8-CE7B-4448-B69E-8E56B720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7A0D-B6CB-45AF-A65F-855FDB6D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4D88-46C9-4396-835F-F2CD6E03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3EA4-3579-4D0C-AC53-D615CDA2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110F-1106-4604-AA93-1077D043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FD19-9410-4E2F-8ACE-7CF1043A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2780-D2A6-4DAD-B1E2-8206E6A2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5A07-0F1C-48BF-B014-9B675812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FF6F-A805-4B31-853C-52337917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C41E-7A6D-4391-B2D2-F4E9810B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D716-A011-4AFA-BAD2-5E65D595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FA76E-C0F8-46A8-9C53-7E993482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075CE-4228-4785-A1CF-9172AB35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E68AF-4231-4C36-8D8C-5D349834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068E1-EBDB-4265-B0E1-7C15D9DD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47451-6AFC-4ED0-9100-3D7C8753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EE7D-92AE-409F-9820-6D3C7A2A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AF80A-71B2-4EA5-88BD-312EFD48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48D2E-B156-4A96-ADD4-9FFE695F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D680A-436F-43D5-B416-408967EE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9C1EC3-3534-4119-9AD5-466898A6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84CE8-8ABC-4ED3-8E4A-148A37C6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6DC68-FC48-494B-B2E8-2F3D2014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E6A25-499E-4AF5-9709-A2A612B7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E6DA6-846D-4C1A-8EA9-C601DE30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572FA-F367-45AD-B7AA-F566E45D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4D6E0-3BAD-40B3-9955-830767F9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97A-8986-4822-B5D6-7AAF1973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4DCDB-DDCC-49E0-95D1-F080F6D2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98C27-6BBB-4F96-929E-82A1AF83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E3AAF-4579-42DC-AEDB-BCFFE9C2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D6336-4CEA-4280-BE3A-3E9195AC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41062-B7B4-4467-A2C9-A1BFECC9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9C027-CC1B-4B94-AB40-1023CE6E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818DB-074E-4AA3-8EF1-2EB301B2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239FB-1E10-4F4E-8B65-626BDAB7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92A2B-BA2C-4203-B87B-CD96FED8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6C1F-B174-40B0-8979-8585C7B9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EF5-6AF7-48AF-913D-B4E9D0D0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F24D-D729-4427-AC9C-FBB33BF4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2B9-55EB-428F-9143-BA31D8F2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B084-D2D8-4AD4-A7EB-AB4F2953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DF38-5E72-4647-A258-0D8894BD2FC7}" type="slidenum"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23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24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25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26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40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41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42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43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44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42A0-9D16-4B3C-9046-2067A6344702}" type="slidenum"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7D14-D9F8-47DF-AEFB-25021388FE0A}" type="slidenum"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51E2-710D-44DC-A72E-49496BAC98A7}" type="slidenum"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3 Rectángulo"/>
          <p:cNvGrpSpPr/>
          <p:nvPr/>
        </p:nvGrpSpPr>
        <p:grpSpPr>
          <a:xfrm>
            <a:off x="219240" y="2097000"/>
            <a:ext cx="8766000" cy="3172320"/>
            <a:chOff x="219240" y="2097000"/>
            <a:chExt cx="8766000" cy="3172320"/>
          </a:xfrm>
        </p:grpSpPr>
        <p:pic>
          <p:nvPicPr>
            <p:cNvPr id="215" name="3 Rectángulo" descr=""/>
            <p:cNvPicPr/>
            <p:nvPr/>
          </p:nvPicPr>
          <p:blipFill>
            <a:blip r:embed="rId1"/>
            <a:stretch/>
          </p:blipFill>
          <p:spPr>
            <a:xfrm>
              <a:off x="219240" y="2097000"/>
              <a:ext cx="8766000" cy="314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85840" y="2189160"/>
              <a:ext cx="857232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ff"/>
                  </a:solidFill>
                  <a:latin typeface="Century Gothic"/>
                </a:rPr>
                <a:t>Diseño de métodos de trabajo. Formulación y análisis de los problemas de diseño de métodos. Búsqueda de alternativas, diseño, experimentación, evaluación y especificación de una solución. Evoluciones de la teoría y la práctica empleadas en el diseño de métodos.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17" name="4 CuadroTexto"/>
          <p:cNvSpPr/>
          <p:nvPr/>
        </p:nvSpPr>
        <p:spPr>
          <a:xfrm>
            <a:off x="6643800" y="614376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Miguel Hernández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1 Rectángulo"/>
          <p:cNvSpPr/>
          <p:nvPr/>
        </p:nvSpPr>
        <p:spPr>
          <a:xfrm>
            <a:off x="500040" y="1214280"/>
            <a:ext cx="835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El estudio de métodos tienen sus raíces en la actividad de la administración científica. Federick Taylor mejoro los métodos de trabajo mediante el estudio detallado de movimiento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Otra de las contribuciones de Taylor fue la idea de que un estándar de producción (ejemplo, minutos por pieza) debe establecerse por cada trabaj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·.-Aplicar las interrogantes: por qué, cómo, cuando, dónde, quién, de tal forma que en base a esto nos permita mejorar métodos, procesos, tiempos. Todos esto con el fin de poder brindarle un ahorro a la empresa en muchos aspectos. 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·.-Realizar un estudio y enfocándonos en: el diseño, materiales, tolerancia, procesos y herramientas, y en base a esto podernos plantear la interrogante: cómo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2 CuadroTexto"/>
          <p:cNvSpPr/>
          <p:nvPr/>
        </p:nvSpPr>
        <p:spPr>
          <a:xfrm>
            <a:off x="500040" y="57168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INTRODUCCIÒ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 Rectángulo"/>
          <p:cNvSpPr/>
          <p:nvPr/>
        </p:nvSpPr>
        <p:spPr>
          <a:xfrm>
            <a:off x="214200" y="10414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·.- Estudiar los elementos productivos e improductivos de una operación. 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·.- Dirigir la atención del operario y el diseño del trabajo preguntando </a:t>
            </a:r>
            <a:r>
              <a:rPr b="0" i="1" lang="es-MX" sz="1800" spc="-1" strike="noStrike">
                <a:solidFill>
                  <a:srgbClr val="000000"/>
                </a:solidFill>
                <a:latin typeface="Century Gothic"/>
              </a:rPr>
              <a:t>quién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. 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·.- Realizar un estudio en la distribución de planta preguntando </a:t>
            </a:r>
            <a:r>
              <a:rPr b="0" i="1" lang="es-MX" sz="1800" spc="-1" strike="noStrike">
                <a:solidFill>
                  <a:srgbClr val="000000"/>
                </a:solidFill>
                <a:latin typeface="Century Gothic"/>
              </a:rPr>
              <a:t>dónde.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·.- Realizar arreglos, ya sea: simplificando, eliminando, combinando y arreglando las operaciones. Con el propósito de poder detectar los posibles cambios en cada uno de ellos. Ya sea haciéndolos mas eficientes, productivos, o en su defecto poder eliminar procesos innecesarios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1 Rectángulo"/>
          <p:cNvSpPr/>
          <p:nvPr/>
        </p:nvSpPr>
        <p:spPr>
          <a:xfrm>
            <a:off x="928800" y="1305000"/>
            <a:ext cx="7072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Los diez enfoques del análisis de la operación.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Análisis de la operación.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¿Es posible lograr mejores resultados de otra manera?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¿Se puede eliminar la operación analizada?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¿Se puede combinar con otra?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¿Se puede efectuar durante el tiempo muerto de otra?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¿Es la secuencia de operaciones la mejor posible?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¿Debe realizarse la operación en otro departamento, para ahorrar en costo y manejo?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1 Rectángulo"/>
          <p:cNvSpPr/>
          <p:nvPr/>
        </p:nvSpPr>
        <p:spPr>
          <a:xfrm>
            <a:off x="1071720" y="1166760"/>
            <a:ext cx="7358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Diseño de la pieza. 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a). ¿Se puede simplificar los diseños para reducir el número de partes? 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b). ¿Se pueden reducir el número de operaciones y las distancias recorridas en la fabricación, ensamblando mejor las partes y facilitando el maquinado? 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c). ¿Se pueden utilizar otros materiales mejores?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Tolerancias y especificaciones.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¿Son necesarias la tolerancia, el margen , el acabado y otros requisitos?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¿Son costosas estas especificaciones?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¿Son adecuadas para la pieza?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1 Rectángulo"/>
          <p:cNvSpPr/>
          <p:nvPr/>
        </p:nvSpPr>
        <p:spPr>
          <a:xfrm>
            <a:off x="357120" y="611280"/>
            <a:ext cx="8358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MATERIAL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 .- 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Considerar el tamaño, en uso apropiado y las condiciones y características adecuadas.</a:t>
            </a: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 .- 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¿Puede emplearse material de más bajo costo?</a:t>
            </a: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 .- 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encontrar un material de poco riesgo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 .- 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encontrar materiales que sean más fáciles de procesar.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.- 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usar materiales de manera más económica.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 .-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usar materiales de desecho.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 .- 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estandarizar los materiales.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 .- 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reducción del tiempo dedicado a recoger el material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.-  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usar equipo mecanizado o automático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 .- 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utilizar las instalaciones de manejo de materiales existentes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.-  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manejar los materiales con mas cuidado 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Century Gothic"/>
              </a:rPr>
              <a:t>· .-</a:t>
            </a:r>
            <a:r>
              <a:rPr b="1" lang="es-MX" sz="2200" spc="-1" strike="noStrike">
                <a:solidFill>
                  <a:srgbClr val="000000"/>
                </a:solidFill>
                <a:latin typeface="Century Gothic"/>
              </a:rPr>
              <a:t>considerar la aplicación de códigos de barras par los inventarios y actividades relacionada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1 Rectángulo"/>
          <p:cNvSpPr/>
          <p:nvPr/>
        </p:nvSpPr>
        <p:spPr>
          <a:xfrm>
            <a:off x="285840" y="128592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ONDICIONES DE TRABAJO.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El alumbrado es el correcto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a calefacción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Ventilación de polvos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Bebederos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Cuartos de aseo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Condiciones de seguridad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Diseño y piezas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Trabajo de oficina necesario (para llevar tarjetas de tiempo, etc.)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Probabilidad de retrasos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· </a:t>
            </a: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Cantidades de fabricación probables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2193840" y="1339920"/>
          <a:ext cx="4735440" cy="5175360"/>
        </p:xfrm>
        <a:graphic>
          <a:graphicData uri="http://schemas.openxmlformats.org/drawingml/2006/table">
            <a:tbl>
              <a:tblPr/>
              <a:tblGrid>
                <a:gridCol w="1231920"/>
                <a:gridCol w="3503520"/>
              </a:tblGrid>
              <a:tr h="245880"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perdi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a de eliminar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breprodu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Reducir los tiempos de preparación, sincronizando cantidades y tiempos entre procesos, haciendo sólo lo neces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6800"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p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 lvl="1" marL="743040" indent="-285840"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SzPct val="83000"/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Sincronizar fluj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SzPct val="83000"/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Balancear cargas de trabaj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SzPct val="83000"/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Trabajador flex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2080"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Distribuir las localizaciones para hacer innecesario el manejo / transpor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Racionalizar aquellos que no se pueden elimin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Analizar si todas las operaciones deben de realizarse o pueden eliminarse algunas sin afectar la calidad el producto / servic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en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Acortar los tiempos de preparación, de respuesta y sincronizar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160"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v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Estudiar los movimientos para buscar economía y conciencia. Primero mejorar y luego automatiz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2440"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os defectuo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Desarrollar el proyecto para prevenir defectos, en cada proceso ni hace ni aceptar defec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Hacer los procesos a prueba de to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2 CuadroTexto"/>
          <p:cNvSpPr/>
          <p:nvPr/>
        </p:nvSpPr>
        <p:spPr>
          <a:xfrm>
            <a:off x="1428840" y="84456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PROBLEMAS A ATACAR EN UNA ACTIVIDAD PRODUCTIVA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21:37:12Z</dcterms:created>
  <dc:creator>MIGUEL HERNANDEZ</dc:creator>
  <dc:description/>
  <dc:language>en-US</dc:language>
  <cp:lastModifiedBy>MIGUEL HERNANDEZ</cp:lastModifiedBy>
  <dcterms:modified xsi:type="dcterms:W3CDTF">2010-03-09T22:15:28Z</dcterms:modified>
  <cp:revision>4</cp:revision>
  <dc:subject/>
  <dc:title>Diapositiva 1</dc:title>
</cp:coreProperties>
</file>