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51A-8176-4551-B6FF-41A25802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9A8-9B97-4071-9DDE-C174E3AF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ECF-8659-4CE1-9286-99594149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23B-803F-415A-AE98-761D2953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C1C-ED8F-4E56-8D85-66D0ABC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0CF-FD61-434A-815E-618E4C3A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506-1980-4D25-A91F-47C2174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18F-3F5F-4341-9968-73055398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2FD-2C0E-4696-B9DA-9CCA3D4D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84A-45C6-4190-BC0D-7DDD035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3CE-3312-4FC2-A565-7FECA861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C71-09F6-45A1-950A-4B9094F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238-B0C9-4B89-9707-BA34F3D7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34136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rgonomía entendemos que es la parte de estudio del trabajo que, con la utilización de conocimientos anatómico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ropomét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ógicos, psicológicos, sociológicos y técnico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arrolla métodos para la determinación de los límites que no deben ser superados al llevar a cabo, el hombre, las distintas actividades lab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41000" y="4762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G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6480" y="5465880"/>
            <a:ext cx="79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otras palabras es la adaptación del medio al hombre, es la  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ntífica de la conformación de puestos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503440" cy="25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5120" y="2708280"/>
            <a:ext cx="2505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9760" y="404280"/>
            <a:ext cx="7866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sto ocurre la columna lumbar tiende a borrar su curv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práctica es algo así como esconder la cola. Si hacemos lo contrar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decir, la pelvis se inclina hacia delante,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ver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Figura 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610000" cy="4209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56840" y="3430440"/>
            <a:ext cx="43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revés de lo anterior la columna lum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gera su curvatura, siguiendo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 imagen, es como que sacamos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a hacia atrás. Ambas posicione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as, la posi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isiológica 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ambos extremos (para ev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olio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687840" cy="59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10520" y="35244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COLUMNA 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4520" y="1289160"/>
            <a:ext cx="47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constituye el principal sostén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se halla en la parte posterior y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ismo (Figura 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98760" y="2349360"/>
            <a:ext cx="576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olumna vertebral se asemeja a un edificio de treinta y tres pi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yos sostenes laterales son una grues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 muscular y tendin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la rodea. Normalmente la columna presenta curv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le aumentan su resistencia por una ley física que 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una línea ondulada tiene más resistencia que una línea rec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61760" y="4005360"/>
            <a:ext cx="4403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ha ley se cuantifica con la siguiente fórmu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= N elevado al cuadrado +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donde N es el número de curv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 eso la columna que tiene cuatro curvas tiene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17 veces mayor que si fuera 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uatro elevado al cuadrado es igual a 16 + 1 =1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6280" y="2188440"/>
            <a:ext cx="9133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sac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rva que tiene a la altura de las caderas (cifosis sacr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s como un paréntesis con la concavidad hacia del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lumb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mo ya dijimos, tiene una concavidad hacia atrás (lordosis lumb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torácica o dors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encuentra más arriba, a la altura de la caja torác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a concavidad hacia delante (cifosis torácic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cerv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 último, la zona del cuello o cervical tiene una curva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vidad hacia atrás (lordosis cervic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8800" y="471600"/>
            <a:ext cx="50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curvas de la columna vertebral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360" y="1275120"/>
            <a:ext cx="924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ja torác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una jaula formada por las costillas que la rodean y term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éndose por delante en un hueso llam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rn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se encuentra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 del pecho (Figura 1). En dicha jaula se hallan el corazón y los pul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ncima de la columna cervical se ubic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e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“flota” en el ext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ior de la colum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a cadera y el tórax (caja torácica), la única unión ósea es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umna lumb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llo nos asemejamos a esos restaurantes que giran sobre una columna única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 el peso de la cabeza, cuello, miembros superiores y tórax cae sobr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y a través de ella sobre las cad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de las caderas va hacia la silla por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berosidades isquiát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otra pequeña porción del peso se va por los muslos hasta los p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6640" y="886320"/>
            <a:ext cx="8385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ción de la columna lumba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curvatura lumbar debe ser norm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á determinada, como ya se dijo más arriba, por las caderas en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s tuberosidades isquiá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na y caja torác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columna torácica debe dibujar a la altura del tó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urvatura cuya concavidad da hacia delante y su convexidad hacia atr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bro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hombros forman parte de una cintura que rodea la part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tórax ll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tura escap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sta cintura tiene cuatro hues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vícu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recha e izquierda, y 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ópl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escápulas o palet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detrás esta cintura se completa con músculos y tendones que se unen po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lda a la columna vertebral. Los hombros pueden proyectarse hacia del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o cual el pecho se hunde y la espalda se above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bién puede ocurrir lo contrario, es decir, que los hombros se van hacia atr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o cual el pecho sobresale y las paletillas tienden a unirse por la espal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reiteramos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la posición fisiológica o funcional la que está 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os extre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8280" y="1743480"/>
            <a:ext cx="876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eza y cuel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uello tiene una forma aproximadamente cilíndrica y une la cabeza con el tór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su interior pasan estructuras muy importantes que vinculan la cabeza co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 del cuerpo, vasos sanguíneos que llevan alimento al cerebro y demás órgan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ios que llevan información tanto desde el cerebro hacia el resto del 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ios mot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y también al revé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ios sensori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r ello qu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ción funcional del cuell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uy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uello tiene como sosté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na vertebral cervical que, como ya h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ñalado, debe tener una curvatura con la concavidad hacia atrá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gura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49360"/>
            <a:ext cx="80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DAS CORP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antropometría, 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elementos que entran en consideración para el dimensionamiento de todo lo que utiliza el hombre, y se define como "antropometría" 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"ciencia de la determinación y aplicación de las medidas del cuerpo human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o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 las medidas del cuerpo humano tanto en reposo como en movimiento están determinadas por la longitud de sus huesos, el espesor de las capas musculares y de los tejidos, y de la forma y mecánica de las articulaci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 conformación del puesto de trabajo es importante conocer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es más importantes del cuerpo y la extensión respectiva de las zonas de movimiento de las manos y de los p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osturas naturales, es decir, las posiciones del tronco, de los brazos y de las piernas que no generen esfuerzos estáticos, y los movimientos naturales indispensables en un trabajo efica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s por lo tanto imprescindible que el puesto de trabajo se adapte a las dimensiones del trabaj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247840" cy="6381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692280"/>
            <a:ext cx="46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uerpo humano tiene una estructura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o sostiene llam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queleto ós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gura 1), recubierto de partes blandas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parte s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úscu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os mús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estructuras que al disminuir su long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n una fuerza, son los respon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mov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280" y="3933720"/>
            <a:ext cx="534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poder obtener dichos mov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naturaleza se vale de uniones móv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huesos entre sí, llamad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ul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posiciones articulares que son ide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amad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ciones funcionales o fisiológ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400" y="1774440"/>
            <a:ext cx="4667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s articul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una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izada por el ángulo que fo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sos en sus posiciones extrem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decir la ll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articulación. Por ejemplo, el codo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tope que impide que el brazo se ex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allá de un límite cercano a los 18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l contrario, su flexión máxima e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o menos de 45º. La posición fis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uncional en general está alrededor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 medio entre ambos extr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caso del codo sería algo así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s 90 a 100º (Figura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08360" cy="296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24920" y="3985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ARTIC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8292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1756440"/>
            <a:ext cx="647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ltura de la silla debe ser similar a la altura de la ro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 pie apoyando plenamente en el suelo y la pantor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ndicular al mismo. Con respecto a la silla, los cient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iseñadores no se han puesto de acuerdo, pero está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ga la silla ergonómica, que tiene como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que el asiento tiene una inclinación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bajo y de atrás a adelante, de tal mod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uno se sienta tiende a des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lante. Para evitar ca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 un tope acolchado d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olocan las rodillas (Figura 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1280" y="46980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LLAS PARA GUITAR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848480" cy="603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19600" y="1951200"/>
            <a:ext cx="582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creadores de esta silla ergonómica af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a columna sufre menos pues conserva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curvaturas, mientras que la silla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ría una mala posición de la columna (Figura 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61280" y="4683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LLA 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9400" y="843120"/>
            <a:ext cx="836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ción fisiológica o funcional sin 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descripción de las posiciones fisiológicas se pueden adaptar,  no sol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guitarristas, sino a cualquier actividad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menzaremos por los miembros inferi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iembros inferiores, llamados comúnmen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r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n el lenguaje 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erna es la parte que va desde el pie hasta la rodil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nsta de tres partes: el pie, la pierna y el mus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ie se articula con la pierna por medio del tobil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erna se articula con el muslo por medio de la ro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muslo se articula con la cadera o pelvis por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articulación de la cadera (llamada coxo-femor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5160" y="1404000"/>
            <a:ext cx="8320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mbos pies deben estar plenamente apoyados en el su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ados en forma divergente es decir con una dirección de atrás hacia del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con las puntas ligeramente orientadas hacia fu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pier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ntorrilla) debe esta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 suelo, por lo tanto está tambi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ángulo recto con el p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rodil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mbién debe tener 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ángulo rec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 respecto al mu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 halla orientado de atrás hacia delante y de adentro hacia fu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e ángulo divergente de los muslos permite alojar la guitarra entre ambas pier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er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las caderas o pelvis son huesos muy grandes que se pueden comp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una cuna de dos rueditas, pues tiene unos huesos sobresalientes en la parte de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donde se apoya, son las llamad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berosidades isquiátic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y dos tuberosidades isquiátic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una a cada lado, en el centro de cada nal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la parte posterior de las caderas se halla l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umna vertebral lumb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 se el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ndo una curva cuya concavidad da hacia atrás (lordosis lumba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9560" y="4929120"/>
            <a:ext cx="66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el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una posición funcional o fisiológica espe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ta se apoya plenamente en ambas tuberosidades isquiát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ya se dijo con anterioridad, repartiendo el peso po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gura 5: en esta figura se observa la pelvis vista de cost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lumna lumbar se eleva haciendo una curva y el 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uslo,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ém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a hacia del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38400" cy="387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2774880" cy="374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56680" y="3884760"/>
            <a:ext cx="497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pelvis (o cadera) tiene posibilidades de inclin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ia atrás, lo cual se llam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rovers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Figura 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9:06:33Z</dcterms:created>
  <dc:creator>Coello</dc:creator>
  <dc:description/>
  <dc:language>en-US</dc:language>
  <cp:lastModifiedBy>Coello</cp:lastModifiedBy>
  <dcterms:modified xsi:type="dcterms:W3CDTF">2009-06-10T10:46:26Z</dcterms:modified>
  <cp:revision>8</cp:revision>
  <dc:subject/>
  <dc:title>Diapositiva 1</dc:title>
</cp:coreProperties>
</file>