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4AA9-7BE8-49C0-85CE-F8C67BC6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B2A1-67F9-4AE7-A203-D5EE8EC8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7FCF-8D9B-4781-A616-A539D551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8C10-24A4-46F3-A64C-FDB8B6C6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E1C9-507F-48D1-95A4-DB3CCFD3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C6AF-D3C4-4A4A-8126-D6B6B53F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4F81-9693-4D6E-81CA-8F21AA13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3044-87AC-4915-ACEE-B8B8B50A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0390-ABBB-48C2-8753-E4D9933C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F525-AF14-4566-B074-AF505F45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F700-E9CD-48EF-B121-BF498440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BB11-9A83-4FB9-804A-FCBFD31A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2D16-C48B-4ECE-B963-A734D7E29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341360"/>
            <a:ext cx="81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Ergonomía entendemos que es la parte de estudio del trabajo que, con la utilización de conocimientos anatómicos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ropomét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siológicos, psicológicos, sociológicos y técnico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arrolla métodos para la determinación de los límites que no deben ser superados al llevar a cabo, el hombre, las distintas actividades labo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41000" y="47628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RGONO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6480" y="5465880"/>
            <a:ext cx="798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otras palabras es la adaptación del medio al hombre, es la  determ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entífica de la conformación de puestos de traba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2503440" cy="2581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875120" y="2708280"/>
            <a:ext cx="250524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49760" y="404280"/>
            <a:ext cx="7866360" cy="49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esto ocurre la columna lumbar tiende a borrar su curva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práctica es algo así como esconder la cola. Si hacemos lo contrari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decir, la pelvis se inclina hacia delante, se llam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tevers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Figura 7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6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2610000" cy="4209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056840" y="3430440"/>
            <a:ext cx="4326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revés de lo anterior la columna lum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gera su curvatura, siguiendo con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ma imagen, es como que sacamos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a hacia atrás. Ambas posiciones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rectas, la posición fun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fisiológica es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med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e ambos extremos (para evi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coliosi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3687840" cy="5940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710520" y="352440"/>
            <a:ext cx="31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A COLUMNA VERTEB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64520" y="1289160"/>
            <a:ext cx="474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 constituye el principal sostén del 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se halla en la parte posterior y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 mismo (Figura 8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98760" y="2349360"/>
            <a:ext cx="576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columna vertebral se asemeja a un edificio de treinta y tres pi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yos sostenes laterales son una grues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pa muscular y tendin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 la rodea. Normalmente la columna presenta curvatu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 le aumentan su resistencia por una ley física que d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 una línea ondulada tiene más resistencia que una línea rect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61760" y="4005360"/>
            <a:ext cx="4403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cha ley se cuantifica con la siguiente fórmul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encia = N elevado al cuadrado +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 donde N es el número de curv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 eso la columna que tiene cuatro curvas tiene u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encia 17 veces mayor que si fuera re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uatro elevado al cuadrado es igual a 16 + 1 =17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6280" y="2188440"/>
            <a:ext cx="9133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vatura sacr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rva que tiene a la altura de las caderas (cifosis sacra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es como un paréntesis con la concavidad hacia del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vatura lumb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omo ya dijimos, tiene una concavidad hacia atrás (lordosis lumba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vatura torácica o dors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 encuentra más arriba, a la altura de la caja torácic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 la concavidad hacia delante (cifosis torácic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vatura cervic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r último, la zona del cuello o cervical tiene una curva con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vidad hacia atrás (lordosis cervical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38800" y="471600"/>
            <a:ext cx="502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s curvas de la columna vertebral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360" y="1275120"/>
            <a:ext cx="9245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ja torác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 una jaula formada por las costillas que la rodean y termi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éndose por delante en un hueso llamad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ern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se encuentra en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o del pecho (Figura 1). En dicha jaula se hallan el corazón y los pulm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encima de la columna cervical se ubica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bez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ue “flota” en el ext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ior de la colum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e la cadera y el tórax (caja torácica), la única unión ósea es 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umna lumb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ello nos asemejamos a esos restaurantes que giran sobre una columna única cent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o el peso de la cabeza, cuello, miembros superiores y tórax cae sobr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bar y a través de ella sobre las cad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de las caderas va hacia la silla por l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berosidades isquiátic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otra pequeña porción del peso se va por los muslos hasta los p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96640" y="886320"/>
            <a:ext cx="8385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ción de la columna lumba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 curvatura lumbar debe ser norm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á determinada, como ya se dijo más arriba, por las caderas en equili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bre las tuberosidades isquiátic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umna y caja torácic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 columna torácica debe dibujar a la altura del tór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curvatura cuya concavidad da hacia delante y su convexidad hacia atrá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bro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s hombros forman parte de una cintura que rodea la parte sup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 tórax llamad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ntura escapul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Esta cintura tiene cuatro hues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vícul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recha e izquierda, y d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óplat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 escápulas o paletil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detrás esta cintura se completa con músculos y tendones que se unen por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alda a la columna vertebral. Los hombros pueden proyectarse hacia dela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 lo cual el pecho se hunde y la espalda se above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mbién puede ocurrir lo contrario, es decir, que los hombros se van hacia atrá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 lo cual el pecho sobresale y las paletillas tienden a unirse por la espal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reiteramos q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 la posición fisiológica o funcional la que está 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bos extrem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8280" y="1743480"/>
            <a:ext cx="8763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beza y cuel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uello tiene una forma aproximadamente cilíndrica y une la cabeza con el tóra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su interior pasan estructuras muy importantes que vinculan la cabeza con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 del cuerpo, vasos sanguíneos que llevan alimento al cerebro y demás órgan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rvios que llevan información tanto desde el cerebro hacia el resto del organ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rvios moto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y también al revés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rvios sensoria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por ello que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ción funcional del cuell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muy importa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uello tiene como sostén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umna vertebral cervical que, como ya he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ñalado, debe tener una curvatura con la concavidad hacia atrá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igura 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549360"/>
            <a:ext cx="8064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DIDAS CORPO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a antropometría, 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o de los elementos que entran en consideración para el dimensionamiento de todo lo que utiliza el hombre, y se define como "antropometría" 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a "ciencia de la determinación y aplicación de las medidas del cuerpo humano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cono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ue las medidas del cuerpo humano tanto en reposo como en movimiento están determinadas por la longitud de sus huesos, el espesor de las capas musculares y de los tejidos, y de la forma y mecánica de las articulaci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la conformación del puesto de trabajo es importante conocer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ensiones más importantes del cuerpo y la extensión respectiva de las zonas de movimiento de las manos y de los p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osturas naturales, es decir, las posiciones del tronco, de los brazos y de las piernas que no generen esfuerzos estáticos, y los movimientos naturales indispensables en un trabajo efica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s por lo tanto imprescindible que el puesto de trabajo se adapte a las dimensiones del trabaj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247840" cy="6381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59280" y="692280"/>
            <a:ext cx="4679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uerpo humano tiene una estructura 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lo sostiene llamad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queleto ós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igura 1), recubierto de partes blandas,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parte s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úscul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Los músc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 estructuras que al disminuir su long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n una fuerza, son los respon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os movimien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7280" y="3933720"/>
            <a:ext cx="534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poder obtener dichos mov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naturaleza se vale de uniones móv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os huesos entre sí, llamad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iculaci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en posiciones articulares que son idea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amad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ciones funcionales o fisiológic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836640"/>
            <a:ext cx="77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5400" y="1774440"/>
            <a:ext cx="4667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as articulaci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ene una mov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acterizada por el ángulo que fo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huesos en sus posiciones extrem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decir la llamad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litu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 articulación. Por ejemplo, el codo t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tope que impide que el brazo se ext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ás allá de un límite cercano a los 180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el contrario, su flexión máxima es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co menos de 45º. La posición fis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funcional en general está alrededor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to medio entre ambos extre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l caso del codo sería algo así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os 90 a 100º (Figura 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788000" y="2565360"/>
            <a:ext cx="3708360" cy="2967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24920" y="398520"/>
            <a:ext cx="30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S ARTICUL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382920" cy="5545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057400" y="1756440"/>
            <a:ext cx="6470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altura de la silla debe ser similar a la altura de la rod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 el pie apoyando plenamente en el suelo y la pantorr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pendicular al mismo. Con respecto a la silla, los científ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diseñadores no se han puesto de acuerdo, pero está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ga la silla ergonómica, que tiene como caracter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que el asiento tiene una inclinación de arri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abajo y de atrás a adelante, de tal modo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ndo uno se sienta tiende a desliz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delante. Para evitar ca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y un tope acolchado do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colocan las rodillas (Figura 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1280" y="469800"/>
            <a:ext cx="33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ILLAS PARA GUITAR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4848480" cy="6039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19600" y="1951200"/>
            <a:ext cx="582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creadores de esta silla ergonómica afi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la columna sufre menos pues conserva me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curvaturas, mientras que la silla comú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iría una mala posición de la columna (Figura 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61280" y="46836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ILLA 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39400" y="843120"/>
            <a:ext cx="8369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sición fisiológica o funcional sin guita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 descripción de las posiciones fisiológicas se pueden adaptar,  no sol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los guitarristas, sino a cualquier actividad huma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omenzaremos por los miembros inferio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miembros inferiores, llamados comúnment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iern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en el lenguaje mé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ierna es la parte que va desde el pie hasta la rodill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onsta de tres partes: el pie, la pierna y el mus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pie se articula con la pierna por medio del tobill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ierna se articula con el muslo por medio de la rod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el muslo se articula con la cadera o pelvis por 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a articulación de la cadera (llamada coxo-femoral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25160" y="1404000"/>
            <a:ext cx="83203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ambos pies deben estar plenamente apoyados en el su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entados en forma divergente es decir con una dirección de atrás hacia del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con las puntas ligeramente orientadas hacia fu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 piern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ntorrilla) debe esta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pendicul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 suelo, por lo tanto está tambié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ángulo recto con el p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 rodill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ambién debe tener u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ángulo rec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 respecto al mu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l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 halla orientado de atrás hacia delante y de adentro hacia fu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e ángulo divergente de los muslos permite alojar la guitarra entre ambas piern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der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las caderas o pelvis son huesos muy grandes que se pueden compa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 una cuna de dos rueditas, pues tiene unos huesos sobresalientes en la parte de 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 donde se apoya, son las llamada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berosidades isquiátic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y dos tuberosidades isquiátic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una a cada lado, en el centro de cada nalg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la parte posterior de las caderas se halla l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umna vertebral lumb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que se ele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ando una curva cuya concavidad da hacia atrás (lordosis lumbar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39560" y="4929120"/>
            <a:ext cx="66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pel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ene una posición funcional o fisiológica espe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sta se apoya plenamente en ambas tuberosidades isquiátic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ya se dijo con anterioridad, repartiendo el peso por ig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igura 5: en esta figura se observa la pelvis vista de costad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olumna lumbar se eleva haciendo una curva y el h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 muslo, 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ému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va hacia delan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038400" cy="3876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2774880" cy="374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856680" y="3884760"/>
            <a:ext cx="497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pelvis (o cadera) tiene posibilidades de inclina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cia atrás, lo cual se llam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roversió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Figura 6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09:06:33Z</dcterms:created>
  <dc:creator>Coello</dc:creator>
  <dc:description/>
  <dc:language>en-US</dc:language>
  <cp:lastModifiedBy>Coello</cp:lastModifiedBy>
  <dcterms:modified xsi:type="dcterms:W3CDTF">2009-06-10T10:46:26Z</dcterms:modified>
  <cp:revision>8</cp:revision>
  <dc:subject/>
  <dc:title>Diapositiva 1</dc:title>
</cp:coreProperties>
</file>