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AC3-6E5C-4990-BD2C-8A5AD3D3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5A0-22FE-4DCD-A8C8-CAF9EC3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3DA-46FC-4AF8-83E5-861277A9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427-4507-45CA-85F6-44EAAC87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FE2-0A68-4580-9D26-3DE4EAC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6E0-09F3-48B7-9FB5-9DDBE34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5EB-DE66-4787-906F-333BF48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E8E-E1EF-4CCD-AEC1-4EDBDCBD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583-1D48-4DDD-A727-CD6962C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53F-8896-4427-9D6E-403679C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E36-9A98-4FA4-8772-370E48B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5DF-C10C-4BDD-A423-C9ED55A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9AC7-CA07-4EF6-BC4E-54AFBBE9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liarium.com/Paginas/Prontu/Indices/IndiceWBGT.htm" TargetMode="External"/><Relationship Id="rId2" Type="http://schemas.openxmlformats.org/officeDocument/2006/relationships/hyperlink" Target="http://www.miliarium.com/Paginas/Prontu/Indices/IndiceWBGT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29400" y="1295280"/>
          <a:ext cx="1689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295280"/>
                    <a:ext cx="1689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RGONOM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BERNE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219320"/>
            <a:ext cx="6934320" cy="464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BF4-9EBD-4557-8146-9166E5B4B1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105520" y="1447920"/>
          <a:ext cx="3300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300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Un problema de la parte baja de la espalda se puede presentar de súbito o gradualmente. Se define como agudo si dura un período corto de tiempo, normalmente de unos días a varias semanas. Un problema de la espalda que dura más de 3 meses ya no se define como agu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7913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371600"/>
            <a:ext cx="3581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223-AFFE-4F42-8FB5-57D97AE5BB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muy pocos casos los expertos pueden encontrar la causa exacta de los problemas de la parte baja de la espalda. En la mayoría de los casos, los síntomas se atribuyen a tono muscular deficiente en la espalda, tensión o espasmo muscular, torceduras de la espalda, desgarramientos de los músculos o los ligamentos, o problemas de las coyunturas (articulaciones). A veces los nervios de la médula espinal se irritan debido a un disco "desviado" y esto causa dolor en la nalga o la pierna. También puede causar adormecimiento, hormigueo (picazón), o debilidad en las pi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4792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1F4-5B49-4FD1-A99B-00E316C28A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tienen una mala condición física y trabajan en áreas que requieren esfuerzo físico pesad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pasan períodos prolongados de tiempo sentados o par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ienen mayor riesgo de padecer de problemas de la parte baja de la espalda. La tensión emocional o los largos períodos de inactividad física hacen que los problemas de la espalda parezcan pe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blemas de la parte baja de la espalda frecuentemente son dolorosos. Sin embargo, los pacientes raramente tienen una condición médica grave o problemas serios con los huesos o coyunturas de la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E4C-C250-4578-AD8B-BEFA8A313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s vs.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movimientos y tareas variables mej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creativas, pueden planificar e inv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eden reaccionar ante eventos imprevistos, identificar y escoger op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mejores en la interpretación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nsan, tienen límites y pierden exactit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distraen fáci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inconsistentes y necesitan estím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mbiente los afecta rápi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á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icultad para los movimientos comple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n reacciones program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funciones dentro de límites estrechos y defin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mejores procesando grandes volúm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movimientos muy repetitivos de fuerza y velo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con exactitud tareas repeti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an en ambientes hostiles (tóxicos, radiactivos, temperaturas extremas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EEE-7E0B-45C1-8B21-8827CB5DEA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las personas somos diferentes, tenemos diferentes figuras y tamaños. Unos altos, otros bajitos, unos jóvenes otros mayores, pero a pesar de ello diseñamos la estación de trabajo de “un tamaño para tod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tenemos limitaciones físicas y mentales para muchas condiciones del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tenemos reacciones predecibles, ya que durante nuestra vida hemos aprendido a reaccionar ante ciertas señales. Si las aprovechamos podemos mejorar la estación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AA7-5DD8-4646-AB70-74BA289CC0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248520" y="5435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uma Cumul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0880" y="4724280"/>
            <a:ext cx="20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-Produ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05520" y="36576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6576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un adecuado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208296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uen uso de la Ergonomía en herramientas, equipos y estaciones o puestos de trabajo pu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r lesiones, errores, defect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r cambios de personal y ausent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el manejo conforta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ctitud y satisf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calidad y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inno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E10-89AD-4536-B48A-7F03DCAAA1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 Puesto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ensar sobre la fuerza y debilidad relativa de las personas vs. las máquinas nos puede ayudar a comprender los principios de un buen diseño erg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67652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304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69F-4C81-4B99-8C9A-673F91CD9A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sión Físic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gas excesivas, movimientos repetitivos, gran duración de las tareas y posturas inadecuadas pueden causar problemas al trabaj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sión Ment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obrecarga, la presión de tiempo, o el grado de dificultad del trabajo, pueden producir tensión en cuanto a capacidades mentales (estré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747-52E1-47DF-8126-A2C55427E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l Trauma Acumulativ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EL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índrome de Cuello Tenso. Tensión por posición corp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PALD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fermedad degenerativa de los discos. Discos herniados. Síndrome de Espalda Mecánica. Torcedura de ligamentos. Tensión mus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D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picondilitis. Síndrome del Túnel Ra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endonitis. Síndrome del Túnel Carpiano. Síndrome del Túnel Guy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OMBR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índrome de Obstrucción de la Salida Torácica. Tendonitis del Manguito Ro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D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uritis Digital. Dedo en gatillo. Enfermedad DeQuerv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178-D9C6-4347-8545-2AE787AB91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os y Muñe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ndonitis: Soga sobre po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índrome del Túnel Carpiano: Manguera de jardín m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 DE RIESG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V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et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ir o más su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ir 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iseñar tareas, equip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mantener muñec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osición “neutr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ión Directa sobre palma 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diseño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ma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br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islar 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í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r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D7C-0BF7-4419-ABE4-DF87BC641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rgonomí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étodo de análisis de diseño de las herramientas, del equipo y del ambiente, la distribución de la estación de trabajo y la organización general d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eta: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Ajustar el trabajo a la persona y no la persona a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umas Acumulativos (TAs)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siones sutiles que pueden afectar los músculos, tendones y nervios en las coyunturas del cuerpo, especialmente en manos, muñecas, codos, hombros, cuello, rodillas y espal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37160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DF0-7BD9-4306-8395-AFC3D891D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zos y Homb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ños similares a los de las muñe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ti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úmero de movimientos diarios del 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rz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tidad de esfuerzo del 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ur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 grado al que se alzan los brazos y los codos 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levan a la posición alejada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335-DFD4-49F1-B6D6-1416052D15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Espal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úmero de movimientos de la espalda por cada d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rz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peso de la carga que se levanta, se empuja o se h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grado a que se dobla o tuerce la espal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g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maño, estabilidad, agarre, bordes filosos,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baladi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rizontal entre la carga y el trabajador y vertical a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lza, distancia que se mu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ío, calor, esfuerzo en la postura, pisos, obstácul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maño, fuerza, flexibilidad y capacidad física de la perso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cnicas para levantar objetos, hábitos de trabajo y 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B2A-A3FB-468E-9D43-4CBD872F1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 Cu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ur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ello dob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jorar la altura del área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s de trabajo en 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ortunidades para cambiar de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eas vari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ebles aju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51460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FAE-44EA-4B98-B7ED-4D99993C15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a de indicadores “rápidos” de posibles problemas en el trabaj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ciendo 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os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as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bros muy altos/Muy 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o de alcance in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con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za busc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eras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ia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endo la ci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ie o 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e dejes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281304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BCE-55D2-42DD-B914-9520CBEAC7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PROGRAMA ERGONO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MENTOS DEL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CIÓN: Responsabilidades, Política, Equipo Humano de Ergonomía, Motivación del empl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IESTRAMIENTO: Para la Gerencia, los ingenieros, el Equipo de Ergonomía, especialistas y empleados. Sobre Principios de Ergonomía, métodos de trabajo y el Trauma Acumul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UNICACIONES: Con los empleados y dentr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R LOS RIESGOS DEL TRABAJO: Evaluaciones del trabajo, cuestionarios y encuestas, análisis de los datos del pers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A00-E5AD-4C18-98BD-2E92261DD0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 contin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MENTOS DEL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REALIZAR MEJORAS AL TRABAJO: A corto plazo, desarrollo del equipo a largo plazo, análisis y estudio en grupo, sistema de segu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CION MEDICA: Detección temprana, evaluación sistemática y referidos, tratamiento conservador y segu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CION DEL PROGRESO: Tendencias de lesiones y enfermedades, bitácora ergonómica, estudios especiales, revisión administra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: Verificación con Hojas de Cotejo de Análisis Ergonómico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0A0-7573-4CA3-AA11-2F99063315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ropometría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de las dimensiones físicas del cuerpo humano, al aplicar instrumentos de medición con el propósito de establecer estándares para el diseño de divers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cán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la estructura del cuerpo y sus mov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iologí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la vida y las funciones orgánicas del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561-ACE0-49FB-BB14-7E4BA3EA3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 DE IN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ímites para el trabajo humano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Trabajo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calorías/minut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vantamiento de Carga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18.4 kilogramos para hombres y 9.07 kilogramos para mujeres. (O.I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ímites Ambient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uid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85 dB (A) 8 horas/día - 40 horas/semana (ACGI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merican Conference of Governmental Industrial Hygienist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peratur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7.5 índice WBGT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(Wet Bulb Globe Thermometer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://www.miliarium.com/Paginas/Prontu/Indices/IndiceWBG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lumin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500 lux (óptimo 750) en industria tex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12536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1BE-82F2-4703-A1CB-D5A83B939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560" y="489960"/>
            <a:ext cx="869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l índice WBGT (Wet Bulb Globe Thermometer)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va a utilizar para estable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ándo una situación presenta riesgos de estrés térmico. A su vez, tambi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yuda a tomar decisiones acerca de las medidas preventivas necesaria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liar tales situ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enominación WBGT proviene de que en su cálculo van a ser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valores de la temperatura húmeda, temperatura seca y temperatu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obo, medidas respectivamente medi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mómetro de bulbo húmedo (Wet Thermomete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mómetro de bulbo seco (Bulb Thermo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un termómetro de globo (Globe Thermome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resiones que se utilizan para calcular el índice WBGT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724280"/>
          <a:ext cx="4017960" cy="1400040"/>
        </p:xfrm>
        <a:graphic>
          <a:graphicData uri="http://schemas.openxmlformats.org/drawingml/2006/table">
            <a:tbl>
              <a:tblPr/>
              <a:tblGrid>
                <a:gridCol w="401796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GT = 0,7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3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ºC) (sin exposición 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GT = 0,7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2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1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ºC) (con exposición 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854240" y="4723200"/>
            <a:ext cx="402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: temperatura húmeda (º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g: temperatura de globo (º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: temperatura seca del aire (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8C8-F606-4180-9568-D4DAE528E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6560" y="187560"/>
            <a:ext cx="820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hallado el WBGT, se acude a una gráfic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estra una curva con valores del índice en función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or metabólico del individuo (M), que no debe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pasada para no encontrarse éste ante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iesgo de estrés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tanto, esta gráfica representa el valor máximo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alcanzar el WBGT según el valor que tome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321080" cy="3448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" y="6165720"/>
            <a:ext cx="88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os valores límite pueden variar ligeramente si la persona no está aclima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 si la velocidad del aire no es 0 y el consumo metabólico es al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4EE-1AD1-4515-8DBB-D1EABF0C3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81480" y="2819520"/>
          <a:ext cx="31244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31244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i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ESPALD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uln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umas Acumul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los 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espalda no so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 de un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, aunque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usa de la les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16C-6D8E-4298-B68C-79D112F3F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410080" y="2133720"/>
          <a:ext cx="3248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133720"/>
                    <a:ext cx="3248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esta de huesos primarios (Vérteb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das por discos flex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 largo del centro corren los nervi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spina do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iscos proveen acojinamiento 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vértebras, para doblarnos y torc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llo si lo hacemos mal o mucho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ga los discos pueden desgast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los años los discos se achic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urecen y ra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débiles se inflaman, tensan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ern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C40-A9DA-4EA9-A77F-3A226B88D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59400" y="304920"/>
          <a:ext cx="34434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9400" y="304920"/>
                    <a:ext cx="34434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cervical, que se ocupa de los movimientos y sostén d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dorsal que con las costillas forman el tór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lumbar, que es él segmento final y por lo tanto el que soporta mayor peso; de ahí que las lesiones en esta zona sean especialmente frecu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5943600"/>
            <a:ext cx="3733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0560" y="175248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971800"/>
            <a:ext cx="88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r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3434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mb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8000" y="55627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0292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1814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1752480"/>
            <a:ext cx="609480" cy="457200"/>
          </a:xfrm>
          <a:custGeom>
            <a:avLst/>
            <a:gdLst>
              <a:gd name="textAreaLeft" fmla="*/ 38952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150"/>
                </a:lnTo>
                <a:cubicBezTo>
                  <a:pt x="10800" y="9150"/>
                  <a:pt x="5400" y="9150"/>
                  <a:pt x="0" y="9150"/>
                </a:cubicBezTo>
                <a:cubicBezTo>
                  <a:pt x="5400" y="9150"/>
                  <a:pt x="10800" y="9150"/>
                  <a:pt x="10800" y="91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28600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03848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167-5F76-48F4-81E5-041483E95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8T15:56:42Z</dcterms:created>
  <dc:creator>Lic. Rolando Hidalgo Vásquez</dc:creator>
  <dc:description/>
  <dc:language>en-US</dc:language>
  <cp:lastModifiedBy>Estudiantes</cp:lastModifiedBy>
  <cp:lastPrinted>1998-02-19T14:45:18Z</cp:lastPrinted>
  <dcterms:modified xsi:type="dcterms:W3CDTF">2009-06-11T15:43:57Z</dcterms:modified>
  <cp:revision>61</cp:revision>
  <dc:subject/>
  <dc:title>ERGONOMIA</dc:title>
</cp:coreProperties>
</file>