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0E1-E289-4FD7-832F-FD29BB03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A1D-45F5-47AA-ABFF-7913285A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4FB-D2E3-43DF-BC1E-CA328280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BC0-9F0E-4D9F-8B41-3BDE3213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976-3944-4C34-8929-D6F0EE61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942-E5D7-4960-9577-CB15E5FE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ECD-4BD6-4469-88A4-366769BB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4BC-3B19-4668-B7AC-54B8E45E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C5E-4924-47E4-8F83-2FF89DFE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4AB-0791-4AB7-B47D-863146BC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9AF-57A0-463B-A843-7D2BBBE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60F-4115-403E-9FD9-87BBBCA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39CC-CDF2-4FFB-B89E-373F34C6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liarium.com/Paginas/Prontu/Indices/IndiceWBGT.htm" TargetMode="External"/><Relationship Id="rId2" Type="http://schemas.openxmlformats.org/officeDocument/2006/relationships/hyperlink" Target="http://www.miliarium.com/Paginas/Prontu/Indices/IndiceWBGT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29400" y="1295280"/>
          <a:ext cx="1689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295280"/>
                    <a:ext cx="1689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ERGONOM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BERNE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219320"/>
            <a:ext cx="6934320" cy="4647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B8A-7164-46D9-91FD-BD1ADD3DF9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105520" y="1447920"/>
          <a:ext cx="33001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33001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Un problema de la parte baja de la espalda se puede presentar de súbito o gradualmente. Se define como agudo si dura un período corto de tiempo, normalmente de unos días a varias semanas. Un problema de la espalda que dura más de 3 meses ya no se define como agu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ESPA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7913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1371600"/>
            <a:ext cx="3581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FD7-604C-4A1A-83CD-B1C545B9AD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s de 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muy pocos casos los expertos pueden encontrar la causa exacta de los problemas de la parte baja de la espalda. En la mayoría de los casos, los síntomas se atribuyen a tono muscular deficiente en la espalda, tensión o espasmo muscular, torceduras de la espalda, desgarramientos de los músculos o los ligamentos, o problemas de las coyunturas (articulaciones). A veces los nervios de la médula espinal se irritan debido a un disco "desviado" y esto causa dolor en la nalga o la pierna. También puede causar adormecimiento, hormigueo (picazón), o debilidad en las pi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44792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12B-E57C-4AC2-BBB2-517EBE1FB4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tienen una mala condición física y trabajan en áreas que requieren esfuerzo físico pesado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 pasan períodos prolongados de tiempo sentados o par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ienen mayor riesgo de padecer de problemas de la parte baja de la espalda. La tensión emocional o los largos períodos de inactividad física hacen que los problemas de la espalda parezcan pe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blemas de la parte baja de la espalda frecuentemente son dolorosos. Sin embargo, los pacientes raramente tienen una condición médica grave o problemas serios con los huesos o coyunturas de la espal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00D-94F1-4316-9722-32A360708E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s vs.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movimientos y tareas variables mej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creativas, pueden planificar e inven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eden reaccionar ante eventos imprevistos, identificar y escoger op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mejores en la interpretación de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ansan, tienen límites y pierden exactit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distraen fáci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inconsistentes y necesitan estím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mbiente los afecta rápid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á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icultad para los movimientos comple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tan reacciones program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n funciones dentro de límites estrechos y defin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mejores procesando grandes volúm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n movimientos muy repetitivos de fuerza y velo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n con exactitud tareas repeti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bajan en ambientes hostiles (tóxicos, radiactivos, temperaturas extremas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00B-05B1-4DC7-BBAB-6837933E0F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s las personas somos diferentes, tenemos diferentes figuras y tamaños. Unos altos, otros bajitos, unos jóvenes otros mayores, pero a pesar de ello diseñamos la estación de trabajo de “un tamaño para tod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tenemos limitaciones físicas y mentales para muchas condiciones del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tenemos reacciones predecibles, ya que durante nuestra vida hemos aprendido a reaccionar ante ciertas señales. Si las aprovechamos podemos mejorar la estación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676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54C-FF2E-4AAC-9D30-47FB69BCFE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248520" y="5435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uma Cumul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0880" y="4724280"/>
            <a:ext cx="20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dad-Produ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05520" y="365760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65760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1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un adecuado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2082960"/>
            <a:ext cx="792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uen uso de la Ergonomía en herramientas, equipos y estaciones o puestos de trabajo pue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r lesiones, errores, defect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r cambios de personal y ausent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el manejo conforta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ctitud y satisf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calidad y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inno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209-41C6-4D80-A834-D26ACF4B3B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 Puesto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ensar sobre la fuerza y debilidad relativa de las personas vs. las máquinas nos puede ayudar a comprender los principios de un buen diseño ergonó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67652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35304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7CF-AC19-4977-AC15-4407808749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sión Físic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gas excesivas, movimientos repetitivos, gran duración de las tareas y posturas inadecuadas pueden causar problemas al trabaj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sión Menta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sobrecarga, la presión de tiempo, o el grado de dificultad del trabajo, pueden producir tensión en cuanto a capacidades mentales (estré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01C-2D65-4526-AD6F-C0EA21B249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l Trauma Acumulativ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ELL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índrome de Cuello Tenso. Tensión por posición corp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PALD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fermedad degenerativa de los discos. Discos herniados. Síndrome de Espalda Mecánica. Torcedura de ligamentos. Tensión mus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D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picondilitis. Síndrome del Túnel Rad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NOS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endonitis. Síndrome del Túnel Carpiano. Síndrome del Túnel Guy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OMBR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índrome de Obstrucción de la Salida Torácica. Tendonitis del Manguito Ro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DOS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euritis Digital. Dedo en gatillo. Enfermedad DeQuerv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D50-D38C-4700-89B9-9E50F53790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os y Muñe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ndonitis: Soga sobre po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índrome del Túnel Carpiano: Manguera de jardín m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TOR DE RIESG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V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peti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ducir o más su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erz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ducir fu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diseñar tareas, equip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mantener muñec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osición “neutr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ión Directa sobre palma d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r diseño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ma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br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islar 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í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veer c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8CC-26AB-4039-897F-801FDD47EC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rgonomía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étodo de análisis de diseño de las herramientas, del equipo y del ambiente, la distribución de la estación de trabajo y la organización general del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eta: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Ajustar el trabajo a la persona y no la persona a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umas Acumulativos (TAs)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esiones sutiles que pueden afectar los músculos, tendones y nervios en las coyunturas del cuerpo, especialmente en manos, muñecas, codos, hombros, cuello, rodillas y espal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37160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B00-39DE-421B-9AE4-0920525855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zos y Homb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ños similares a los de las muñe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ES DE RIES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ti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úmero de movimientos diarios del b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rz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tidad de esfuerzo del b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ur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 grado al que se alzan los brazos y los codos cu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llevan a la posición alejada del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FC9-9C2E-4554-A2BB-5E51DC2E6C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Espald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ES DE RIES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ti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úmero de movimientos de la espalda por cada d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rz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 peso de la carga que se levanta, se empuja o se h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 grado a que se dobla o tuerce la espal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g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maño, estabilidad, agarre, bordes filosos,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baladi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i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rizontal entre la carga y el trabajador y vertical a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lza, distancia que se mu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ien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ío, calor, esfuerzo en la postura, pisos, obstácul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maño, fuerza, flexibilidad y capacidad física de la person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cnicas para levantar objetos, hábitos de trabajo y de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18A-B1F6-43A0-98D8-FDC183950C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 Cu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ES DE RIES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ur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ello dob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jorar la altura del área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s de trabajo en á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ortunidades para cambiar de 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eas vari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ebles ajus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2514600" cy="25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97C-BBB4-4968-AF46-EBFCF6B99F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Puest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a de indicadores “rápidos” de posibles problemas en el trabaj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ciendo 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os Af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as vib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bros muy altos/Muy ba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o de alcance in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 de con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eza busc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eras af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ia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endo la cin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ie o s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e dejes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2813040" cy="30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8EB-0BFD-46E3-8322-6F276B22DE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PROGRAMA ERGONO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MENTOS DEL 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CIÓN: Responsabilidades, Política, Equipo Humano de Ergonomía, Motivación del empl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IESTRAMIENTO: Para la Gerencia, los ingenieros, el Equipo de Ergonomía, especialistas y empleados. Sobre Principios de Ergonomía, métodos de trabajo y el Trauma Acumul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UNICACIONES: Con los empleados y dentro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R LOS RIESGOS DEL TRABAJO: Evaluaciones del trabajo, cuestionarios y encuestas, análisis de los datos del pers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A60-FFCF-4819-B09B-98A98CE8F0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 contin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MENTOS DEL 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REALIZAR MEJORAS AL TRABAJO: A corto plazo, desarrollo del equipo a largo plazo, análisis y estudio en grupo, sistema de segu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CION MEDICA: Detección temprana, evaluación sistemática y referidos, tratamiento conservador y segu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ICACION DEL PROGRESO: Tendencias de lesiones y enfermedades, bitácora ergonómica, estudios especiales, revisión administrat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: Verificación con Hojas de Cotejo de Análisis Ergonómico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F4B-83DA-4F5D-BBAD-43585141E0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ropometría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encia que estudia de las dimensiones físicas del cuerpo humano, al aplicar instrumentos de medición con el propósito de establecer estándares para el diseño de diverso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cánic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encia que estudia la estructura del cuerpo y sus mov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iologí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encia que estudia la vida y las funciones orgánicas del ser hu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42F-FFE9-4B7E-B654-09FC3CC339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OS DE IN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ímites para el trabajo humano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Trabajo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Kcalorías/minut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vantamiento de Carga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18.4 kilogramos para hombres y 9.07 kilogramos para mujeres. (O.I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ímites Ambient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uid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85 dB (A) 8 horas/día - 40 horas/semana (ACGI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American Conference of Governmental Industrial Hygienist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mperatur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7.5 índice WBGT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(Wet Bulb Globe Thermometer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_tradnl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://www.miliarium.com/Paginas/Prontu/Indices/IndiceWBGT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luminación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gt; 500 lux (óptimo 750) en industria tex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12536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3A6-D3B5-48C7-A897-4C9EB2B27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560" y="489960"/>
            <a:ext cx="869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El índice WBGT (Wet Bulb Globe Thermometer)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se va a utilizar para estable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ándo una situación presenta riesgos de estrés térmico. A su vez, tambi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yuda a tomar decisiones acerca de las medidas preventivas necesaria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liar tales situ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enominación WBGT proviene de que en su cálculo van a ser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valores de la temperatura húmeda, temperatura seca y temperatur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obo, medidas respectivamente medi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termómetro de bulbo húmedo (Wet Thermometer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termómetro de bulbo seco (Bulb Thermom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un termómetro de globo (Globe Thermome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expresiones que se utilizan para calcular el índice WBGT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724280"/>
          <a:ext cx="4017960" cy="1400040"/>
        </p:xfrm>
        <a:graphic>
          <a:graphicData uri="http://schemas.openxmlformats.org/drawingml/2006/table">
            <a:tbl>
              <a:tblPr/>
              <a:tblGrid>
                <a:gridCol w="401796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GT = 0,7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0,3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ºC) (sin exposición 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GT = 0,7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0,2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0,1 · T</a:t>
                      </a:r>
                      <a:r>
                        <a:rPr b="1" lang="es-ES_tradnl" sz="20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ºC) (con exposición 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4854240" y="4723200"/>
            <a:ext cx="402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: temperatura húmeda (º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g: temperatura de globo (º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: temperatura seca del aire (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EF3-B65D-4213-A317-994816FBE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6560" y="187560"/>
            <a:ext cx="820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 hallado el WBGT, se acude a una gráfica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estra una curva con valores del índice en función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or metabólico del individuo (M), que no debe 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epasada para no encontrarse éste ante un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riesgo de estrés tér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tanto, esta gráfica representa el valor máximo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 alcanzar el WBGT según el valor que tome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321080" cy="3448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" y="6165720"/>
            <a:ext cx="88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os valores límite pueden variar ligeramente si la persona no está aclima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 si la velocidad del aire no es 0 y el consumo metabólico es al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DA5-B783-4036-B206-A634FEF72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81480" y="2819520"/>
          <a:ext cx="312444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19520"/>
                    <a:ext cx="312444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i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ESPALD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uln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umas Acumul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mente los d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espalda no son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do de un s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o, aunque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usa de la les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2AF-8BB5-4693-85B7-38D15352FE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410080" y="2133720"/>
          <a:ext cx="32482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133720"/>
                    <a:ext cx="3248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ESPA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esta de huesos primarios (Vérteb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das por discos flex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 largo del centro corren los nervi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spina dor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discos proveen acojinamiento 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vértebras, para doblarnos y torc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llo si lo hacemos mal o mucho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ga los discos pueden desgast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los años los discos se achic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urecen y ra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 débiles se inflaman, tensan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hern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470-4441-4EE1-A48A-29D37521F7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59400" y="304920"/>
          <a:ext cx="34434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59400" y="304920"/>
                    <a:ext cx="34434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lumna cervical, que se ocupa de los movimientos y sostén del cu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lumna dorsal que con las costillas forman el tór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lumna lumbar, que es él segmento final y por lo tanto el que soporta mayor peso; de ahí que las lesiones en esta zona sean especialmente frecu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ESPAL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5943600"/>
            <a:ext cx="3733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0560" y="175248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érteb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v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971800"/>
            <a:ext cx="88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érteb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r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434340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érteb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mb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8000" y="55627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502920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c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1814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1752480"/>
            <a:ext cx="609480" cy="457200"/>
          </a:xfrm>
          <a:custGeom>
            <a:avLst/>
            <a:gdLst>
              <a:gd name="textAreaLeft" fmla="*/ 38952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150"/>
                </a:lnTo>
                <a:cubicBezTo>
                  <a:pt x="10800" y="9150"/>
                  <a:pt x="5400" y="9150"/>
                  <a:pt x="0" y="9150"/>
                </a:cubicBezTo>
                <a:cubicBezTo>
                  <a:pt x="5400" y="9150"/>
                  <a:pt x="10800" y="9150"/>
                  <a:pt x="10800" y="91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28600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038480"/>
            <a:ext cx="380880" cy="990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F77-2B83-4A3F-B2C7-AF064F5B48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8T15:56:42Z</dcterms:created>
  <dc:creator>Lic. Rolando Hidalgo Vásquez</dc:creator>
  <dc:description/>
  <dc:language>en-US</dc:language>
  <cp:lastModifiedBy>Estudiantes</cp:lastModifiedBy>
  <cp:lastPrinted>1998-02-19T14:45:18Z</cp:lastPrinted>
  <dcterms:modified xsi:type="dcterms:W3CDTF">2009-06-11T15:43:57Z</dcterms:modified>
  <cp:revision>61</cp:revision>
  <dc:subject/>
  <dc:title>ERGONOMIA</dc:title>
</cp:coreProperties>
</file>