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12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71E8D-F4D9-4C25-9B2C-068BA8421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F9929-39C5-466B-B258-83B3DD60D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B218A-8068-4A5A-9F46-50FA3F9E7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8C567-6ECE-45BD-9A6C-E37876A5C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5A20F-EDF9-48DF-A1CE-56E7BEC80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C85CE-C902-4DFC-A6E9-6282079EC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565B5-BFAB-4CDF-A6F2-3DEDCA88E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DAD77-40D1-49A6-86DA-4B236DCDE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1716B-128E-4F08-95B7-8F44703D1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D0197-0D60-48B0-9D03-5039AF22F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DB3E0-B407-4E17-BC4F-2FD070928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0874B-4B16-44D7-AC9B-A309499B1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D9590-C29C-4AF1-AC97-6D16D8523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42B55-1EA4-4868-B341-C6A7ABB42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3ACE0-07DC-47AC-9625-94FAAFBC2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971E0-8D73-4658-8C1B-76D250AC3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4EC2E-4665-40D3-96D8-691129B3A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93D34-E814-4289-A762-27232E093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C6291-9426-40CE-B976-86A5D16AB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5EFB3-9771-441D-AA66-39CD43240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A43E8-9A7D-4F8B-AD01-3FBEFBA7D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3F0C2-FC7F-475A-9B70-9CE6564FB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40F44-F3DB-4103-B576-476793DD3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57BCF-A0C8-47B4-8420-B28343207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2A79F-E9F6-46DE-9854-EB790BD8A0E4}" type="slidenum">
              <a:rPr b="0" lang="en-US" sz="14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FB1A4-9A9E-438C-9E69-7204A8478471}" type="slidenum">
              <a:rPr b="0" lang="en-US" sz="14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133360" y="1986840"/>
            <a:ext cx="64767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66"/>
                </a:solidFill>
                <a:latin typeface="Arial"/>
              </a:rPr>
              <a:t>MEDICION DEL TRABAJ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133360" y="6063840"/>
            <a:ext cx="6476760" cy="63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66"/>
                </a:solidFill>
                <a:latin typeface="Arial"/>
              </a:rPr>
              <a:t>ELABORADO POR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66"/>
                </a:solidFill>
                <a:latin typeface="Arial"/>
              </a:rPr>
              <a:t>YANEIDA RAMIRE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829520" y="90360"/>
            <a:ext cx="5465880" cy="9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66"/>
                </a:solidFill>
                <a:latin typeface="Arial"/>
              </a:rPr>
              <a:t>UNEXPO ANTONIO JOSE DE SUCRE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66"/>
                </a:solidFill>
                <a:latin typeface="Arial"/>
              </a:rPr>
              <a:t>DIRECCION DE INVESTIGACION Y POSTGRADO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66"/>
                </a:solidFill>
                <a:latin typeface="Arial"/>
              </a:rPr>
              <a:t>CATEDRA: ERGONOMIA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2573280" y="2895480"/>
            <a:ext cx="3218040" cy="36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66"/>
                </a:solidFill>
                <a:latin typeface="Arial"/>
              </a:rPr>
              <a:t>Técnicas de tiempos predeterminados, ventajas e inconveni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560" y="2057400"/>
            <a:ext cx="4800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just">
              <a:lnSpc>
                <a:spcPct val="100000"/>
              </a:lnSpc>
              <a:spcBef>
                <a:spcPts val="4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66"/>
                </a:solidFill>
                <a:latin typeface="Arial"/>
              </a:rPr>
              <a:t>Permite un análisis minucioso del méto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00000"/>
              </a:lnSpc>
              <a:spcBef>
                <a:spcPts val="4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66"/>
                </a:solidFill>
                <a:latin typeface="Arial"/>
              </a:rPr>
              <a:t>* Es un método apropiado y competitivo para obtener tiempos estánd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00000"/>
              </a:lnSpc>
              <a:spcBef>
                <a:spcPts val="4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66"/>
                </a:solidFill>
                <a:latin typeface="Arial"/>
              </a:rPr>
              <a:t>* No se necesita reloj para ejecutar el méto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00000"/>
              </a:lnSpc>
              <a:spcBef>
                <a:spcPts val="4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66"/>
                </a:solidFill>
                <a:latin typeface="Arial"/>
              </a:rPr>
              <a:t>* Elimina la necesidad de calificar el desempeñ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00000"/>
              </a:lnSpc>
              <a:spcBef>
                <a:spcPts val="4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66"/>
                </a:solidFill>
                <a:latin typeface="Arial"/>
              </a:rPr>
              <a:t>* Permite estimar el tiempo normal de una operación aún sin que esta exista todaví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00000"/>
              </a:lnSpc>
              <a:spcBef>
                <a:spcPts val="4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66"/>
                </a:solidFill>
                <a:latin typeface="Arial"/>
              </a:rPr>
              <a:t>* Obliga a enfrentarse con mejoras continuas y constan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00000"/>
              </a:lnSpc>
              <a:spcBef>
                <a:spcPts val="4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66"/>
                </a:solidFill>
                <a:latin typeface="Arial"/>
              </a:rPr>
              <a:t>* Forza a llevar un regist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83400" y="1600200"/>
            <a:ext cx="139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66"/>
                </a:solidFill>
                <a:latin typeface="Arial"/>
              </a:rPr>
              <a:t>VENTAJAS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5410080" y="2666880"/>
            <a:ext cx="3733920" cy="248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66"/>
                </a:solidFill>
                <a:latin typeface="Arial"/>
              </a:rPr>
              <a:t>Técnicas de tiempos predeterminados, ventajas e inconveni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560" y="2057400"/>
            <a:ext cx="4800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4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66"/>
                </a:solidFill>
                <a:latin typeface="Arial"/>
              </a:rPr>
              <a:t>Este sistema no es común para todas las empres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4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66"/>
                </a:solidFill>
                <a:latin typeface="Arial"/>
              </a:rPr>
              <a:t>Se utiliza en más de doce sistemas diferen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4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66"/>
                </a:solidFill>
                <a:latin typeface="Arial"/>
              </a:rPr>
              <a:t>Para lograr el mayor porcentaje de credibilidad en necesaria la práctica continu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4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66"/>
                </a:solidFill>
                <a:latin typeface="Arial"/>
              </a:rPr>
              <a:t>Sólo se seleccionan a jóvenes para realizar este méto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83760" y="1600200"/>
            <a:ext cx="186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66"/>
                </a:solidFill>
                <a:latin typeface="Arial"/>
              </a:rPr>
              <a:t>DESVENTAJAS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5943600" y="2238480"/>
            <a:ext cx="2381400" cy="23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5181480" y="2133720"/>
            <a:ext cx="3314880" cy="211428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3240" y="2971800"/>
            <a:ext cx="47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66"/>
                </a:solidFill>
                <a:latin typeface="Arial"/>
              </a:rPr>
              <a:t>GRACIAS POR SU ATENCIÓN!!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66"/>
                </a:solidFill>
                <a:latin typeface="Arial"/>
              </a:rPr>
              <a:t>MEDICION DEL TRABAJ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46483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6666"/>
                </a:solidFill>
                <a:latin typeface="Arial"/>
              </a:rPr>
              <a:t>Consiste en una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escripción sistemática y cuidadosa de la tarea o puesto de trabajo</a:t>
            </a:r>
            <a:r>
              <a:rPr b="1" lang="es-ES" sz="1800" spc="-1" strike="noStrike">
                <a:solidFill>
                  <a:srgbClr val="336666"/>
                </a:solidFill>
                <a:latin typeface="Arial"/>
              </a:rPr>
              <a:t>, para lo que se utilizan observaciones y entrevistas, a fin de obtener la información necesari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6666"/>
                </a:solidFill>
                <a:latin typeface="Arial"/>
              </a:rPr>
              <a:t>En algunos casos,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e necesitan instrumentos simples de medición</a:t>
            </a:r>
            <a:r>
              <a:rPr b="1" lang="es-ES" sz="1800" spc="-1" strike="noStrike">
                <a:solidFill>
                  <a:srgbClr val="336666"/>
                </a:solidFill>
                <a:latin typeface="Arial"/>
              </a:rPr>
              <a:t>, como puede ser un luxómetro para la iluminación, un sonómetro para el ruido, un termómetro para el ambiente térmico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05520" y="2090880"/>
            <a:ext cx="3733560" cy="262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3880" y="724320"/>
            <a:ext cx="70106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66"/>
                </a:solidFill>
                <a:latin typeface="Arial"/>
              </a:rPr>
              <a:t>VARIABLES A MED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6320" y="1752480"/>
            <a:ext cx="449568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66"/>
                </a:solidFill>
                <a:latin typeface="Arial"/>
              </a:rPr>
              <a:t>PUESTO DE TRABAJ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66"/>
                </a:solidFill>
                <a:latin typeface="Arial"/>
              </a:rPr>
              <a:t>ACTIVIDAD FISICA GENE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66"/>
                </a:solidFill>
                <a:latin typeface="Arial"/>
              </a:rPr>
              <a:t>LEVANTAMIENTO DE CARG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66"/>
                </a:solidFill>
                <a:latin typeface="Arial"/>
              </a:rPr>
              <a:t>POSTURA DE TRABAJO Y MOVIMIEN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66"/>
                </a:solidFill>
                <a:latin typeface="Arial"/>
              </a:rPr>
              <a:t>RIESGO DE ACCIDE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66"/>
                </a:solidFill>
                <a:latin typeface="Arial"/>
              </a:rPr>
              <a:t>CONTENIDO DEL TRABAJ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66"/>
                </a:solidFill>
                <a:latin typeface="Arial"/>
              </a:rPr>
              <a:t>AUTONOM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0" y="2008080"/>
            <a:ext cx="4029120" cy="401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3880" y="724320"/>
            <a:ext cx="70106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66"/>
                </a:solidFill>
                <a:latin typeface="Arial"/>
              </a:rPr>
              <a:t>VARIABLES A MED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320" y="1752120"/>
            <a:ext cx="44956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66"/>
                </a:solidFill>
                <a:latin typeface="Arial"/>
              </a:rPr>
              <a:t>COMUNICACIÓN DEL TRABAJADOR Y CONTACTOS PERSON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66"/>
                </a:solidFill>
                <a:latin typeface="Arial"/>
              </a:rPr>
              <a:t>TOMA DE DECIS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66"/>
                </a:solidFill>
                <a:latin typeface="Arial"/>
              </a:rPr>
              <a:t>REPETITIVIDAD DEL TRABAJ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66"/>
                </a:solidFill>
                <a:latin typeface="Arial"/>
              </a:rPr>
              <a:t>ATENC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66"/>
                </a:solidFill>
                <a:latin typeface="Arial"/>
              </a:rPr>
              <a:t>ILUMINAC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66"/>
                </a:solidFill>
                <a:latin typeface="Arial"/>
              </a:rPr>
              <a:t>AMBIENTE TERM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66"/>
                </a:solidFill>
                <a:latin typeface="Arial"/>
              </a:rPr>
              <a:t>RUI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572000" y="2008080"/>
            <a:ext cx="4029120" cy="401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66"/>
                </a:solidFill>
                <a:latin typeface="Arial"/>
              </a:rPr>
              <a:t>Medición de tiempos por cronometraje directo y por VTR con análisis en computadora; programas computacional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638680" y="1905120"/>
            <a:ext cx="16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63600" indent="-36360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6666"/>
                </a:solidFill>
                <a:latin typeface="Arial"/>
              </a:rPr>
              <a:t>Winowas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525320" y="1828800"/>
            <a:ext cx="125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63600" indent="-36360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6666"/>
                </a:solidFill>
                <a:latin typeface="Arial"/>
              </a:rPr>
              <a:t>Niosh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376200" y="2438280"/>
            <a:ext cx="3890880" cy="35416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4495680" y="2438280"/>
            <a:ext cx="4572000" cy="350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66"/>
                </a:solidFill>
                <a:latin typeface="Arial"/>
              </a:rPr>
              <a:t>Muestreo del trabaj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4572000" y="3048120"/>
            <a:ext cx="4572000" cy="128088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213480" y="1879560"/>
            <a:ext cx="11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66"/>
                </a:solidFill>
                <a:latin typeface="Arial"/>
              </a:rPr>
              <a:t>Donde: 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89080" y="2286000"/>
            <a:ext cx="4282920" cy="40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lnSpc>
                <a:spcPct val="130000"/>
              </a:lnSpc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6666"/>
                </a:solidFill>
                <a:latin typeface="Arial"/>
              </a:rPr>
              <a:t>TE: tiempo empleado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 marL="262080" indent="-262080">
              <a:lnSpc>
                <a:spcPct val="130000"/>
              </a:lnSpc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6666"/>
                </a:solidFill>
                <a:latin typeface="Arial"/>
              </a:rPr>
              <a:t>Tp: tiempo tipo por pieza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 marL="262080" indent="-262080">
              <a:lnSpc>
                <a:spcPct val="130000"/>
              </a:lnSpc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6666"/>
                </a:solidFill>
                <a:latin typeface="Arial"/>
              </a:rPr>
              <a:t>p: % medio que el operario esta trabajando determinado por muestreo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 marL="262080" indent="-262080">
              <a:lnSpc>
                <a:spcPct val="130000"/>
              </a:lnSpc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6666"/>
                </a:solidFill>
                <a:latin typeface="Arial"/>
              </a:rPr>
              <a:t>(TE x p). Se define como TR.(FR): factor de ritmo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 marL="262080" indent="-262080">
              <a:lnSpc>
                <a:spcPct val="130000"/>
              </a:lnSpc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6666"/>
                </a:solidFill>
                <a:latin typeface="Arial"/>
              </a:rPr>
              <a:t>K: suplemento de descanso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 marL="262080" indent="-262080">
              <a:lnSpc>
                <a:spcPct val="130000"/>
              </a:lnSpc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6666"/>
                </a:solidFill>
                <a:latin typeface="Arial"/>
              </a:rPr>
              <a:t>n: numero de piezas q contiene el lote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66"/>
                </a:solidFill>
                <a:latin typeface="Arial"/>
              </a:rPr>
              <a:t>Técnicas de tiempos predeterminados, ventajas e inconveni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4648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6666"/>
                </a:solidFill>
                <a:latin typeface="Arial"/>
              </a:rPr>
              <a:t>Se basan en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analizar los movimientos elementales</a:t>
            </a:r>
            <a:r>
              <a:rPr b="1" lang="es-ES" sz="1600" spc="-1" strike="noStrike">
                <a:solidFill>
                  <a:srgbClr val="336666"/>
                </a:solidFill>
                <a:latin typeface="Arial"/>
              </a:rPr>
              <a:t> que constituyen el ciclo a medir, cuyos valores tipo aparecen en tablas, en función de su nivel de actuación.</a:t>
            </a:r>
            <a:br>
              <a:rPr sz="1600"/>
            </a:br>
            <a:r>
              <a:rPr b="1" lang="es-ES" sz="1600" spc="-1" strike="noStrike">
                <a:solidFill>
                  <a:srgbClr val="336666"/>
                </a:solidFill>
                <a:latin typeface="Arial"/>
              </a:rPr>
              <a:t>Los diversos elementos en que se ha descompuesto la tarea no son otra cosa que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micromovimientos similares a los therbligs y medidos en la unidad de tiempo denominada UMT</a:t>
            </a:r>
            <a:r>
              <a:rPr b="1" lang="es-ES" sz="1600" spc="-1" strike="noStrike">
                <a:solidFill>
                  <a:srgbClr val="336666"/>
                </a:solidFill>
                <a:latin typeface="Arial"/>
              </a:rPr>
              <a:t> (Unidad de medida de Tiempos), cuyo valor es: </a:t>
            </a:r>
            <a:br>
              <a:rPr sz="1600"/>
            </a:br>
            <a:r>
              <a:rPr b="1" lang="es-ES" sz="1600" spc="-1" strike="noStrike">
                <a:solidFill>
                  <a:srgbClr val="336666"/>
                </a:solidFill>
                <a:latin typeface="Arial"/>
              </a:rPr>
              <a:t>1UMT = 0.00001 hora = 1/1000.000 hora</a:t>
            </a:r>
            <a:br>
              <a:rPr sz="1600"/>
            </a:br>
            <a:r>
              <a:rPr b="1" lang="es-ES" sz="1600" spc="-1" strike="noStrike">
                <a:solidFill>
                  <a:srgbClr val="336666"/>
                </a:solidFill>
                <a:latin typeface="Arial"/>
              </a:rPr>
              <a:t>                                          =   0.0006 minut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4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6666"/>
                </a:solidFill>
                <a:latin typeface="Arial"/>
              </a:rPr>
              <a:t>                                          </a:t>
            </a:r>
            <a:r>
              <a:rPr b="1" lang="es-ES" sz="1600" spc="-1" strike="noStrike">
                <a:solidFill>
                  <a:srgbClr val="336666"/>
                </a:solidFill>
                <a:latin typeface="Arial"/>
              </a:rPr>
              <a:t>=   0.036 seg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5410080" y="1447920"/>
            <a:ext cx="3467160" cy="47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66"/>
                </a:solidFill>
                <a:latin typeface="Arial"/>
              </a:rPr>
              <a:t>Técnicas de tiempos predeterminados, ventajas e inconveni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28240" y="2514600"/>
            <a:ext cx="4724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40000"/>
              </a:lnSpc>
              <a:spcBef>
                <a:spcPts val="4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escomponer la tarea</a:t>
            </a:r>
            <a:r>
              <a:rPr b="1" lang="es-ES" sz="1800" spc="-1" strike="noStrike">
                <a:solidFill>
                  <a:srgbClr val="336666"/>
                </a:solidFill>
                <a:latin typeface="Arial"/>
              </a:rPr>
              <a:t> en sus micromovimientos elemental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40000"/>
              </a:lnSpc>
              <a:spcBef>
                <a:spcPts val="4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Valorar cada micromovimiento</a:t>
            </a:r>
            <a:r>
              <a:rPr b="1" lang="es-ES" sz="1800" spc="-1" strike="noStrike">
                <a:solidFill>
                  <a:srgbClr val="336666"/>
                </a:solidFill>
                <a:latin typeface="Arial"/>
              </a:rPr>
              <a:t> utilizando las tablas correspondient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40000"/>
              </a:lnSpc>
              <a:spcBef>
                <a:spcPts val="4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eterminar el tiempo tipo de la tarea por la suma de los tiempos elementales,</a:t>
            </a:r>
            <a:r>
              <a:rPr b="1" lang="es-ES" sz="1800" spc="-1" strike="noStrike">
                <a:solidFill>
                  <a:srgbClr val="336666"/>
                </a:solidFill>
                <a:latin typeface="Arial"/>
              </a:rPr>
              <a:t> deducidos de las tablas, de los diversos micromovimientos que constituyen el trabajo estudia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52280" y="172728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66"/>
                </a:solidFill>
                <a:latin typeface="Arial"/>
              </a:rPr>
              <a:t>El proceso seguido por este sistema para calcular valores tipo, es el siguiente: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5257800" y="2971800"/>
            <a:ext cx="3733920" cy="21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66"/>
                </a:solidFill>
                <a:latin typeface="Arial"/>
              </a:rPr>
              <a:t>Técnicas de tiempos predeterminados, ventajas e inconveni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28600" y="2437920"/>
            <a:ext cx="50292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60000"/>
              </a:lnSpc>
              <a:spcBef>
                <a:spcPts val="4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66"/>
                </a:solidFill>
                <a:latin typeface="Arial"/>
              </a:rPr>
              <a:t>MTM. (METHODS TIME MEASUREMEN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4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66"/>
                </a:solidFill>
                <a:latin typeface="Arial"/>
              </a:rPr>
              <a:t>MTA. (MOTION TIME ANALYSI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4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66"/>
                </a:solidFill>
                <a:latin typeface="Arial"/>
              </a:rPr>
              <a:t>WORK FA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4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66"/>
                </a:solidFill>
                <a:latin typeface="Arial"/>
              </a:rPr>
              <a:t>BMT. (BASIC MOTION TIMESTUD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4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66"/>
                </a:solidFill>
                <a:latin typeface="Arial"/>
              </a:rPr>
              <a:t>DMT (DIMENSIONAL NIOTION TIM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50200" y="1828800"/>
            <a:ext cx="623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66"/>
                </a:solidFill>
                <a:latin typeface="Arial"/>
              </a:rPr>
              <a:t>Entre los sistemas mas conocidos se encuentran: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5867280" y="2590920"/>
            <a:ext cx="280044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6T14:54:55Z</dcterms:created>
  <dc:creator>Gerencia de Sistemas</dc:creator>
  <dc:description/>
  <dc:language>en-US</dc:language>
  <cp:lastModifiedBy>Gerencia de Sistemas</cp:lastModifiedBy>
  <dcterms:modified xsi:type="dcterms:W3CDTF">2010-03-16T20:12:57Z</dcterms:modified>
  <cp:revision>17</cp:revision>
  <dc:subject/>
  <dc:title>MEDICION DEL TRABAJO</dc:title>
</cp:coreProperties>
</file>