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979-BF1E-41CD-A6DB-5B698D18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6AE-8C47-45FB-A9B2-457C3936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F0A-82E6-4463-9C6A-BD5F910E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EFE-655D-47B3-BB42-272C9C1B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4FE-212C-4ECC-AA3C-D76B07A7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E396-845D-48D0-A175-4DA707E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F1CA-016E-4A97-8172-271065B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E3F-306F-4C33-B5FE-3050CCFE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7118-5940-4768-BBE9-33E6592E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CA4-8557-465F-A24B-CABB79FE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C81E-08A3-473E-AF0C-8E96C57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06E-7C29-46F5-8A9E-79077E9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6913-20E3-4555-A741-027F4EB5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A9C-1BC2-45AC-95E2-C1CC64C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24F2-C824-4E38-8911-E069C82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22D-39B7-43EE-8400-A3501986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7C7-AA0F-4B20-8050-BAD7844D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675-677B-4209-8D91-04D1B1D9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F93-E8AB-48F7-82BF-D0FE9A2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806-A7B4-442B-9141-604E24C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544-84AF-4D2B-9AB1-A9ECD596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E72-F940-4FD9-8F4C-35E8DE0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B25-0B60-4622-950E-C960AC7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2D6-DD48-41C2-A3BF-BDDE989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1A6-CFBC-4862-92FE-A557833D2F2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70C-40BC-4DA7-AAE8-2A06CEB1245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986840"/>
            <a:ext cx="6476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MEDICION D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063840"/>
            <a:ext cx="647676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ELABORADO P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YANEIDA RAMI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9520" y="90360"/>
            <a:ext cx="54658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UNEXPO ANTONIO JOSE DE SUCR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IRECCION DE INVESTIGACION Y POSTGR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ATEDRA: ERGONOM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73280" y="2895480"/>
            <a:ext cx="3218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ermite un análisis minucioso del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Es un método apropiado y competitivo para obtener tiempos está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No se necesita reloj para ejecutar el mé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Elimina la necesidad de calificar el desemp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Permite estimar el tiempo normal de una operación aún sin que esta exista todav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Obliga a enfrentarse con mejoras continuas y cons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* Forza a llevar un regi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3400" y="16002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37339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Este sistema no es común para todas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Se utiliza en más de doce sistema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ara lograr el mayor porcentaje de credibilidad en necesaria la práctica 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Sólo se seleccionan a jóvenes para realizar este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760" y="16002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43600" y="22384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314880" cy="2114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" y="297180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GRACIAS POR SU ATENCIÓN!!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EDICION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Consiste en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ripción sistemática y cuidadosa de la tarea o puesto de trabajo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, para lo que se utilizan observaciones y entrevistas, a fin de obtener la información neces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En algunos caso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necesitan instrumentos simples de medición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, como puede ser un luxómetro para la iluminación, un sonómetro para el ruido, un termómetro para el ambiente térmic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5520" y="2090880"/>
            <a:ext cx="373356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24320"/>
            <a:ext cx="7010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VARIABLES A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UEST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CTIVIDAD FISIC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LEVANTAMIENTO DE C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OSTURA DE TRABAJO Y MOV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IESGO DE ACCI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NTENIDO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40291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24320"/>
            <a:ext cx="7010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VARIABLES A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MUNICACIÓN DEL TRABAJADOR Y CONTAC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EPETITIVIDAD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TEN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LUMIN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AMBIENTE TE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R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40291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edición de tiempos por cronometraje directo y por VTR con análisis en computadora; programas computaci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9051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Winow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5320" y="1828800"/>
            <a:ext cx="12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Niosh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6200" y="2438280"/>
            <a:ext cx="3890880" cy="354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57200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uestreo del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128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3480" y="1879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nde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2286000"/>
            <a:ext cx="42829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TE: tiempo emplead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Tp: tiempo tipo por piez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p: % medio que el operario esta trabajando determinado por muestre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(TE x p). Se define como TR.(FR): factor de ritm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K: suplemento de descans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262080" indent="-262080">
              <a:lnSpc>
                <a:spcPct val="130000"/>
              </a:lnSpc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Arial"/>
              </a:rPr>
              <a:t>n: numero de piezas q contiene el lot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Se basan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alizar los movimientos elementales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que constituyen el ciclo a medir, cuyos valores tipo aparecen en tablas, en función de su nivel de actuación.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Los diversos elementos en que se ha descompuesto la tarea no son otra cosa qu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cromovimientos similares a los therbligs y medidos en la unidad de tiempo denominada UMT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(Unidad de medida de Tiempos), cuyo valor es: 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1UMT = 0.00001 hora = 1/1000.000 hora</a:t>
            </a:r>
            <a:br>
              <a:rPr sz="1600"/>
            </a:b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                                         =   0.0006 min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                                          </a:t>
            </a:r>
            <a:r>
              <a:rPr b="1" lang="es-ES" sz="1600" spc="-1" strike="noStrike">
                <a:solidFill>
                  <a:srgbClr val="336666"/>
                </a:solidFill>
                <a:latin typeface="Arial"/>
              </a:rPr>
              <a:t>=   0.036 se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671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omponer la tarea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en sus micromovimientos elemen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ar cada micromovimiento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utilizando las tablas correspond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el tiempo tipo de la tarea por la suma de los tiempos elementales,</a:t>
            </a:r>
            <a:r>
              <a:rPr b="1" lang="es-ES" sz="1800" spc="-1" strike="noStrike">
                <a:solidFill>
                  <a:srgbClr val="336666"/>
                </a:solidFill>
                <a:latin typeface="Arial"/>
              </a:rPr>
              <a:t> deducidos de las tablas, de los diversos micromovimientos que constituyen el trabajo estud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727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El proceso seguido por este sistema para calcular valores tipo, es el siguiente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733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écnicas de tiempos predeterminados, ventajas e 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5029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MTM. (METHODS TIME MEASU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MTA. (MOTION TIME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WORK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BMT. (BASIC MOTION TIME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MT (DIMENSIONAL NIOTION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200" y="182880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Entre los sistemas mas conocidos se encuentran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00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4:54:55Z</dcterms:created>
  <dc:creator>Gerencia de Sistemas</dc:creator>
  <dc:description/>
  <dc:language>en-US</dc:language>
  <cp:lastModifiedBy>Gerencia de Sistemas</cp:lastModifiedBy>
  <dcterms:modified xsi:type="dcterms:W3CDTF">2010-03-16T20:12:57Z</dcterms:modified>
  <cp:revision>17</cp:revision>
  <dc:subject/>
  <dc:title>MEDICION DEL TRABAJO</dc:title>
</cp:coreProperties>
</file>