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2.png" ContentType="image/png"/>
  <Override PartName="/ppt/media/image3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601200" y="24300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Centro Nacional de Metrología, CEN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5"/>
          </p:nvPr>
        </p:nvSpPr>
        <p:spPr>
          <a:xfrm>
            <a:off x="2924280" y="243000"/>
            <a:ext cx="34416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División de Tiempo y Frecuenc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34720" y="688680"/>
            <a:ext cx="459108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1" i="1" lang="en-US" sz="20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2935080" y="85726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F4DF-6C55-4AF1-BEB5-353041F50E39}" type="slidenum">
              <a:rPr b="1" lang="es-ES_tradnl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77960" y="8561520"/>
            <a:ext cx="532908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36699"/>
                </a:solidFill>
                <a:latin typeface="Comic Sans MS"/>
              </a:rPr>
              <a:t>Curso de metrología de tiempo y frecuencia / INTI / FEB-2008</a:t>
            </a:r>
            <a:endParaRPr b="0" lang="en-US" sz="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2935080" y="85726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A1B6-5EDE-4EE8-9FB4-09EFB34E4446}" type="slidenum">
              <a:rPr b="1" lang="es-ES_tradnl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01200" y="24300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Centro Nacional de Metrología, CEN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924280" y="243000"/>
            <a:ext cx="34416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División de Tiempo y Frecuenc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2935080" y="85726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6413-766C-4845-8CF3-EA330CDDAD03}" type="slidenum">
              <a:rPr b="1" lang="es-ES_tradnl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01200" y="24300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Centro Nacional de Metrología, CEN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924280" y="243000"/>
            <a:ext cx="34416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División de Tiempo y Frecuenc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omic Sans MS"/>
              </a:rPr>
              <a:t>Análisis de Mediciones de Tiempo y Frecuencia, AMTyF, es la herramienta de computo desarrollada por la división de Tiempo y Frecuencia del CENAM que tiene como propósito que el metrólogo pueda realizar análisis de mediciones de tiempo y frecuencia con mayor rapidez al mismo tiempo que minimiza la posibilidad de errores humanos.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808080"/>
                </a:solidFill>
                <a:latin typeface="Comic Sans MS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2935080" y="85726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593A-E7B4-4FAC-B88D-4461B0E4064B}" type="slidenum">
              <a:rPr b="1" lang="es-ES_tradnl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01200" y="24300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Centro Nacional de Metrología, CEN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2924280" y="243000"/>
            <a:ext cx="34416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División de Tiempo y Frecuenc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935080" y="85726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CC2C-C13C-48DD-9877-81C2A9F15073}" type="slidenum">
              <a:rPr b="1" lang="es-ES_tradnl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01200" y="24300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Centro Nacional de Metrología, CEN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2924280" y="243000"/>
            <a:ext cx="34416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División de Tiempo y Frecuenc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2935080" y="85726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227D-BF13-4F3F-87A9-4DA6D592F0D0}" type="slidenum">
              <a:rPr b="1" lang="es-ES_tradnl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01200" y="24300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Centro Nacional de Metrología, CEN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2924280" y="243000"/>
            <a:ext cx="34416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División de Tiempo y Frecuenc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2935080" y="85726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8506-5A15-4049-A2C5-624A02A04A41}" type="slidenum">
              <a:rPr b="1" lang="es-ES_tradnl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01200" y="24300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Centro Nacional de Metrología, CEN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2924280" y="243000"/>
            <a:ext cx="34416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División de Tiempo y Frecuenc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08080"/>
                </a:solidFill>
                <a:latin typeface="Comic Sans MS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2935080" y="85726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F442-BA4F-4768-84C7-23311081992B}" type="slidenum">
              <a:rPr b="1" lang="es-ES_tradnl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01200" y="24300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Centro Nacional de Metrología, CEN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2924280" y="243000"/>
            <a:ext cx="34416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División de Tiempo y Frecuenc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2935080" y="85726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A3B9-A0B7-419B-8916-0A77A578BA2E}" type="slidenum">
              <a:rPr b="1" lang="es-ES_tradnl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01200" y="24300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Centro Nacional de Metrología, CEN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2924280" y="243000"/>
            <a:ext cx="34416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División de Tiempo y Frecuenc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2935080" y="85726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0FE5-8377-4A22-9B49-AF61ED90596E}" type="slidenum">
              <a:rPr b="1" lang="es-ES_tradnl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01200" y="24300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Centro Nacional de Metrología, CEN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2924280" y="243000"/>
            <a:ext cx="34416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División de Tiempo y Frecuenc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08080"/>
                </a:solidFill>
                <a:latin typeface="Comic Sans MS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2935080" y="85726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8788-060C-4714-87D7-7166AE9E839F}" type="slidenum">
              <a:rPr b="1" lang="es-ES_tradnl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601200" y="24300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Centro Nacional de Metrología, CEN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2924280" y="243000"/>
            <a:ext cx="34416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División de Tiempo y Frecuenc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omic Sans MS"/>
              </a:rPr>
              <a:t>AMTyF está diseñado para que pueda analizar archivos de datos con más de 100 mil mediciones, generando gráficos, reportes y archivos de datos que para su análisis, almacenamiento e impresión requieren de ciertas características en su sistema.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808080"/>
                </a:solidFill>
                <a:latin typeface="Comic Sans MS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r>
              <a:rPr b="0" lang="es-ES_tradnl" sz="1200" spc="-1" strike="noStrike">
                <a:solidFill>
                  <a:srgbClr val="808080"/>
                </a:solidFill>
                <a:latin typeface="Comic Sans MS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08080"/>
                </a:solidFill>
                <a:latin typeface="Comic Sans MS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08080"/>
                </a:solidFill>
                <a:latin typeface="Comic Sans MS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08080"/>
                </a:solidFill>
                <a:latin typeface="Comic Sans MS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08080"/>
                </a:solidFill>
                <a:latin typeface="Comic Sans MS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2935080" y="85726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04E7-9D7D-4EC9-8DD1-9CCC839595DA}" type="slidenum">
              <a:rPr b="1" lang="es-ES_tradnl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01200" y="24300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Centro Nacional de Metrología, CEN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2924280" y="243000"/>
            <a:ext cx="34416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División de Tiempo y Frecuenc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2935080" y="85726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7287-1914-45C9-A7F0-75368A385278}" type="slidenum">
              <a:rPr b="1" lang="es-ES_tradnl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01200" y="24300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Centro Nacional de Metrología, CEN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924280" y="243000"/>
            <a:ext cx="34416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División de Tiempo y Frecuenc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omic Sans MS"/>
              </a:rPr>
              <a:t>El análisis de las mediciones de Tiempo y Frecuencia requieren de procesos que en la práctica son muy difíciles de realizar de forma manual, se requieren herramientas computacionales para ahorrar tiempo de análisis y minimizar errores humanos.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808080"/>
                </a:solidFill>
                <a:latin typeface="Comic Sans MS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08080"/>
                </a:solidFill>
                <a:latin typeface="Comic Sans MS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2935080" y="85726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CE75-5422-4611-8E70-52DBC5CDEEDD}" type="slidenum">
              <a:rPr b="1" lang="es-ES_tradnl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01200" y="24300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Centro Nacional de Metrología, CEN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924280" y="243000"/>
            <a:ext cx="34416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División de Tiempo y Frecuenc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omic Sans MS"/>
              </a:rPr>
              <a:t>Análisis de Mediciones de Tiempo y Frecuencia, AMTyF, es la herramienta de computo desarrollada por la división de Tiempo y Frecuencia del CENAM que tiene como propósito que el metrólogo pueda realizar análisis de mediciones de tiempo y frecuencia con mayor rapidez al mismo tiempo que minimiza la posibilidad de errores humanos.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808080"/>
                </a:solidFill>
                <a:latin typeface="Comic Sans MS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3920" y="796680"/>
            <a:ext cx="8380440" cy="47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4620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69576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83920" y="796680"/>
            <a:ext cx="8380440" cy="47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4620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52000" y="154620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69576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52000" y="369576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83920" y="796680"/>
            <a:ext cx="8380440" cy="47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54620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90760" y="154620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24680" y="154620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69576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90760" y="369576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24680" y="369576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3BC698-9DFE-4411-ACBF-859B8C3F36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83920" y="796680"/>
            <a:ext cx="8380440" cy="47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6840" y="1546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EF6C4C-1CB6-4493-A60C-8D06826EB3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83920" y="796680"/>
            <a:ext cx="8380440" cy="47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46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50F85-70FB-45DF-A7DF-5EFD0799DE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83920" y="796680"/>
            <a:ext cx="8380440" cy="47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4620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52000" y="154620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D0D2EA-BE82-43E5-97DF-7D38AF0721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83920" y="796680"/>
            <a:ext cx="8380440" cy="47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0CDCD-1441-4F60-AC76-17ABCB3A17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583920" y="796680"/>
            <a:ext cx="83804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61137B-71E3-48F3-9AAF-FF47B03662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3920" y="796680"/>
            <a:ext cx="8380440" cy="47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4620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52000" y="154620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6840" y="369576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8C3C5B-167F-4A8D-AFCB-35D30F22F2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83920" y="796680"/>
            <a:ext cx="8380440" cy="47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546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83920" y="796680"/>
            <a:ext cx="8380440" cy="47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4620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52000" y="154620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752000" y="369576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851058-DB46-4E08-B86E-0DE3C5DE27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83920" y="796680"/>
            <a:ext cx="8380440" cy="47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4620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52000" y="154620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69576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F038A-BF6D-4023-A878-FD1EC8DA1FB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83920" y="796680"/>
            <a:ext cx="8380440" cy="47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4620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6840" y="369576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ED0EA1-677D-4A7B-BC57-9AB1024461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83920" y="796680"/>
            <a:ext cx="8380440" cy="47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4620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2000" y="154620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6840" y="369576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752000" y="369576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DD8A40-CAA5-4E3C-A2BD-6E4D1D11E84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83920" y="796680"/>
            <a:ext cx="8380440" cy="47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4620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0760" y="154620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4680" y="154620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6840" y="369576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0760" y="369576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124680" y="369576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DB2C6-777D-4C3F-AC27-EC51E414A5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3920" y="796680"/>
            <a:ext cx="8380440" cy="47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46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83920" y="796680"/>
            <a:ext cx="8380440" cy="47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4620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54620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83920" y="796680"/>
            <a:ext cx="8380440" cy="47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83920" y="796680"/>
            <a:ext cx="83804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3920" y="796680"/>
            <a:ext cx="8380440" cy="47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4620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2000" y="154620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69576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3920" y="796680"/>
            <a:ext cx="8380440" cy="47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4620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2000" y="154620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52000" y="369576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83920" y="796680"/>
            <a:ext cx="8380440" cy="47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4620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2000" y="154620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69576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8763120" cy="1526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8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83920" y="796680"/>
            <a:ext cx="8380440" cy="47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546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98240" indent="-498240">
              <a:spcBef>
                <a:spcPts val="799"/>
              </a:spcBef>
              <a:buClr>
                <a:srgbClr val="6699ff"/>
              </a:buClr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1" marL="893880" indent="-282960">
              <a:spcBef>
                <a:spcPts val="799"/>
              </a:spcBef>
              <a:buClr>
                <a:srgbClr val="6699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2" marL="1308960" indent="-301320">
              <a:spcBef>
                <a:spcPts val="799"/>
              </a:spcBef>
              <a:buClr>
                <a:srgbClr val="6699ff"/>
              </a:buClr>
              <a:buSzPct val="80000"/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3" marL="1648440" indent="-226080">
              <a:spcBef>
                <a:spcPts val="799"/>
              </a:spcBef>
              <a:buClr>
                <a:srgbClr val="6699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4" marL="2148120" indent="-337680">
              <a:spcBef>
                <a:spcPts val="799"/>
              </a:spcBef>
              <a:buClr>
                <a:srgbClr val="6699ff"/>
              </a:buClr>
              <a:buSzPct val="80000"/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5" marL="2148120" indent="-337680">
              <a:spcBef>
                <a:spcPts val="799"/>
              </a:spcBef>
              <a:buClr>
                <a:srgbClr val="336699"/>
              </a:buClr>
              <a:buSzPct val="80000"/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6" marL="2148120" indent="-337680">
              <a:spcBef>
                <a:spcPts val="799"/>
              </a:spcBef>
              <a:buClr>
                <a:srgbClr val="336699"/>
              </a:buClr>
              <a:buSzPct val="80000"/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964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9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3300"/>
                </a:solidFill>
                <a:latin typeface="Arial"/>
              </a:rPr>
              <a:t>Curso de metrología de tiempo y frecuencia / INTI / FEB-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292360" y="6381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000" spc="-1" strike="noStrike">
                <a:solidFill>
                  <a:srgbClr val="0033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3300"/>
                </a:solidFill>
                <a:latin typeface="Comic Sans MS"/>
              </a:rPr>
              <a:t>Sistema Interamericano de Metrología, S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77080" y="6427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ED78-8191-4CF5-BB4E-D5ECC2CFA675}" type="slidenum">
              <a:rPr b="0" lang="es-ES_tradnl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68360" y="1189080"/>
            <a:ext cx="8675640" cy="15228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172360" y="476280"/>
            <a:ext cx="743040" cy="65736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250920" y="6477120"/>
            <a:ext cx="342720" cy="3808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12640" y="44280"/>
            <a:ext cx="83804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996633"/>
                </a:solidFill>
                <a:latin typeface="Arial"/>
              </a:rPr>
              <a:t>Software AMTyF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765000"/>
            <a:ext cx="9142560" cy="339840"/>
          </a:xfrm>
          <a:prstGeom prst="rect">
            <a:avLst/>
          </a:prstGeom>
          <a:gradFill rotWithShape="0">
            <a:gsLst>
              <a:gs pos="0">
                <a:srgbClr val="99cc00">
                  <a:alpha val="50196"/>
                </a:srgbClr>
              </a:gs>
              <a:gs pos="100000">
                <a:srgbClr val="ffff99"/>
              </a:gs>
            </a:gsLst>
            <a:lin ang="81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5440" y="3492360"/>
            <a:ext cx="4038480" cy="1526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32000" y="1371240"/>
            <a:ext cx="67039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3"/>
          </p:nvPr>
        </p:nvSpPr>
        <p:spPr>
          <a:xfrm>
            <a:off x="323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3300"/>
                </a:solidFill>
                <a:latin typeface="Arial"/>
              </a:rPr>
              <a:t>Centro Nacional de Metrología, CEN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6830640" y="6408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00"/>
                </a:solidFill>
                <a:latin typeface="Times New Roman"/>
              </a:rPr>
              <a:t>1-</a:t>
            </a:r>
            <a:fld id="{6A7179E0-E9C8-452E-A7A8-DA362977377E}" type="slidenum">
              <a:rPr b="0" lang="es-E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50920" y="782640"/>
            <a:ext cx="171360" cy="342720"/>
          </a:xfrm>
          <a:custGeom>
            <a:avLst/>
            <a:gdLst/>
            <a:ahLst/>
            <a:rect l="l" t="t" r="r" b="b"/>
            <a:pathLst>
              <a:path w="1428" h="3035">
                <a:moveTo>
                  <a:pt x="1246" y="3035"/>
                </a:moveTo>
                <a:lnTo>
                  <a:pt x="1418" y="3015"/>
                </a:lnTo>
                <a:lnTo>
                  <a:pt x="1428" y="2183"/>
                </a:lnTo>
                <a:lnTo>
                  <a:pt x="1372" y="2185"/>
                </a:lnTo>
                <a:lnTo>
                  <a:pt x="1318" y="2185"/>
                </a:lnTo>
                <a:lnTo>
                  <a:pt x="1262" y="2178"/>
                </a:lnTo>
                <a:lnTo>
                  <a:pt x="1210" y="2163"/>
                </a:lnTo>
                <a:lnTo>
                  <a:pt x="1158" y="2145"/>
                </a:lnTo>
                <a:lnTo>
                  <a:pt x="1112" y="2117"/>
                </a:lnTo>
                <a:lnTo>
                  <a:pt x="1069" y="2081"/>
                </a:lnTo>
                <a:lnTo>
                  <a:pt x="1033" y="2037"/>
                </a:lnTo>
                <a:lnTo>
                  <a:pt x="976" y="1963"/>
                </a:lnTo>
                <a:lnTo>
                  <a:pt x="930" y="1877"/>
                </a:lnTo>
                <a:lnTo>
                  <a:pt x="894" y="1788"/>
                </a:lnTo>
                <a:lnTo>
                  <a:pt x="866" y="1693"/>
                </a:lnTo>
                <a:lnTo>
                  <a:pt x="851" y="1595"/>
                </a:lnTo>
                <a:lnTo>
                  <a:pt x="843" y="1495"/>
                </a:lnTo>
                <a:lnTo>
                  <a:pt x="845" y="1400"/>
                </a:lnTo>
                <a:lnTo>
                  <a:pt x="858" y="1305"/>
                </a:lnTo>
                <a:lnTo>
                  <a:pt x="881" y="1226"/>
                </a:lnTo>
                <a:lnTo>
                  <a:pt x="910" y="1149"/>
                </a:lnTo>
                <a:lnTo>
                  <a:pt x="943" y="1077"/>
                </a:lnTo>
                <a:lnTo>
                  <a:pt x="979" y="1013"/>
                </a:lnTo>
                <a:lnTo>
                  <a:pt x="1025" y="956"/>
                </a:lnTo>
                <a:lnTo>
                  <a:pt x="1076" y="905"/>
                </a:lnTo>
                <a:lnTo>
                  <a:pt x="1133" y="862"/>
                </a:lnTo>
                <a:lnTo>
                  <a:pt x="1200" y="826"/>
                </a:lnTo>
                <a:lnTo>
                  <a:pt x="1228" y="820"/>
                </a:lnTo>
                <a:lnTo>
                  <a:pt x="1256" y="815"/>
                </a:lnTo>
                <a:lnTo>
                  <a:pt x="1282" y="812"/>
                </a:lnTo>
                <a:lnTo>
                  <a:pt x="1310" y="810"/>
                </a:lnTo>
                <a:lnTo>
                  <a:pt x="1336" y="810"/>
                </a:lnTo>
                <a:lnTo>
                  <a:pt x="1364" y="810"/>
                </a:lnTo>
                <a:lnTo>
                  <a:pt x="1390" y="810"/>
                </a:lnTo>
                <a:lnTo>
                  <a:pt x="1416" y="810"/>
                </a:lnTo>
                <a:lnTo>
                  <a:pt x="1418" y="22"/>
                </a:lnTo>
                <a:lnTo>
                  <a:pt x="1390" y="14"/>
                </a:lnTo>
                <a:lnTo>
                  <a:pt x="1362" y="6"/>
                </a:lnTo>
                <a:lnTo>
                  <a:pt x="1334" y="4"/>
                </a:lnTo>
                <a:lnTo>
                  <a:pt x="1302" y="2"/>
                </a:lnTo>
                <a:lnTo>
                  <a:pt x="1274" y="0"/>
                </a:lnTo>
                <a:lnTo>
                  <a:pt x="1244" y="0"/>
                </a:lnTo>
                <a:lnTo>
                  <a:pt x="1212" y="2"/>
                </a:lnTo>
                <a:lnTo>
                  <a:pt x="1182" y="4"/>
                </a:lnTo>
                <a:lnTo>
                  <a:pt x="1148" y="10"/>
                </a:lnTo>
                <a:lnTo>
                  <a:pt x="1118" y="12"/>
                </a:lnTo>
                <a:lnTo>
                  <a:pt x="1087" y="20"/>
                </a:lnTo>
                <a:lnTo>
                  <a:pt x="1056" y="24"/>
                </a:lnTo>
                <a:lnTo>
                  <a:pt x="1022" y="32"/>
                </a:lnTo>
                <a:lnTo>
                  <a:pt x="992" y="40"/>
                </a:lnTo>
                <a:lnTo>
                  <a:pt x="961" y="48"/>
                </a:lnTo>
                <a:lnTo>
                  <a:pt x="930" y="56"/>
                </a:lnTo>
                <a:lnTo>
                  <a:pt x="856" y="86"/>
                </a:lnTo>
                <a:lnTo>
                  <a:pt x="781" y="124"/>
                </a:lnTo>
                <a:lnTo>
                  <a:pt x="712" y="164"/>
                </a:lnTo>
                <a:lnTo>
                  <a:pt x="645" y="210"/>
                </a:lnTo>
                <a:lnTo>
                  <a:pt x="579" y="258"/>
                </a:lnTo>
                <a:lnTo>
                  <a:pt x="517" y="310"/>
                </a:lnTo>
                <a:lnTo>
                  <a:pt x="457" y="366"/>
                </a:lnTo>
                <a:lnTo>
                  <a:pt x="403" y="425"/>
                </a:lnTo>
                <a:lnTo>
                  <a:pt x="349" y="486"/>
                </a:lnTo>
                <a:lnTo>
                  <a:pt x="301" y="551"/>
                </a:lnTo>
                <a:lnTo>
                  <a:pt x="255" y="618"/>
                </a:lnTo>
                <a:lnTo>
                  <a:pt x="211" y="687"/>
                </a:lnTo>
                <a:lnTo>
                  <a:pt x="173" y="756"/>
                </a:lnTo>
                <a:lnTo>
                  <a:pt x="137" y="828"/>
                </a:lnTo>
                <a:lnTo>
                  <a:pt x="106" y="900"/>
                </a:lnTo>
                <a:lnTo>
                  <a:pt x="77" y="974"/>
                </a:lnTo>
                <a:lnTo>
                  <a:pt x="34" y="1139"/>
                </a:lnTo>
                <a:lnTo>
                  <a:pt x="11" y="1303"/>
                </a:lnTo>
                <a:lnTo>
                  <a:pt x="0" y="1472"/>
                </a:lnTo>
                <a:lnTo>
                  <a:pt x="11" y="1639"/>
                </a:lnTo>
                <a:lnTo>
                  <a:pt x="34" y="1803"/>
                </a:lnTo>
                <a:lnTo>
                  <a:pt x="70" y="1965"/>
                </a:lnTo>
                <a:lnTo>
                  <a:pt x="124" y="2121"/>
                </a:lnTo>
                <a:lnTo>
                  <a:pt x="188" y="2273"/>
                </a:lnTo>
                <a:lnTo>
                  <a:pt x="224" y="2343"/>
                </a:lnTo>
                <a:lnTo>
                  <a:pt x="263" y="2409"/>
                </a:lnTo>
                <a:lnTo>
                  <a:pt x="303" y="2473"/>
                </a:lnTo>
                <a:lnTo>
                  <a:pt x="349" y="2535"/>
                </a:lnTo>
                <a:lnTo>
                  <a:pt x="399" y="2597"/>
                </a:lnTo>
                <a:lnTo>
                  <a:pt x="449" y="2653"/>
                </a:lnTo>
                <a:lnTo>
                  <a:pt x="507" y="2709"/>
                </a:lnTo>
                <a:lnTo>
                  <a:pt x="565" y="2763"/>
                </a:lnTo>
                <a:lnTo>
                  <a:pt x="601" y="2791"/>
                </a:lnTo>
                <a:lnTo>
                  <a:pt x="637" y="2819"/>
                </a:lnTo>
                <a:lnTo>
                  <a:pt x="673" y="2845"/>
                </a:lnTo>
                <a:lnTo>
                  <a:pt x="712" y="2871"/>
                </a:lnTo>
                <a:lnTo>
                  <a:pt x="753" y="2893"/>
                </a:lnTo>
                <a:lnTo>
                  <a:pt x="794" y="2915"/>
                </a:lnTo>
                <a:lnTo>
                  <a:pt x="835" y="2935"/>
                </a:lnTo>
                <a:lnTo>
                  <a:pt x="879" y="2953"/>
                </a:lnTo>
                <a:lnTo>
                  <a:pt x="922" y="2969"/>
                </a:lnTo>
                <a:lnTo>
                  <a:pt x="966" y="2983"/>
                </a:lnTo>
                <a:lnTo>
                  <a:pt x="1012" y="2997"/>
                </a:lnTo>
                <a:lnTo>
                  <a:pt x="1056" y="3007"/>
                </a:lnTo>
                <a:lnTo>
                  <a:pt x="1102" y="3017"/>
                </a:lnTo>
                <a:lnTo>
                  <a:pt x="1151" y="3025"/>
                </a:lnTo>
                <a:lnTo>
                  <a:pt x="1198" y="3029"/>
                </a:lnTo>
                <a:lnTo>
                  <a:pt x="1246" y="303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36680" y="998640"/>
            <a:ext cx="19080" cy="123840"/>
          </a:xfrm>
          <a:custGeom>
            <a:avLst/>
            <a:gdLst/>
            <a:ahLst/>
            <a:rect l="l" t="t" r="r" b="b"/>
            <a:pathLst>
              <a:path w="154" h="1086">
                <a:moveTo>
                  <a:pt x="18" y="1086"/>
                </a:moveTo>
                <a:lnTo>
                  <a:pt x="152" y="1040"/>
                </a:lnTo>
                <a:lnTo>
                  <a:pt x="154" y="6"/>
                </a:lnTo>
                <a:lnTo>
                  <a:pt x="152" y="0"/>
                </a:lnTo>
                <a:lnTo>
                  <a:pt x="144" y="0"/>
                </a:lnTo>
                <a:lnTo>
                  <a:pt x="136" y="3"/>
                </a:lnTo>
                <a:lnTo>
                  <a:pt x="134" y="11"/>
                </a:lnTo>
                <a:lnTo>
                  <a:pt x="118" y="36"/>
                </a:lnTo>
                <a:lnTo>
                  <a:pt x="100" y="65"/>
                </a:lnTo>
                <a:lnTo>
                  <a:pt x="85" y="90"/>
                </a:lnTo>
                <a:lnTo>
                  <a:pt x="67" y="116"/>
                </a:lnTo>
                <a:lnTo>
                  <a:pt x="49" y="139"/>
                </a:lnTo>
                <a:lnTo>
                  <a:pt x="34" y="165"/>
                </a:lnTo>
                <a:lnTo>
                  <a:pt x="16" y="190"/>
                </a:lnTo>
                <a:lnTo>
                  <a:pt x="0" y="214"/>
                </a:lnTo>
                <a:lnTo>
                  <a:pt x="8" y="1084"/>
                </a:lnTo>
                <a:lnTo>
                  <a:pt x="10" y="1084"/>
                </a:lnTo>
                <a:lnTo>
                  <a:pt x="13" y="1084"/>
                </a:lnTo>
                <a:lnTo>
                  <a:pt x="16" y="1084"/>
                </a:lnTo>
                <a:lnTo>
                  <a:pt x="18" y="108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62080" y="795240"/>
            <a:ext cx="276480" cy="324000"/>
          </a:xfrm>
          <a:custGeom>
            <a:avLst/>
            <a:gdLst/>
            <a:ahLst/>
            <a:rect l="l" t="t" r="r" b="b"/>
            <a:pathLst>
              <a:path w="2306" h="2861">
                <a:moveTo>
                  <a:pt x="1680" y="2861"/>
                </a:moveTo>
                <a:lnTo>
                  <a:pt x="1684" y="2857"/>
                </a:lnTo>
                <a:lnTo>
                  <a:pt x="1690" y="2855"/>
                </a:lnTo>
                <a:lnTo>
                  <a:pt x="1695" y="2853"/>
                </a:lnTo>
                <a:lnTo>
                  <a:pt x="1702" y="2851"/>
                </a:lnTo>
                <a:lnTo>
                  <a:pt x="2114" y="1470"/>
                </a:lnTo>
                <a:lnTo>
                  <a:pt x="2118" y="1470"/>
                </a:lnTo>
                <a:lnTo>
                  <a:pt x="2124" y="1470"/>
                </a:lnTo>
                <a:lnTo>
                  <a:pt x="2128" y="1472"/>
                </a:lnTo>
                <a:lnTo>
                  <a:pt x="2132" y="1475"/>
                </a:lnTo>
                <a:lnTo>
                  <a:pt x="2136" y="2851"/>
                </a:lnTo>
                <a:lnTo>
                  <a:pt x="2278" y="2853"/>
                </a:lnTo>
                <a:lnTo>
                  <a:pt x="2306" y="22"/>
                </a:lnTo>
                <a:lnTo>
                  <a:pt x="2260" y="12"/>
                </a:lnTo>
                <a:lnTo>
                  <a:pt x="2214" y="4"/>
                </a:lnTo>
                <a:lnTo>
                  <a:pt x="2162" y="4"/>
                </a:lnTo>
                <a:lnTo>
                  <a:pt x="2110" y="4"/>
                </a:lnTo>
                <a:lnTo>
                  <a:pt x="2060" y="6"/>
                </a:lnTo>
                <a:lnTo>
                  <a:pt x="2008" y="10"/>
                </a:lnTo>
                <a:lnTo>
                  <a:pt x="1956" y="12"/>
                </a:lnTo>
                <a:lnTo>
                  <a:pt x="1908" y="12"/>
                </a:lnTo>
                <a:lnTo>
                  <a:pt x="1443" y="1634"/>
                </a:lnTo>
                <a:lnTo>
                  <a:pt x="1438" y="1634"/>
                </a:lnTo>
                <a:lnTo>
                  <a:pt x="1435" y="1634"/>
                </a:lnTo>
                <a:lnTo>
                  <a:pt x="1430" y="1631"/>
                </a:lnTo>
                <a:lnTo>
                  <a:pt x="1425" y="1626"/>
                </a:lnTo>
                <a:lnTo>
                  <a:pt x="1029" y="186"/>
                </a:lnTo>
                <a:lnTo>
                  <a:pt x="987" y="18"/>
                </a:lnTo>
                <a:lnTo>
                  <a:pt x="38" y="0"/>
                </a:lnTo>
                <a:lnTo>
                  <a:pt x="36" y="0"/>
                </a:lnTo>
                <a:lnTo>
                  <a:pt x="30" y="0"/>
                </a:lnTo>
                <a:lnTo>
                  <a:pt x="23" y="0"/>
                </a:lnTo>
                <a:lnTo>
                  <a:pt x="20" y="2"/>
                </a:lnTo>
                <a:lnTo>
                  <a:pt x="0" y="222"/>
                </a:lnTo>
                <a:lnTo>
                  <a:pt x="10" y="2843"/>
                </a:lnTo>
                <a:lnTo>
                  <a:pt x="709" y="2853"/>
                </a:lnTo>
                <a:lnTo>
                  <a:pt x="727" y="2497"/>
                </a:lnTo>
                <a:lnTo>
                  <a:pt x="729" y="2129"/>
                </a:lnTo>
                <a:lnTo>
                  <a:pt x="724" y="1759"/>
                </a:lnTo>
                <a:lnTo>
                  <a:pt x="727" y="1393"/>
                </a:lnTo>
                <a:lnTo>
                  <a:pt x="729" y="1388"/>
                </a:lnTo>
                <a:lnTo>
                  <a:pt x="732" y="1382"/>
                </a:lnTo>
                <a:lnTo>
                  <a:pt x="737" y="1382"/>
                </a:lnTo>
                <a:lnTo>
                  <a:pt x="745" y="1385"/>
                </a:lnTo>
                <a:lnTo>
                  <a:pt x="1155" y="2851"/>
                </a:lnTo>
                <a:lnTo>
                  <a:pt x="1680" y="286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19440" y="795240"/>
            <a:ext cx="230040" cy="322200"/>
          </a:xfrm>
          <a:custGeom>
            <a:avLst/>
            <a:gdLst/>
            <a:ahLst/>
            <a:rect l="l" t="t" r="r" b="b"/>
            <a:pathLst>
              <a:path w="1924" h="2847">
                <a:moveTo>
                  <a:pt x="1860" y="2841"/>
                </a:moveTo>
                <a:lnTo>
                  <a:pt x="1924" y="2841"/>
                </a:lnTo>
                <a:lnTo>
                  <a:pt x="1904" y="2665"/>
                </a:lnTo>
                <a:lnTo>
                  <a:pt x="1878" y="2487"/>
                </a:lnTo>
                <a:lnTo>
                  <a:pt x="1844" y="2310"/>
                </a:lnTo>
                <a:lnTo>
                  <a:pt x="1808" y="2133"/>
                </a:lnTo>
                <a:lnTo>
                  <a:pt x="1767" y="1953"/>
                </a:lnTo>
                <a:lnTo>
                  <a:pt x="1724" y="1776"/>
                </a:lnTo>
                <a:lnTo>
                  <a:pt x="1677" y="1599"/>
                </a:lnTo>
                <a:lnTo>
                  <a:pt x="1629" y="1419"/>
                </a:lnTo>
                <a:lnTo>
                  <a:pt x="1580" y="1242"/>
                </a:lnTo>
                <a:lnTo>
                  <a:pt x="1529" y="1065"/>
                </a:lnTo>
                <a:lnTo>
                  <a:pt x="1477" y="888"/>
                </a:lnTo>
                <a:lnTo>
                  <a:pt x="1429" y="708"/>
                </a:lnTo>
                <a:lnTo>
                  <a:pt x="1379" y="532"/>
                </a:lnTo>
                <a:lnTo>
                  <a:pt x="1331" y="354"/>
                </a:lnTo>
                <a:lnTo>
                  <a:pt x="1287" y="178"/>
                </a:lnTo>
                <a:lnTo>
                  <a:pt x="1245" y="0"/>
                </a:lnTo>
                <a:lnTo>
                  <a:pt x="953" y="0"/>
                </a:lnTo>
                <a:lnTo>
                  <a:pt x="0" y="2831"/>
                </a:lnTo>
                <a:lnTo>
                  <a:pt x="835" y="2839"/>
                </a:lnTo>
                <a:lnTo>
                  <a:pt x="945" y="2461"/>
                </a:lnTo>
                <a:lnTo>
                  <a:pt x="1734" y="2461"/>
                </a:lnTo>
                <a:lnTo>
                  <a:pt x="1850" y="2847"/>
                </a:lnTo>
                <a:lnTo>
                  <a:pt x="1852" y="2847"/>
                </a:lnTo>
                <a:lnTo>
                  <a:pt x="1854" y="2843"/>
                </a:lnTo>
                <a:lnTo>
                  <a:pt x="1857" y="2841"/>
                </a:lnTo>
                <a:lnTo>
                  <a:pt x="1860" y="284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51160" y="795240"/>
            <a:ext cx="15840" cy="322200"/>
          </a:xfrm>
          <a:custGeom>
            <a:avLst/>
            <a:gdLst/>
            <a:ahLst/>
            <a:rect l="l" t="t" r="r" b="b"/>
            <a:pathLst>
              <a:path w="128" h="2849">
                <a:moveTo>
                  <a:pt x="10" y="2849"/>
                </a:moveTo>
                <a:lnTo>
                  <a:pt x="110" y="2849"/>
                </a:lnTo>
                <a:lnTo>
                  <a:pt x="120" y="2749"/>
                </a:lnTo>
                <a:lnTo>
                  <a:pt x="120" y="2643"/>
                </a:lnTo>
                <a:lnTo>
                  <a:pt x="120" y="2539"/>
                </a:lnTo>
                <a:lnTo>
                  <a:pt x="128" y="2433"/>
                </a:lnTo>
                <a:lnTo>
                  <a:pt x="128" y="1825"/>
                </a:lnTo>
                <a:lnTo>
                  <a:pt x="128" y="1219"/>
                </a:lnTo>
                <a:lnTo>
                  <a:pt x="128" y="616"/>
                </a:lnTo>
                <a:lnTo>
                  <a:pt x="128" y="14"/>
                </a:lnTo>
                <a:lnTo>
                  <a:pt x="20" y="0"/>
                </a:lnTo>
                <a:lnTo>
                  <a:pt x="12" y="80"/>
                </a:lnTo>
                <a:lnTo>
                  <a:pt x="10" y="170"/>
                </a:lnTo>
                <a:lnTo>
                  <a:pt x="10" y="262"/>
                </a:lnTo>
                <a:lnTo>
                  <a:pt x="2" y="354"/>
                </a:lnTo>
                <a:lnTo>
                  <a:pt x="0" y="978"/>
                </a:lnTo>
                <a:lnTo>
                  <a:pt x="0" y="1602"/>
                </a:lnTo>
                <a:lnTo>
                  <a:pt x="0" y="2225"/>
                </a:lnTo>
                <a:lnTo>
                  <a:pt x="2" y="2847"/>
                </a:lnTo>
                <a:lnTo>
                  <a:pt x="2" y="2847"/>
                </a:lnTo>
                <a:lnTo>
                  <a:pt x="7" y="2847"/>
                </a:lnTo>
                <a:lnTo>
                  <a:pt x="10" y="2849"/>
                </a:lnTo>
                <a:lnTo>
                  <a:pt x="10" y="284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74920" y="795240"/>
            <a:ext cx="36360" cy="322200"/>
          </a:xfrm>
          <a:custGeom>
            <a:avLst/>
            <a:gdLst/>
            <a:ahLst/>
            <a:rect l="l" t="t" r="r" b="b"/>
            <a:pathLst>
              <a:path w="303" h="2849">
                <a:moveTo>
                  <a:pt x="10" y="2849"/>
                </a:moveTo>
                <a:lnTo>
                  <a:pt x="273" y="2849"/>
                </a:lnTo>
                <a:lnTo>
                  <a:pt x="279" y="2847"/>
                </a:lnTo>
                <a:lnTo>
                  <a:pt x="285" y="2839"/>
                </a:lnTo>
                <a:lnTo>
                  <a:pt x="287" y="2831"/>
                </a:lnTo>
                <a:lnTo>
                  <a:pt x="291" y="2821"/>
                </a:lnTo>
                <a:lnTo>
                  <a:pt x="303" y="18"/>
                </a:lnTo>
                <a:lnTo>
                  <a:pt x="273" y="8"/>
                </a:lnTo>
                <a:lnTo>
                  <a:pt x="239" y="0"/>
                </a:lnTo>
                <a:lnTo>
                  <a:pt x="203" y="0"/>
                </a:lnTo>
                <a:lnTo>
                  <a:pt x="167" y="0"/>
                </a:lnTo>
                <a:lnTo>
                  <a:pt x="129" y="0"/>
                </a:lnTo>
                <a:lnTo>
                  <a:pt x="93" y="2"/>
                </a:lnTo>
                <a:lnTo>
                  <a:pt x="57" y="2"/>
                </a:lnTo>
                <a:lnTo>
                  <a:pt x="21" y="0"/>
                </a:lnTo>
                <a:lnTo>
                  <a:pt x="3" y="706"/>
                </a:lnTo>
                <a:lnTo>
                  <a:pt x="0" y="1417"/>
                </a:lnTo>
                <a:lnTo>
                  <a:pt x="5" y="2131"/>
                </a:lnTo>
                <a:lnTo>
                  <a:pt x="3" y="2847"/>
                </a:lnTo>
                <a:lnTo>
                  <a:pt x="3" y="2847"/>
                </a:lnTo>
                <a:lnTo>
                  <a:pt x="7" y="2847"/>
                </a:lnTo>
                <a:lnTo>
                  <a:pt x="10" y="2849"/>
                </a:lnTo>
                <a:lnTo>
                  <a:pt x="10" y="284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00040" y="795240"/>
            <a:ext cx="108000" cy="322200"/>
          </a:xfrm>
          <a:custGeom>
            <a:avLst/>
            <a:gdLst/>
            <a:ahLst/>
            <a:rect l="l" t="t" r="r" b="b"/>
            <a:pathLst>
              <a:path w="902" h="2843">
                <a:moveTo>
                  <a:pt x="39" y="2843"/>
                </a:moveTo>
                <a:lnTo>
                  <a:pt x="884" y="2835"/>
                </a:lnTo>
                <a:lnTo>
                  <a:pt x="902" y="2401"/>
                </a:lnTo>
                <a:lnTo>
                  <a:pt x="891" y="2155"/>
                </a:lnTo>
                <a:lnTo>
                  <a:pt x="791" y="2145"/>
                </a:lnTo>
                <a:lnTo>
                  <a:pt x="776" y="2055"/>
                </a:lnTo>
                <a:lnTo>
                  <a:pt x="773" y="1957"/>
                </a:lnTo>
                <a:lnTo>
                  <a:pt x="779" y="1855"/>
                </a:lnTo>
                <a:lnTo>
                  <a:pt x="784" y="1755"/>
                </a:lnTo>
                <a:lnTo>
                  <a:pt x="889" y="1747"/>
                </a:lnTo>
                <a:lnTo>
                  <a:pt x="891" y="1067"/>
                </a:lnTo>
                <a:lnTo>
                  <a:pt x="791" y="1056"/>
                </a:lnTo>
                <a:lnTo>
                  <a:pt x="776" y="974"/>
                </a:lnTo>
                <a:lnTo>
                  <a:pt x="773" y="882"/>
                </a:lnTo>
                <a:lnTo>
                  <a:pt x="776" y="784"/>
                </a:lnTo>
                <a:lnTo>
                  <a:pt x="784" y="692"/>
                </a:lnTo>
                <a:lnTo>
                  <a:pt x="884" y="687"/>
                </a:lnTo>
                <a:lnTo>
                  <a:pt x="891" y="4"/>
                </a:lnTo>
                <a:lnTo>
                  <a:pt x="14" y="0"/>
                </a:lnTo>
                <a:lnTo>
                  <a:pt x="0" y="122"/>
                </a:lnTo>
                <a:lnTo>
                  <a:pt x="57" y="174"/>
                </a:lnTo>
                <a:lnTo>
                  <a:pt x="108" y="228"/>
                </a:lnTo>
                <a:lnTo>
                  <a:pt x="160" y="282"/>
                </a:lnTo>
                <a:lnTo>
                  <a:pt x="208" y="338"/>
                </a:lnTo>
                <a:lnTo>
                  <a:pt x="252" y="394"/>
                </a:lnTo>
                <a:lnTo>
                  <a:pt x="296" y="454"/>
                </a:lnTo>
                <a:lnTo>
                  <a:pt x="334" y="515"/>
                </a:lnTo>
                <a:lnTo>
                  <a:pt x="373" y="576"/>
                </a:lnTo>
                <a:lnTo>
                  <a:pt x="406" y="641"/>
                </a:lnTo>
                <a:lnTo>
                  <a:pt x="437" y="708"/>
                </a:lnTo>
                <a:lnTo>
                  <a:pt x="466" y="777"/>
                </a:lnTo>
                <a:lnTo>
                  <a:pt x="488" y="849"/>
                </a:lnTo>
                <a:lnTo>
                  <a:pt x="509" y="920"/>
                </a:lnTo>
                <a:lnTo>
                  <a:pt x="527" y="998"/>
                </a:lnTo>
                <a:lnTo>
                  <a:pt x="540" y="1074"/>
                </a:lnTo>
                <a:lnTo>
                  <a:pt x="550" y="1157"/>
                </a:lnTo>
                <a:lnTo>
                  <a:pt x="519" y="1164"/>
                </a:lnTo>
                <a:lnTo>
                  <a:pt x="488" y="1167"/>
                </a:lnTo>
                <a:lnTo>
                  <a:pt x="455" y="1172"/>
                </a:lnTo>
                <a:lnTo>
                  <a:pt x="424" y="1175"/>
                </a:lnTo>
                <a:lnTo>
                  <a:pt x="391" y="1175"/>
                </a:lnTo>
                <a:lnTo>
                  <a:pt x="358" y="1177"/>
                </a:lnTo>
                <a:lnTo>
                  <a:pt x="322" y="1177"/>
                </a:lnTo>
                <a:lnTo>
                  <a:pt x="288" y="1177"/>
                </a:lnTo>
                <a:lnTo>
                  <a:pt x="254" y="1175"/>
                </a:lnTo>
                <a:lnTo>
                  <a:pt x="218" y="1175"/>
                </a:lnTo>
                <a:lnTo>
                  <a:pt x="186" y="1175"/>
                </a:lnTo>
                <a:lnTo>
                  <a:pt x="150" y="1172"/>
                </a:lnTo>
                <a:lnTo>
                  <a:pt x="116" y="1172"/>
                </a:lnTo>
                <a:lnTo>
                  <a:pt x="80" y="1172"/>
                </a:lnTo>
                <a:lnTo>
                  <a:pt x="46" y="1172"/>
                </a:lnTo>
                <a:lnTo>
                  <a:pt x="14" y="1175"/>
                </a:lnTo>
                <a:lnTo>
                  <a:pt x="3" y="1649"/>
                </a:lnTo>
                <a:lnTo>
                  <a:pt x="34" y="1655"/>
                </a:lnTo>
                <a:lnTo>
                  <a:pt x="68" y="1657"/>
                </a:lnTo>
                <a:lnTo>
                  <a:pt x="100" y="1659"/>
                </a:lnTo>
                <a:lnTo>
                  <a:pt x="134" y="1662"/>
                </a:lnTo>
                <a:lnTo>
                  <a:pt x="168" y="1662"/>
                </a:lnTo>
                <a:lnTo>
                  <a:pt x="204" y="1659"/>
                </a:lnTo>
                <a:lnTo>
                  <a:pt x="240" y="1659"/>
                </a:lnTo>
                <a:lnTo>
                  <a:pt x="276" y="1657"/>
                </a:lnTo>
                <a:lnTo>
                  <a:pt x="312" y="1657"/>
                </a:lnTo>
                <a:lnTo>
                  <a:pt x="348" y="1655"/>
                </a:lnTo>
                <a:lnTo>
                  <a:pt x="383" y="1655"/>
                </a:lnTo>
                <a:lnTo>
                  <a:pt x="419" y="1655"/>
                </a:lnTo>
                <a:lnTo>
                  <a:pt x="455" y="1657"/>
                </a:lnTo>
                <a:lnTo>
                  <a:pt x="488" y="1657"/>
                </a:lnTo>
                <a:lnTo>
                  <a:pt x="524" y="1662"/>
                </a:lnTo>
                <a:lnTo>
                  <a:pt x="558" y="1667"/>
                </a:lnTo>
                <a:lnTo>
                  <a:pt x="548" y="1742"/>
                </a:lnTo>
                <a:lnTo>
                  <a:pt x="535" y="1816"/>
                </a:lnTo>
                <a:lnTo>
                  <a:pt x="517" y="1885"/>
                </a:lnTo>
                <a:lnTo>
                  <a:pt x="496" y="1952"/>
                </a:lnTo>
                <a:lnTo>
                  <a:pt x="473" y="2019"/>
                </a:lnTo>
                <a:lnTo>
                  <a:pt x="450" y="2083"/>
                </a:lnTo>
                <a:lnTo>
                  <a:pt x="419" y="2145"/>
                </a:lnTo>
                <a:lnTo>
                  <a:pt x="388" y="2203"/>
                </a:lnTo>
                <a:lnTo>
                  <a:pt x="355" y="2263"/>
                </a:lnTo>
                <a:lnTo>
                  <a:pt x="319" y="2319"/>
                </a:lnTo>
                <a:lnTo>
                  <a:pt x="278" y="2375"/>
                </a:lnTo>
                <a:lnTo>
                  <a:pt x="236" y="2429"/>
                </a:lnTo>
                <a:lnTo>
                  <a:pt x="190" y="2483"/>
                </a:lnTo>
                <a:lnTo>
                  <a:pt x="142" y="2537"/>
                </a:lnTo>
                <a:lnTo>
                  <a:pt x="93" y="2591"/>
                </a:lnTo>
                <a:lnTo>
                  <a:pt x="39" y="2643"/>
                </a:lnTo>
                <a:lnTo>
                  <a:pt x="34" y="2645"/>
                </a:lnTo>
                <a:lnTo>
                  <a:pt x="26" y="2647"/>
                </a:lnTo>
                <a:lnTo>
                  <a:pt x="24" y="2653"/>
                </a:lnTo>
                <a:lnTo>
                  <a:pt x="21" y="2653"/>
                </a:lnTo>
                <a:lnTo>
                  <a:pt x="14" y="2825"/>
                </a:lnTo>
                <a:lnTo>
                  <a:pt x="16" y="2829"/>
                </a:lnTo>
                <a:lnTo>
                  <a:pt x="24" y="2837"/>
                </a:lnTo>
                <a:lnTo>
                  <a:pt x="32" y="2841"/>
                </a:lnTo>
                <a:lnTo>
                  <a:pt x="39" y="284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2440" y="1038240"/>
            <a:ext cx="15840" cy="77760"/>
          </a:xfrm>
          <a:custGeom>
            <a:avLst/>
            <a:gdLst/>
            <a:ahLst/>
            <a:rect l="l" t="t" r="r" b="b"/>
            <a:pathLst>
              <a:path w="136" h="696">
                <a:moveTo>
                  <a:pt x="6" y="696"/>
                </a:moveTo>
                <a:lnTo>
                  <a:pt x="136" y="696"/>
                </a:lnTo>
                <a:lnTo>
                  <a:pt x="128" y="0"/>
                </a:lnTo>
                <a:lnTo>
                  <a:pt x="6" y="0"/>
                </a:lnTo>
                <a:lnTo>
                  <a:pt x="0" y="694"/>
                </a:lnTo>
                <a:lnTo>
                  <a:pt x="0" y="694"/>
                </a:lnTo>
                <a:lnTo>
                  <a:pt x="4" y="694"/>
                </a:lnTo>
                <a:lnTo>
                  <a:pt x="6" y="696"/>
                </a:lnTo>
                <a:lnTo>
                  <a:pt x="6" y="69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50880" y="1038240"/>
            <a:ext cx="38160" cy="77760"/>
          </a:xfrm>
          <a:custGeom>
            <a:avLst/>
            <a:gdLst/>
            <a:ahLst/>
            <a:rect l="l" t="t" r="r" b="b"/>
            <a:pathLst>
              <a:path w="328" h="690">
                <a:moveTo>
                  <a:pt x="10" y="690"/>
                </a:moveTo>
                <a:lnTo>
                  <a:pt x="315" y="690"/>
                </a:lnTo>
                <a:lnTo>
                  <a:pt x="325" y="524"/>
                </a:lnTo>
                <a:lnTo>
                  <a:pt x="325" y="354"/>
                </a:lnTo>
                <a:lnTo>
                  <a:pt x="325" y="182"/>
                </a:lnTo>
                <a:lnTo>
                  <a:pt x="328" y="10"/>
                </a:lnTo>
                <a:lnTo>
                  <a:pt x="10" y="0"/>
                </a:lnTo>
                <a:lnTo>
                  <a:pt x="0" y="688"/>
                </a:lnTo>
                <a:lnTo>
                  <a:pt x="2" y="688"/>
                </a:lnTo>
                <a:lnTo>
                  <a:pt x="4" y="688"/>
                </a:lnTo>
                <a:lnTo>
                  <a:pt x="7" y="690"/>
                </a:lnTo>
                <a:lnTo>
                  <a:pt x="10" y="69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01640" y="793800"/>
            <a:ext cx="217800" cy="322200"/>
          </a:xfrm>
          <a:custGeom>
            <a:avLst/>
            <a:gdLst/>
            <a:ahLst/>
            <a:rect l="l" t="t" r="r" b="b"/>
            <a:pathLst>
              <a:path w="1814" h="2849">
                <a:moveTo>
                  <a:pt x="10" y="2849"/>
                </a:moveTo>
                <a:lnTo>
                  <a:pt x="827" y="2849"/>
                </a:lnTo>
                <a:lnTo>
                  <a:pt x="840" y="2767"/>
                </a:lnTo>
                <a:lnTo>
                  <a:pt x="843" y="2679"/>
                </a:lnTo>
                <a:lnTo>
                  <a:pt x="840" y="2589"/>
                </a:lnTo>
                <a:lnTo>
                  <a:pt x="843" y="2503"/>
                </a:lnTo>
                <a:lnTo>
                  <a:pt x="843" y="2385"/>
                </a:lnTo>
                <a:lnTo>
                  <a:pt x="845" y="2267"/>
                </a:lnTo>
                <a:lnTo>
                  <a:pt x="843" y="2149"/>
                </a:lnTo>
                <a:lnTo>
                  <a:pt x="835" y="2033"/>
                </a:lnTo>
                <a:lnTo>
                  <a:pt x="845" y="1895"/>
                </a:lnTo>
                <a:lnTo>
                  <a:pt x="845" y="1761"/>
                </a:lnTo>
                <a:lnTo>
                  <a:pt x="843" y="1627"/>
                </a:lnTo>
                <a:lnTo>
                  <a:pt x="845" y="1499"/>
                </a:lnTo>
                <a:lnTo>
                  <a:pt x="848" y="1497"/>
                </a:lnTo>
                <a:lnTo>
                  <a:pt x="853" y="1494"/>
                </a:lnTo>
                <a:lnTo>
                  <a:pt x="858" y="1491"/>
                </a:lnTo>
                <a:lnTo>
                  <a:pt x="863" y="1491"/>
                </a:lnTo>
                <a:lnTo>
                  <a:pt x="1726" y="2841"/>
                </a:lnTo>
                <a:lnTo>
                  <a:pt x="1814" y="2597"/>
                </a:lnTo>
                <a:lnTo>
                  <a:pt x="1806" y="14"/>
                </a:lnTo>
                <a:lnTo>
                  <a:pt x="1670" y="14"/>
                </a:lnTo>
                <a:lnTo>
                  <a:pt x="1652" y="1381"/>
                </a:lnTo>
                <a:lnTo>
                  <a:pt x="1649" y="1384"/>
                </a:lnTo>
                <a:lnTo>
                  <a:pt x="1647" y="1384"/>
                </a:lnTo>
                <a:lnTo>
                  <a:pt x="1641" y="1384"/>
                </a:lnTo>
                <a:lnTo>
                  <a:pt x="1634" y="1384"/>
                </a:lnTo>
                <a:lnTo>
                  <a:pt x="1347" y="924"/>
                </a:lnTo>
                <a:lnTo>
                  <a:pt x="771" y="16"/>
                </a:lnTo>
                <a:lnTo>
                  <a:pt x="671" y="0"/>
                </a:lnTo>
                <a:lnTo>
                  <a:pt x="0" y="0"/>
                </a:lnTo>
                <a:lnTo>
                  <a:pt x="0" y="2847"/>
                </a:lnTo>
                <a:lnTo>
                  <a:pt x="3" y="2847"/>
                </a:lnTo>
                <a:lnTo>
                  <a:pt x="6" y="2847"/>
                </a:lnTo>
                <a:lnTo>
                  <a:pt x="8" y="2849"/>
                </a:lnTo>
                <a:lnTo>
                  <a:pt x="10" y="284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2520" y="816120"/>
            <a:ext cx="584280" cy="298440"/>
          </a:xfrm>
          <a:custGeom>
            <a:avLst/>
            <a:gdLst/>
            <a:ahLst/>
            <a:rect l="l" t="t" r="r" b="b"/>
            <a:pathLst>
              <a:path w="4898" h="2645">
                <a:moveTo>
                  <a:pt x="4718" y="2645"/>
                </a:moveTo>
                <a:lnTo>
                  <a:pt x="4818" y="2645"/>
                </a:lnTo>
                <a:lnTo>
                  <a:pt x="4898" y="2411"/>
                </a:lnTo>
                <a:lnTo>
                  <a:pt x="3141" y="1787"/>
                </a:lnTo>
                <a:lnTo>
                  <a:pt x="3210" y="1653"/>
                </a:lnTo>
                <a:lnTo>
                  <a:pt x="3262" y="1525"/>
                </a:lnTo>
                <a:lnTo>
                  <a:pt x="3298" y="1402"/>
                </a:lnTo>
                <a:lnTo>
                  <a:pt x="3316" y="1281"/>
                </a:lnTo>
                <a:lnTo>
                  <a:pt x="3321" y="1163"/>
                </a:lnTo>
                <a:lnTo>
                  <a:pt x="3314" y="1050"/>
                </a:lnTo>
                <a:lnTo>
                  <a:pt x="3296" y="940"/>
                </a:lnTo>
                <a:lnTo>
                  <a:pt x="3264" y="830"/>
                </a:lnTo>
                <a:lnTo>
                  <a:pt x="3226" y="724"/>
                </a:lnTo>
                <a:lnTo>
                  <a:pt x="3180" y="619"/>
                </a:lnTo>
                <a:lnTo>
                  <a:pt x="3126" y="516"/>
                </a:lnTo>
                <a:lnTo>
                  <a:pt x="3069" y="414"/>
                </a:lnTo>
                <a:lnTo>
                  <a:pt x="3005" y="314"/>
                </a:lnTo>
                <a:lnTo>
                  <a:pt x="2941" y="214"/>
                </a:lnTo>
                <a:lnTo>
                  <a:pt x="2877" y="116"/>
                </a:lnTo>
                <a:lnTo>
                  <a:pt x="2810" y="16"/>
                </a:lnTo>
                <a:lnTo>
                  <a:pt x="2803" y="14"/>
                </a:lnTo>
                <a:lnTo>
                  <a:pt x="2797" y="8"/>
                </a:lnTo>
                <a:lnTo>
                  <a:pt x="2795" y="4"/>
                </a:lnTo>
                <a:lnTo>
                  <a:pt x="2792" y="0"/>
                </a:lnTo>
                <a:lnTo>
                  <a:pt x="2733" y="26"/>
                </a:lnTo>
                <a:lnTo>
                  <a:pt x="2671" y="50"/>
                </a:lnTo>
                <a:lnTo>
                  <a:pt x="2607" y="70"/>
                </a:lnTo>
                <a:lnTo>
                  <a:pt x="2545" y="86"/>
                </a:lnTo>
                <a:lnTo>
                  <a:pt x="2481" y="101"/>
                </a:lnTo>
                <a:lnTo>
                  <a:pt x="2417" y="112"/>
                </a:lnTo>
                <a:lnTo>
                  <a:pt x="2351" y="116"/>
                </a:lnTo>
                <a:lnTo>
                  <a:pt x="2286" y="122"/>
                </a:lnTo>
                <a:lnTo>
                  <a:pt x="2219" y="122"/>
                </a:lnTo>
                <a:lnTo>
                  <a:pt x="2155" y="116"/>
                </a:lnTo>
                <a:lnTo>
                  <a:pt x="2088" y="112"/>
                </a:lnTo>
                <a:lnTo>
                  <a:pt x="2024" y="98"/>
                </a:lnTo>
                <a:lnTo>
                  <a:pt x="1960" y="86"/>
                </a:lnTo>
                <a:lnTo>
                  <a:pt x="1898" y="65"/>
                </a:lnTo>
                <a:lnTo>
                  <a:pt x="1836" y="42"/>
                </a:lnTo>
                <a:lnTo>
                  <a:pt x="1774" y="16"/>
                </a:lnTo>
                <a:lnTo>
                  <a:pt x="1736" y="65"/>
                </a:lnTo>
                <a:lnTo>
                  <a:pt x="1704" y="116"/>
                </a:lnTo>
                <a:lnTo>
                  <a:pt x="1668" y="170"/>
                </a:lnTo>
                <a:lnTo>
                  <a:pt x="1636" y="226"/>
                </a:lnTo>
                <a:lnTo>
                  <a:pt x="1606" y="280"/>
                </a:lnTo>
                <a:lnTo>
                  <a:pt x="1574" y="337"/>
                </a:lnTo>
                <a:lnTo>
                  <a:pt x="1544" y="396"/>
                </a:lnTo>
                <a:lnTo>
                  <a:pt x="1513" y="452"/>
                </a:lnTo>
                <a:lnTo>
                  <a:pt x="1482" y="509"/>
                </a:lnTo>
                <a:lnTo>
                  <a:pt x="1454" y="568"/>
                </a:lnTo>
                <a:lnTo>
                  <a:pt x="1420" y="624"/>
                </a:lnTo>
                <a:lnTo>
                  <a:pt x="1390" y="678"/>
                </a:lnTo>
                <a:lnTo>
                  <a:pt x="1354" y="735"/>
                </a:lnTo>
                <a:lnTo>
                  <a:pt x="1318" y="789"/>
                </a:lnTo>
                <a:lnTo>
                  <a:pt x="1282" y="840"/>
                </a:lnTo>
                <a:lnTo>
                  <a:pt x="1241" y="889"/>
                </a:lnTo>
                <a:lnTo>
                  <a:pt x="0" y="860"/>
                </a:lnTo>
                <a:lnTo>
                  <a:pt x="0" y="2621"/>
                </a:lnTo>
                <a:lnTo>
                  <a:pt x="388" y="2629"/>
                </a:lnTo>
                <a:lnTo>
                  <a:pt x="1133" y="2621"/>
                </a:lnTo>
                <a:lnTo>
                  <a:pt x="2068" y="1004"/>
                </a:lnTo>
                <a:lnTo>
                  <a:pt x="3031" y="2637"/>
                </a:lnTo>
                <a:lnTo>
                  <a:pt x="4718" y="264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5360" y="517680"/>
            <a:ext cx="405000" cy="595080"/>
          </a:xfrm>
          <a:custGeom>
            <a:avLst/>
            <a:gdLst/>
            <a:ahLst/>
            <a:rect l="l" t="t" r="r" b="b"/>
            <a:pathLst>
              <a:path w="3385" h="5256">
                <a:moveTo>
                  <a:pt x="1503" y="5256"/>
                </a:moveTo>
                <a:lnTo>
                  <a:pt x="1767" y="5256"/>
                </a:lnTo>
                <a:lnTo>
                  <a:pt x="1777" y="3380"/>
                </a:lnTo>
                <a:lnTo>
                  <a:pt x="1829" y="3372"/>
                </a:lnTo>
                <a:lnTo>
                  <a:pt x="1879" y="3367"/>
                </a:lnTo>
                <a:lnTo>
                  <a:pt x="1931" y="3364"/>
                </a:lnTo>
                <a:lnTo>
                  <a:pt x="1985" y="3364"/>
                </a:lnTo>
                <a:lnTo>
                  <a:pt x="2042" y="3367"/>
                </a:lnTo>
                <a:lnTo>
                  <a:pt x="2096" y="3369"/>
                </a:lnTo>
                <a:lnTo>
                  <a:pt x="2150" y="3372"/>
                </a:lnTo>
                <a:lnTo>
                  <a:pt x="2206" y="3375"/>
                </a:lnTo>
                <a:lnTo>
                  <a:pt x="2260" y="3377"/>
                </a:lnTo>
                <a:lnTo>
                  <a:pt x="2314" y="3380"/>
                </a:lnTo>
                <a:lnTo>
                  <a:pt x="2368" y="3377"/>
                </a:lnTo>
                <a:lnTo>
                  <a:pt x="2420" y="3375"/>
                </a:lnTo>
                <a:lnTo>
                  <a:pt x="2470" y="3369"/>
                </a:lnTo>
                <a:lnTo>
                  <a:pt x="2522" y="3359"/>
                </a:lnTo>
                <a:lnTo>
                  <a:pt x="2568" y="3344"/>
                </a:lnTo>
                <a:lnTo>
                  <a:pt x="2614" y="3323"/>
                </a:lnTo>
                <a:lnTo>
                  <a:pt x="2664" y="3269"/>
                </a:lnTo>
                <a:lnTo>
                  <a:pt x="2712" y="3215"/>
                </a:lnTo>
                <a:lnTo>
                  <a:pt x="2758" y="3161"/>
                </a:lnTo>
                <a:lnTo>
                  <a:pt x="2807" y="3108"/>
                </a:lnTo>
                <a:lnTo>
                  <a:pt x="2856" y="3054"/>
                </a:lnTo>
                <a:lnTo>
                  <a:pt x="2904" y="3000"/>
                </a:lnTo>
                <a:lnTo>
                  <a:pt x="2954" y="2946"/>
                </a:lnTo>
                <a:lnTo>
                  <a:pt x="3002" y="2892"/>
                </a:lnTo>
                <a:lnTo>
                  <a:pt x="3051" y="2839"/>
                </a:lnTo>
                <a:lnTo>
                  <a:pt x="3097" y="2785"/>
                </a:lnTo>
                <a:lnTo>
                  <a:pt x="3146" y="2728"/>
                </a:lnTo>
                <a:lnTo>
                  <a:pt x="3195" y="2674"/>
                </a:lnTo>
                <a:lnTo>
                  <a:pt x="3241" y="2621"/>
                </a:lnTo>
                <a:lnTo>
                  <a:pt x="3290" y="2563"/>
                </a:lnTo>
                <a:lnTo>
                  <a:pt x="3339" y="2509"/>
                </a:lnTo>
                <a:lnTo>
                  <a:pt x="3385" y="2453"/>
                </a:lnTo>
                <a:lnTo>
                  <a:pt x="3300" y="2367"/>
                </a:lnTo>
                <a:lnTo>
                  <a:pt x="3223" y="2271"/>
                </a:lnTo>
                <a:lnTo>
                  <a:pt x="3156" y="2169"/>
                </a:lnTo>
                <a:lnTo>
                  <a:pt x="3100" y="2061"/>
                </a:lnTo>
                <a:lnTo>
                  <a:pt x="3056" y="1945"/>
                </a:lnTo>
                <a:lnTo>
                  <a:pt x="3023" y="1825"/>
                </a:lnTo>
                <a:lnTo>
                  <a:pt x="3000" y="1699"/>
                </a:lnTo>
                <a:lnTo>
                  <a:pt x="2992" y="1569"/>
                </a:lnTo>
                <a:lnTo>
                  <a:pt x="2997" y="1522"/>
                </a:lnTo>
                <a:lnTo>
                  <a:pt x="3000" y="1479"/>
                </a:lnTo>
                <a:lnTo>
                  <a:pt x="3005" y="1435"/>
                </a:lnTo>
                <a:lnTo>
                  <a:pt x="3007" y="1391"/>
                </a:lnTo>
                <a:lnTo>
                  <a:pt x="2111" y="1196"/>
                </a:lnTo>
                <a:lnTo>
                  <a:pt x="2080" y="1129"/>
                </a:lnTo>
                <a:lnTo>
                  <a:pt x="2049" y="1057"/>
                </a:lnTo>
                <a:lnTo>
                  <a:pt x="2021" y="985"/>
                </a:lnTo>
                <a:lnTo>
                  <a:pt x="1993" y="911"/>
                </a:lnTo>
                <a:lnTo>
                  <a:pt x="1967" y="837"/>
                </a:lnTo>
                <a:lnTo>
                  <a:pt x="1944" y="760"/>
                </a:lnTo>
                <a:lnTo>
                  <a:pt x="1919" y="683"/>
                </a:lnTo>
                <a:lnTo>
                  <a:pt x="1895" y="606"/>
                </a:lnTo>
                <a:lnTo>
                  <a:pt x="1869" y="526"/>
                </a:lnTo>
                <a:lnTo>
                  <a:pt x="1847" y="449"/>
                </a:lnTo>
                <a:lnTo>
                  <a:pt x="1823" y="372"/>
                </a:lnTo>
                <a:lnTo>
                  <a:pt x="1797" y="295"/>
                </a:lnTo>
                <a:lnTo>
                  <a:pt x="1773" y="218"/>
                </a:lnTo>
                <a:lnTo>
                  <a:pt x="1747" y="144"/>
                </a:lnTo>
                <a:lnTo>
                  <a:pt x="1719" y="72"/>
                </a:lnTo>
                <a:lnTo>
                  <a:pt x="1689" y="0"/>
                </a:lnTo>
                <a:lnTo>
                  <a:pt x="0" y="526"/>
                </a:lnTo>
                <a:lnTo>
                  <a:pt x="126" y="924"/>
                </a:lnTo>
                <a:lnTo>
                  <a:pt x="349" y="1617"/>
                </a:lnTo>
                <a:lnTo>
                  <a:pt x="2255" y="2037"/>
                </a:lnTo>
                <a:lnTo>
                  <a:pt x="1633" y="2764"/>
                </a:lnTo>
                <a:lnTo>
                  <a:pt x="1505" y="2907"/>
                </a:lnTo>
                <a:lnTo>
                  <a:pt x="950" y="3523"/>
                </a:lnTo>
                <a:lnTo>
                  <a:pt x="1492" y="5254"/>
                </a:lnTo>
                <a:lnTo>
                  <a:pt x="1495" y="5254"/>
                </a:lnTo>
                <a:lnTo>
                  <a:pt x="1497" y="5254"/>
                </a:lnTo>
                <a:lnTo>
                  <a:pt x="1500" y="5254"/>
                </a:lnTo>
                <a:lnTo>
                  <a:pt x="1503" y="525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63680" y="992160"/>
            <a:ext cx="95400" cy="119160"/>
          </a:xfrm>
          <a:custGeom>
            <a:avLst/>
            <a:gdLst/>
            <a:ahLst/>
            <a:rect l="l" t="t" r="r" b="b"/>
            <a:pathLst>
              <a:path w="794" h="1058">
                <a:moveTo>
                  <a:pt x="13" y="1058"/>
                </a:moveTo>
                <a:lnTo>
                  <a:pt x="59" y="1034"/>
                </a:lnTo>
                <a:lnTo>
                  <a:pt x="106" y="1006"/>
                </a:lnTo>
                <a:lnTo>
                  <a:pt x="149" y="978"/>
                </a:lnTo>
                <a:lnTo>
                  <a:pt x="190" y="950"/>
                </a:lnTo>
                <a:lnTo>
                  <a:pt x="232" y="916"/>
                </a:lnTo>
                <a:lnTo>
                  <a:pt x="272" y="884"/>
                </a:lnTo>
                <a:lnTo>
                  <a:pt x="314" y="848"/>
                </a:lnTo>
                <a:lnTo>
                  <a:pt x="354" y="812"/>
                </a:lnTo>
                <a:lnTo>
                  <a:pt x="394" y="770"/>
                </a:lnTo>
                <a:lnTo>
                  <a:pt x="432" y="726"/>
                </a:lnTo>
                <a:lnTo>
                  <a:pt x="468" y="683"/>
                </a:lnTo>
                <a:lnTo>
                  <a:pt x="504" y="640"/>
                </a:lnTo>
                <a:lnTo>
                  <a:pt x="538" y="594"/>
                </a:lnTo>
                <a:lnTo>
                  <a:pt x="570" y="544"/>
                </a:lnTo>
                <a:lnTo>
                  <a:pt x="602" y="498"/>
                </a:lnTo>
                <a:lnTo>
                  <a:pt x="630" y="447"/>
                </a:lnTo>
                <a:lnTo>
                  <a:pt x="658" y="398"/>
                </a:lnTo>
                <a:lnTo>
                  <a:pt x="684" y="344"/>
                </a:lnTo>
                <a:lnTo>
                  <a:pt x="706" y="293"/>
                </a:lnTo>
                <a:lnTo>
                  <a:pt x="727" y="236"/>
                </a:lnTo>
                <a:lnTo>
                  <a:pt x="748" y="180"/>
                </a:lnTo>
                <a:lnTo>
                  <a:pt x="766" y="121"/>
                </a:lnTo>
                <a:lnTo>
                  <a:pt x="781" y="62"/>
                </a:lnTo>
                <a:lnTo>
                  <a:pt x="794" y="0"/>
                </a:lnTo>
                <a:lnTo>
                  <a:pt x="13" y="6"/>
                </a:lnTo>
                <a:lnTo>
                  <a:pt x="0" y="1056"/>
                </a:lnTo>
                <a:lnTo>
                  <a:pt x="3" y="1056"/>
                </a:lnTo>
                <a:lnTo>
                  <a:pt x="8" y="1056"/>
                </a:lnTo>
                <a:lnTo>
                  <a:pt x="11" y="1058"/>
                </a:lnTo>
                <a:lnTo>
                  <a:pt x="13" y="105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19000" y="523800"/>
            <a:ext cx="403200" cy="550800"/>
          </a:xfrm>
          <a:custGeom>
            <a:avLst/>
            <a:gdLst/>
            <a:ahLst/>
            <a:rect l="l" t="t" r="r" b="b"/>
            <a:pathLst>
              <a:path w="3385" h="4876">
                <a:moveTo>
                  <a:pt x="1854" y="4876"/>
                </a:moveTo>
                <a:lnTo>
                  <a:pt x="1857" y="4876"/>
                </a:lnTo>
                <a:lnTo>
                  <a:pt x="1862" y="4876"/>
                </a:lnTo>
                <a:lnTo>
                  <a:pt x="1864" y="4876"/>
                </a:lnTo>
                <a:lnTo>
                  <a:pt x="1867" y="4873"/>
                </a:lnTo>
                <a:lnTo>
                  <a:pt x="1906" y="4726"/>
                </a:lnTo>
                <a:lnTo>
                  <a:pt x="1954" y="4580"/>
                </a:lnTo>
                <a:lnTo>
                  <a:pt x="2008" y="4432"/>
                </a:lnTo>
                <a:lnTo>
                  <a:pt x="2064" y="4280"/>
                </a:lnTo>
                <a:lnTo>
                  <a:pt x="2116" y="4131"/>
                </a:lnTo>
                <a:lnTo>
                  <a:pt x="2158" y="3982"/>
                </a:lnTo>
                <a:lnTo>
                  <a:pt x="2183" y="3839"/>
                </a:lnTo>
                <a:lnTo>
                  <a:pt x="2188" y="3698"/>
                </a:lnTo>
                <a:lnTo>
                  <a:pt x="2116" y="3610"/>
                </a:lnTo>
                <a:lnTo>
                  <a:pt x="2044" y="3526"/>
                </a:lnTo>
                <a:lnTo>
                  <a:pt x="1975" y="3441"/>
                </a:lnTo>
                <a:lnTo>
                  <a:pt x="1903" y="3356"/>
                </a:lnTo>
                <a:lnTo>
                  <a:pt x="1831" y="3269"/>
                </a:lnTo>
                <a:lnTo>
                  <a:pt x="1759" y="3185"/>
                </a:lnTo>
                <a:lnTo>
                  <a:pt x="1687" y="3102"/>
                </a:lnTo>
                <a:lnTo>
                  <a:pt x="1615" y="3017"/>
                </a:lnTo>
                <a:lnTo>
                  <a:pt x="1543" y="2933"/>
                </a:lnTo>
                <a:lnTo>
                  <a:pt x="1471" y="2848"/>
                </a:lnTo>
                <a:lnTo>
                  <a:pt x="1399" y="2763"/>
                </a:lnTo>
                <a:lnTo>
                  <a:pt x="1327" y="2681"/>
                </a:lnTo>
                <a:lnTo>
                  <a:pt x="1255" y="2597"/>
                </a:lnTo>
                <a:lnTo>
                  <a:pt x="1184" y="2512"/>
                </a:lnTo>
                <a:lnTo>
                  <a:pt x="1112" y="2429"/>
                </a:lnTo>
                <a:lnTo>
                  <a:pt x="1040" y="2345"/>
                </a:lnTo>
                <a:lnTo>
                  <a:pt x="2840" y="1893"/>
                </a:lnTo>
                <a:lnTo>
                  <a:pt x="2874" y="1785"/>
                </a:lnTo>
                <a:lnTo>
                  <a:pt x="2907" y="1681"/>
                </a:lnTo>
                <a:lnTo>
                  <a:pt x="2943" y="1573"/>
                </a:lnTo>
                <a:lnTo>
                  <a:pt x="2977" y="1465"/>
                </a:lnTo>
                <a:lnTo>
                  <a:pt x="3013" y="1359"/>
                </a:lnTo>
                <a:lnTo>
                  <a:pt x="3045" y="1252"/>
                </a:lnTo>
                <a:lnTo>
                  <a:pt x="3081" y="1145"/>
                </a:lnTo>
                <a:lnTo>
                  <a:pt x="3115" y="1037"/>
                </a:lnTo>
                <a:lnTo>
                  <a:pt x="3151" y="931"/>
                </a:lnTo>
                <a:lnTo>
                  <a:pt x="3185" y="823"/>
                </a:lnTo>
                <a:lnTo>
                  <a:pt x="3217" y="716"/>
                </a:lnTo>
                <a:lnTo>
                  <a:pt x="3251" y="611"/>
                </a:lnTo>
                <a:lnTo>
                  <a:pt x="3287" y="503"/>
                </a:lnTo>
                <a:lnTo>
                  <a:pt x="3321" y="395"/>
                </a:lnTo>
                <a:lnTo>
                  <a:pt x="3351" y="290"/>
                </a:lnTo>
                <a:lnTo>
                  <a:pt x="3385" y="182"/>
                </a:lnTo>
                <a:lnTo>
                  <a:pt x="3385" y="174"/>
                </a:lnTo>
                <a:lnTo>
                  <a:pt x="3385" y="167"/>
                </a:lnTo>
                <a:lnTo>
                  <a:pt x="3385" y="161"/>
                </a:lnTo>
                <a:lnTo>
                  <a:pt x="3385" y="156"/>
                </a:lnTo>
                <a:lnTo>
                  <a:pt x="3179" y="0"/>
                </a:lnTo>
                <a:lnTo>
                  <a:pt x="2064" y="1511"/>
                </a:lnTo>
                <a:lnTo>
                  <a:pt x="2060" y="1511"/>
                </a:lnTo>
                <a:lnTo>
                  <a:pt x="2054" y="1513"/>
                </a:lnTo>
                <a:lnTo>
                  <a:pt x="2050" y="1517"/>
                </a:lnTo>
                <a:lnTo>
                  <a:pt x="2047" y="1517"/>
                </a:lnTo>
                <a:lnTo>
                  <a:pt x="2000" y="1489"/>
                </a:lnTo>
                <a:lnTo>
                  <a:pt x="1957" y="1457"/>
                </a:lnTo>
                <a:lnTo>
                  <a:pt x="1913" y="1424"/>
                </a:lnTo>
                <a:lnTo>
                  <a:pt x="1872" y="1391"/>
                </a:lnTo>
                <a:lnTo>
                  <a:pt x="1828" y="1355"/>
                </a:lnTo>
                <a:lnTo>
                  <a:pt x="1787" y="1319"/>
                </a:lnTo>
                <a:lnTo>
                  <a:pt x="1746" y="1285"/>
                </a:lnTo>
                <a:lnTo>
                  <a:pt x="1705" y="1249"/>
                </a:lnTo>
                <a:lnTo>
                  <a:pt x="1664" y="1216"/>
                </a:lnTo>
                <a:lnTo>
                  <a:pt x="1621" y="1183"/>
                </a:lnTo>
                <a:lnTo>
                  <a:pt x="1579" y="1149"/>
                </a:lnTo>
                <a:lnTo>
                  <a:pt x="1533" y="1121"/>
                </a:lnTo>
                <a:lnTo>
                  <a:pt x="1489" y="1095"/>
                </a:lnTo>
                <a:lnTo>
                  <a:pt x="1443" y="1070"/>
                </a:lnTo>
                <a:lnTo>
                  <a:pt x="1395" y="1049"/>
                </a:lnTo>
                <a:lnTo>
                  <a:pt x="1345" y="1034"/>
                </a:lnTo>
                <a:lnTo>
                  <a:pt x="1315" y="1041"/>
                </a:lnTo>
                <a:lnTo>
                  <a:pt x="1287" y="1047"/>
                </a:lnTo>
                <a:lnTo>
                  <a:pt x="1259" y="1055"/>
                </a:lnTo>
                <a:lnTo>
                  <a:pt x="1227" y="1062"/>
                </a:lnTo>
                <a:lnTo>
                  <a:pt x="1199" y="1070"/>
                </a:lnTo>
                <a:lnTo>
                  <a:pt x="1171" y="1077"/>
                </a:lnTo>
                <a:lnTo>
                  <a:pt x="1141" y="1085"/>
                </a:lnTo>
                <a:lnTo>
                  <a:pt x="1112" y="1091"/>
                </a:lnTo>
                <a:lnTo>
                  <a:pt x="1084" y="1098"/>
                </a:lnTo>
                <a:lnTo>
                  <a:pt x="1055" y="1106"/>
                </a:lnTo>
                <a:lnTo>
                  <a:pt x="1027" y="1113"/>
                </a:lnTo>
                <a:lnTo>
                  <a:pt x="999" y="1119"/>
                </a:lnTo>
                <a:lnTo>
                  <a:pt x="971" y="1127"/>
                </a:lnTo>
                <a:lnTo>
                  <a:pt x="940" y="1131"/>
                </a:lnTo>
                <a:lnTo>
                  <a:pt x="912" y="1137"/>
                </a:lnTo>
                <a:lnTo>
                  <a:pt x="883" y="1141"/>
                </a:lnTo>
                <a:lnTo>
                  <a:pt x="342" y="1270"/>
                </a:lnTo>
                <a:lnTo>
                  <a:pt x="352" y="1371"/>
                </a:lnTo>
                <a:lnTo>
                  <a:pt x="362" y="1471"/>
                </a:lnTo>
                <a:lnTo>
                  <a:pt x="364" y="1573"/>
                </a:lnTo>
                <a:lnTo>
                  <a:pt x="354" y="1681"/>
                </a:lnTo>
                <a:lnTo>
                  <a:pt x="336" y="1789"/>
                </a:lnTo>
                <a:lnTo>
                  <a:pt x="310" y="1891"/>
                </a:lnTo>
                <a:lnTo>
                  <a:pt x="278" y="1983"/>
                </a:lnTo>
                <a:lnTo>
                  <a:pt x="234" y="2073"/>
                </a:lnTo>
                <a:lnTo>
                  <a:pt x="185" y="2155"/>
                </a:lnTo>
                <a:lnTo>
                  <a:pt x="128" y="2237"/>
                </a:lnTo>
                <a:lnTo>
                  <a:pt x="67" y="2315"/>
                </a:lnTo>
                <a:lnTo>
                  <a:pt x="0" y="2391"/>
                </a:lnTo>
                <a:lnTo>
                  <a:pt x="598" y="3128"/>
                </a:lnTo>
                <a:lnTo>
                  <a:pt x="221" y="4296"/>
                </a:lnTo>
                <a:lnTo>
                  <a:pt x="1854" y="487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33480" y="795240"/>
            <a:ext cx="17640" cy="250920"/>
          </a:xfrm>
          <a:custGeom>
            <a:avLst/>
            <a:gdLst/>
            <a:ahLst/>
            <a:rect l="l" t="t" r="r" b="b"/>
            <a:pathLst>
              <a:path w="154" h="2225">
                <a:moveTo>
                  <a:pt x="0" y="2225"/>
                </a:moveTo>
                <a:lnTo>
                  <a:pt x="72" y="2045"/>
                </a:lnTo>
                <a:lnTo>
                  <a:pt x="116" y="1863"/>
                </a:lnTo>
                <a:lnTo>
                  <a:pt x="139" y="1681"/>
                </a:lnTo>
                <a:lnTo>
                  <a:pt x="146" y="1499"/>
                </a:lnTo>
                <a:lnTo>
                  <a:pt x="146" y="1314"/>
                </a:lnTo>
                <a:lnTo>
                  <a:pt x="144" y="1129"/>
                </a:lnTo>
                <a:lnTo>
                  <a:pt x="144" y="947"/>
                </a:lnTo>
                <a:lnTo>
                  <a:pt x="154" y="762"/>
                </a:lnTo>
                <a:lnTo>
                  <a:pt x="152" y="575"/>
                </a:lnTo>
                <a:lnTo>
                  <a:pt x="146" y="390"/>
                </a:lnTo>
                <a:lnTo>
                  <a:pt x="144" y="206"/>
                </a:lnTo>
                <a:lnTo>
                  <a:pt x="154" y="24"/>
                </a:lnTo>
                <a:lnTo>
                  <a:pt x="144" y="10"/>
                </a:lnTo>
                <a:lnTo>
                  <a:pt x="128" y="2"/>
                </a:lnTo>
                <a:lnTo>
                  <a:pt x="114" y="0"/>
                </a:lnTo>
                <a:lnTo>
                  <a:pt x="96" y="0"/>
                </a:lnTo>
                <a:lnTo>
                  <a:pt x="74" y="2"/>
                </a:lnTo>
                <a:lnTo>
                  <a:pt x="54" y="6"/>
                </a:lnTo>
                <a:lnTo>
                  <a:pt x="36" y="6"/>
                </a:lnTo>
                <a:lnTo>
                  <a:pt x="18" y="6"/>
                </a:lnTo>
                <a:lnTo>
                  <a:pt x="0" y="554"/>
                </a:lnTo>
                <a:lnTo>
                  <a:pt x="0" y="1109"/>
                </a:lnTo>
                <a:lnTo>
                  <a:pt x="6" y="1668"/>
                </a:lnTo>
                <a:lnTo>
                  <a:pt x="0" y="222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4320" y="795240"/>
            <a:ext cx="66600" cy="249480"/>
          </a:xfrm>
          <a:custGeom>
            <a:avLst/>
            <a:gdLst/>
            <a:ahLst/>
            <a:rect l="l" t="t" r="r" b="b"/>
            <a:pathLst>
              <a:path w="567" h="2199">
                <a:moveTo>
                  <a:pt x="565" y="2191"/>
                </a:moveTo>
                <a:lnTo>
                  <a:pt x="565" y="2024"/>
                </a:lnTo>
                <a:lnTo>
                  <a:pt x="567" y="1855"/>
                </a:lnTo>
                <a:lnTo>
                  <a:pt x="560" y="1688"/>
                </a:lnTo>
                <a:lnTo>
                  <a:pt x="531" y="1523"/>
                </a:lnTo>
                <a:lnTo>
                  <a:pt x="493" y="1380"/>
                </a:lnTo>
                <a:lnTo>
                  <a:pt x="455" y="1239"/>
                </a:lnTo>
                <a:lnTo>
                  <a:pt x="416" y="1095"/>
                </a:lnTo>
                <a:lnTo>
                  <a:pt x="380" y="954"/>
                </a:lnTo>
                <a:lnTo>
                  <a:pt x="344" y="813"/>
                </a:lnTo>
                <a:lnTo>
                  <a:pt x="306" y="674"/>
                </a:lnTo>
                <a:lnTo>
                  <a:pt x="267" y="533"/>
                </a:lnTo>
                <a:lnTo>
                  <a:pt x="228" y="394"/>
                </a:lnTo>
                <a:lnTo>
                  <a:pt x="216" y="346"/>
                </a:lnTo>
                <a:lnTo>
                  <a:pt x="203" y="297"/>
                </a:lnTo>
                <a:lnTo>
                  <a:pt x="190" y="250"/>
                </a:lnTo>
                <a:lnTo>
                  <a:pt x="177" y="202"/>
                </a:lnTo>
                <a:lnTo>
                  <a:pt x="162" y="154"/>
                </a:lnTo>
                <a:lnTo>
                  <a:pt x="149" y="104"/>
                </a:lnTo>
                <a:lnTo>
                  <a:pt x="136" y="53"/>
                </a:lnTo>
                <a:lnTo>
                  <a:pt x="126" y="4"/>
                </a:lnTo>
                <a:lnTo>
                  <a:pt x="0" y="0"/>
                </a:lnTo>
                <a:lnTo>
                  <a:pt x="5" y="64"/>
                </a:lnTo>
                <a:lnTo>
                  <a:pt x="16" y="130"/>
                </a:lnTo>
                <a:lnTo>
                  <a:pt x="34" y="200"/>
                </a:lnTo>
                <a:lnTo>
                  <a:pt x="54" y="266"/>
                </a:lnTo>
                <a:lnTo>
                  <a:pt x="74" y="336"/>
                </a:lnTo>
                <a:lnTo>
                  <a:pt x="95" y="404"/>
                </a:lnTo>
                <a:lnTo>
                  <a:pt x="110" y="472"/>
                </a:lnTo>
                <a:lnTo>
                  <a:pt x="123" y="536"/>
                </a:lnTo>
                <a:lnTo>
                  <a:pt x="159" y="666"/>
                </a:lnTo>
                <a:lnTo>
                  <a:pt x="195" y="795"/>
                </a:lnTo>
                <a:lnTo>
                  <a:pt x="231" y="923"/>
                </a:lnTo>
                <a:lnTo>
                  <a:pt x="264" y="1049"/>
                </a:lnTo>
                <a:lnTo>
                  <a:pt x="298" y="1177"/>
                </a:lnTo>
                <a:lnTo>
                  <a:pt x="331" y="1303"/>
                </a:lnTo>
                <a:lnTo>
                  <a:pt x="365" y="1431"/>
                </a:lnTo>
                <a:lnTo>
                  <a:pt x="398" y="1557"/>
                </a:lnTo>
                <a:lnTo>
                  <a:pt x="416" y="1637"/>
                </a:lnTo>
                <a:lnTo>
                  <a:pt x="437" y="1719"/>
                </a:lnTo>
                <a:lnTo>
                  <a:pt x="460" y="1798"/>
                </a:lnTo>
                <a:lnTo>
                  <a:pt x="480" y="1881"/>
                </a:lnTo>
                <a:lnTo>
                  <a:pt x="501" y="1960"/>
                </a:lnTo>
                <a:lnTo>
                  <a:pt x="521" y="2039"/>
                </a:lnTo>
                <a:lnTo>
                  <a:pt x="542" y="2119"/>
                </a:lnTo>
                <a:lnTo>
                  <a:pt x="560" y="2199"/>
                </a:lnTo>
                <a:lnTo>
                  <a:pt x="560" y="2199"/>
                </a:lnTo>
                <a:lnTo>
                  <a:pt x="563" y="2193"/>
                </a:lnTo>
                <a:lnTo>
                  <a:pt x="565" y="2191"/>
                </a:lnTo>
                <a:lnTo>
                  <a:pt x="565" y="219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54080" y="912960"/>
            <a:ext cx="54000" cy="93600"/>
          </a:xfrm>
          <a:custGeom>
            <a:avLst/>
            <a:gdLst/>
            <a:ahLst/>
            <a:rect l="l" t="t" r="r" b="b"/>
            <a:pathLst>
              <a:path w="444" h="829">
                <a:moveTo>
                  <a:pt x="28" y="824"/>
                </a:moveTo>
                <a:lnTo>
                  <a:pt x="429" y="829"/>
                </a:lnTo>
                <a:lnTo>
                  <a:pt x="432" y="826"/>
                </a:lnTo>
                <a:lnTo>
                  <a:pt x="437" y="822"/>
                </a:lnTo>
                <a:lnTo>
                  <a:pt x="440" y="819"/>
                </a:lnTo>
                <a:lnTo>
                  <a:pt x="444" y="814"/>
                </a:lnTo>
                <a:lnTo>
                  <a:pt x="224" y="0"/>
                </a:lnTo>
                <a:lnTo>
                  <a:pt x="0" y="814"/>
                </a:lnTo>
                <a:lnTo>
                  <a:pt x="2" y="819"/>
                </a:lnTo>
                <a:lnTo>
                  <a:pt x="6" y="822"/>
                </a:lnTo>
                <a:lnTo>
                  <a:pt x="10" y="826"/>
                </a:lnTo>
                <a:lnTo>
                  <a:pt x="14" y="829"/>
                </a:lnTo>
                <a:lnTo>
                  <a:pt x="16" y="829"/>
                </a:lnTo>
                <a:lnTo>
                  <a:pt x="20" y="826"/>
                </a:lnTo>
                <a:lnTo>
                  <a:pt x="26" y="824"/>
                </a:lnTo>
                <a:lnTo>
                  <a:pt x="28" y="82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2440" y="914400"/>
            <a:ext cx="17280" cy="79200"/>
          </a:xfrm>
          <a:custGeom>
            <a:avLst/>
            <a:gdLst/>
            <a:ahLst/>
            <a:rect l="l" t="t" r="r" b="b"/>
            <a:pathLst>
              <a:path w="146" h="691">
                <a:moveTo>
                  <a:pt x="6" y="691"/>
                </a:moveTo>
                <a:lnTo>
                  <a:pt x="128" y="691"/>
                </a:lnTo>
                <a:lnTo>
                  <a:pt x="146" y="529"/>
                </a:lnTo>
                <a:lnTo>
                  <a:pt x="146" y="357"/>
                </a:lnTo>
                <a:lnTo>
                  <a:pt x="140" y="180"/>
                </a:lnTo>
                <a:lnTo>
                  <a:pt x="138" y="11"/>
                </a:lnTo>
                <a:lnTo>
                  <a:pt x="6" y="0"/>
                </a:lnTo>
                <a:lnTo>
                  <a:pt x="0" y="688"/>
                </a:lnTo>
                <a:lnTo>
                  <a:pt x="0" y="688"/>
                </a:lnTo>
                <a:lnTo>
                  <a:pt x="4" y="688"/>
                </a:lnTo>
                <a:lnTo>
                  <a:pt x="6" y="691"/>
                </a:lnTo>
                <a:lnTo>
                  <a:pt x="6" y="69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49440" y="914400"/>
            <a:ext cx="41400" cy="79200"/>
          </a:xfrm>
          <a:custGeom>
            <a:avLst/>
            <a:gdLst/>
            <a:ahLst/>
            <a:rect l="l" t="t" r="r" b="b"/>
            <a:pathLst>
              <a:path w="344" h="691">
                <a:moveTo>
                  <a:pt x="21" y="691"/>
                </a:moveTo>
                <a:lnTo>
                  <a:pt x="326" y="691"/>
                </a:lnTo>
                <a:lnTo>
                  <a:pt x="344" y="529"/>
                </a:lnTo>
                <a:lnTo>
                  <a:pt x="339" y="357"/>
                </a:lnTo>
                <a:lnTo>
                  <a:pt x="334" y="183"/>
                </a:lnTo>
                <a:lnTo>
                  <a:pt x="344" y="11"/>
                </a:lnTo>
                <a:lnTo>
                  <a:pt x="21" y="0"/>
                </a:lnTo>
                <a:lnTo>
                  <a:pt x="3" y="103"/>
                </a:lnTo>
                <a:lnTo>
                  <a:pt x="0" y="214"/>
                </a:lnTo>
                <a:lnTo>
                  <a:pt x="5" y="326"/>
                </a:lnTo>
                <a:lnTo>
                  <a:pt x="3" y="437"/>
                </a:lnTo>
                <a:lnTo>
                  <a:pt x="5" y="496"/>
                </a:lnTo>
                <a:lnTo>
                  <a:pt x="11" y="555"/>
                </a:lnTo>
                <a:lnTo>
                  <a:pt x="11" y="614"/>
                </a:lnTo>
                <a:lnTo>
                  <a:pt x="3" y="670"/>
                </a:lnTo>
                <a:lnTo>
                  <a:pt x="5" y="678"/>
                </a:lnTo>
                <a:lnTo>
                  <a:pt x="7" y="683"/>
                </a:lnTo>
                <a:lnTo>
                  <a:pt x="11" y="686"/>
                </a:lnTo>
                <a:lnTo>
                  <a:pt x="11" y="688"/>
                </a:lnTo>
                <a:lnTo>
                  <a:pt x="13" y="688"/>
                </a:lnTo>
                <a:lnTo>
                  <a:pt x="15" y="688"/>
                </a:lnTo>
                <a:lnTo>
                  <a:pt x="18" y="691"/>
                </a:lnTo>
                <a:lnTo>
                  <a:pt x="21" y="69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60480" y="795240"/>
            <a:ext cx="42840" cy="171720"/>
          </a:xfrm>
          <a:custGeom>
            <a:avLst/>
            <a:gdLst/>
            <a:ahLst/>
            <a:rect l="l" t="t" r="r" b="b"/>
            <a:pathLst>
              <a:path w="360" h="1520">
                <a:moveTo>
                  <a:pt x="8" y="1512"/>
                </a:moveTo>
                <a:lnTo>
                  <a:pt x="36" y="1420"/>
                </a:lnTo>
                <a:lnTo>
                  <a:pt x="64" y="1327"/>
                </a:lnTo>
                <a:lnTo>
                  <a:pt x="94" y="1235"/>
                </a:lnTo>
                <a:lnTo>
                  <a:pt x="128" y="1140"/>
                </a:lnTo>
                <a:lnTo>
                  <a:pt x="162" y="1048"/>
                </a:lnTo>
                <a:lnTo>
                  <a:pt x="195" y="955"/>
                </a:lnTo>
                <a:lnTo>
                  <a:pt x="226" y="863"/>
                </a:lnTo>
                <a:lnTo>
                  <a:pt x="256" y="770"/>
                </a:lnTo>
                <a:lnTo>
                  <a:pt x="285" y="678"/>
                </a:lnTo>
                <a:lnTo>
                  <a:pt x="308" y="586"/>
                </a:lnTo>
                <a:lnTo>
                  <a:pt x="328" y="491"/>
                </a:lnTo>
                <a:lnTo>
                  <a:pt x="344" y="398"/>
                </a:lnTo>
                <a:lnTo>
                  <a:pt x="357" y="304"/>
                </a:lnTo>
                <a:lnTo>
                  <a:pt x="360" y="211"/>
                </a:lnTo>
                <a:lnTo>
                  <a:pt x="357" y="116"/>
                </a:lnTo>
                <a:lnTo>
                  <a:pt x="346" y="22"/>
                </a:lnTo>
                <a:lnTo>
                  <a:pt x="310" y="8"/>
                </a:lnTo>
                <a:lnTo>
                  <a:pt x="272" y="4"/>
                </a:lnTo>
                <a:lnTo>
                  <a:pt x="231" y="0"/>
                </a:lnTo>
                <a:lnTo>
                  <a:pt x="190" y="0"/>
                </a:lnTo>
                <a:lnTo>
                  <a:pt x="148" y="4"/>
                </a:lnTo>
                <a:lnTo>
                  <a:pt x="106" y="6"/>
                </a:lnTo>
                <a:lnTo>
                  <a:pt x="62" y="6"/>
                </a:lnTo>
                <a:lnTo>
                  <a:pt x="20" y="4"/>
                </a:lnTo>
                <a:lnTo>
                  <a:pt x="2" y="378"/>
                </a:lnTo>
                <a:lnTo>
                  <a:pt x="0" y="758"/>
                </a:lnTo>
                <a:lnTo>
                  <a:pt x="6" y="1140"/>
                </a:lnTo>
                <a:lnTo>
                  <a:pt x="2" y="1520"/>
                </a:lnTo>
                <a:lnTo>
                  <a:pt x="2" y="1520"/>
                </a:lnTo>
                <a:lnTo>
                  <a:pt x="6" y="1515"/>
                </a:lnTo>
                <a:lnTo>
                  <a:pt x="8" y="1512"/>
                </a:lnTo>
                <a:lnTo>
                  <a:pt x="8" y="151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11320" y="795240"/>
            <a:ext cx="39600" cy="152640"/>
          </a:xfrm>
          <a:custGeom>
            <a:avLst/>
            <a:gdLst/>
            <a:ahLst/>
            <a:rect l="l" t="t" r="r" b="b"/>
            <a:pathLst>
              <a:path w="349" h="1352">
                <a:moveTo>
                  <a:pt x="347" y="1349"/>
                </a:moveTo>
                <a:lnTo>
                  <a:pt x="349" y="1182"/>
                </a:lnTo>
                <a:lnTo>
                  <a:pt x="349" y="1013"/>
                </a:lnTo>
                <a:lnTo>
                  <a:pt x="349" y="846"/>
                </a:lnTo>
                <a:lnTo>
                  <a:pt x="342" y="677"/>
                </a:lnTo>
                <a:lnTo>
                  <a:pt x="327" y="510"/>
                </a:lnTo>
                <a:lnTo>
                  <a:pt x="301" y="340"/>
                </a:lnTo>
                <a:lnTo>
                  <a:pt x="262" y="174"/>
                </a:lnTo>
                <a:lnTo>
                  <a:pt x="208" y="4"/>
                </a:lnTo>
                <a:lnTo>
                  <a:pt x="0" y="0"/>
                </a:lnTo>
                <a:lnTo>
                  <a:pt x="34" y="164"/>
                </a:lnTo>
                <a:lnTo>
                  <a:pt x="72" y="330"/>
                </a:lnTo>
                <a:lnTo>
                  <a:pt x="116" y="497"/>
                </a:lnTo>
                <a:lnTo>
                  <a:pt x="162" y="666"/>
                </a:lnTo>
                <a:lnTo>
                  <a:pt x="211" y="838"/>
                </a:lnTo>
                <a:lnTo>
                  <a:pt x="257" y="1010"/>
                </a:lnTo>
                <a:lnTo>
                  <a:pt x="301" y="1180"/>
                </a:lnTo>
                <a:lnTo>
                  <a:pt x="342" y="1352"/>
                </a:lnTo>
                <a:lnTo>
                  <a:pt x="342" y="1352"/>
                </a:lnTo>
                <a:lnTo>
                  <a:pt x="345" y="1349"/>
                </a:lnTo>
                <a:lnTo>
                  <a:pt x="347" y="1349"/>
                </a:lnTo>
                <a:lnTo>
                  <a:pt x="347" y="134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63680" y="795240"/>
            <a:ext cx="93600" cy="125640"/>
          </a:xfrm>
          <a:custGeom>
            <a:avLst/>
            <a:gdLst/>
            <a:ahLst/>
            <a:rect l="l" t="t" r="r" b="b"/>
            <a:pathLst>
              <a:path w="781" h="1106">
                <a:moveTo>
                  <a:pt x="13" y="1106"/>
                </a:moveTo>
                <a:lnTo>
                  <a:pt x="766" y="1106"/>
                </a:lnTo>
                <a:lnTo>
                  <a:pt x="778" y="1076"/>
                </a:lnTo>
                <a:lnTo>
                  <a:pt x="781" y="1042"/>
                </a:lnTo>
                <a:lnTo>
                  <a:pt x="776" y="1006"/>
                </a:lnTo>
                <a:lnTo>
                  <a:pt x="768" y="968"/>
                </a:lnTo>
                <a:lnTo>
                  <a:pt x="756" y="929"/>
                </a:lnTo>
                <a:lnTo>
                  <a:pt x="742" y="891"/>
                </a:lnTo>
                <a:lnTo>
                  <a:pt x="730" y="852"/>
                </a:lnTo>
                <a:lnTo>
                  <a:pt x="720" y="816"/>
                </a:lnTo>
                <a:lnTo>
                  <a:pt x="694" y="758"/>
                </a:lnTo>
                <a:lnTo>
                  <a:pt x="666" y="696"/>
                </a:lnTo>
                <a:lnTo>
                  <a:pt x="634" y="637"/>
                </a:lnTo>
                <a:lnTo>
                  <a:pt x="602" y="580"/>
                </a:lnTo>
                <a:lnTo>
                  <a:pt x="566" y="522"/>
                </a:lnTo>
                <a:lnTo>
                  <a:pt x="526" y="465"/>
                </a:lnTo>
                <a:lnTo>
                  <a:pt x="486" y="411"/>
                </a:lnTo>
                <a:lnTo>
                  <a:pt x="444" y="357"/>
                </a:lnTo>
                <a:lnTo>
                  <a:pt x="398" y="306"/>
                </a:lnTo>
                <a:lnTo>
                  <a:pt x="352" y="257"/>
                </a:lnTo>
                <a:lnTo>
                  <a:pt x="306" y="210"/>
                </a:lnTo>
                <a:lnTo>
                  <a:pt x="254" y="164"/>
                </a:lnTo>
                <a:lnTo>
                  <a:pt x="203" y="124"/>
                </a:lnTo>
                <a:lnTo>
                  <a:pt x="152" y="82"/>
                </a:lnTo>
                <a:lnTo>
                  <a:pt x="98" y="46"/>
                </a:lnTo>
                <a:lnTo>
                  <a:pt x="41" y="14"/>
                </a:lnTo>
                <a:lnTo>
                  <a:pt x="31" y="14"/>
                </a:lnTo>
                <a:lnTo>
                  <a:pt x="23" y="10"/>
                </a:lnTo>
                <a:lnTo>
                  <a:pt x="18" y="6"/>
                </a:lnTo>
                <a:lnTo>
                  <a:pt x="13" y="0"/>
                </a:lnTo>
                <a:lnTo>
                  <a:pt x="0" y="1106"/>
                </a:lnTo>
                <a:lnTo>
                  <a:pt x="3" y="1106"/>
                </a:lnTo>
                <a:lnTo>
                  <a:pt x="8" y="1106"/>
                </a:lnTo>
                <a:lnTo>
                  <a:pt x="11" y="1106"/>
                </a:lnTo>
                <a:lnTo>
                  <a:pt x="13" y="11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35240" y="785880"/>
            <a:ext cx="18720" cy="119160"/>
          </a:xfrm>
          <a:custGeom>
            <a:avLst/>
            <a:gdLst/>
            <a:ahLst/>
            <a:rect l="l" t="t" r="r" b="b"/>
            <a:pathLst>
              <a:path w="154" h="1054">
                <a:moveTo>
                  <a:pt x="154" y="1049"/>
                </a:moveTo>
                <a:lnTo>
                  <a:pt x="154" y="50"/>
                </a:lnTo>
                <a:lnTo>
                  <a:pt x="10" y="0"/>
                </a:lnTo>
                <a:lnTo>
                  <a:pt x="5" y="214"/>
                </a:lnTo>
                <a:lnTo>
                  <a:pt x="0" y="438"/>
                </a:lnTo>
                <a:lnTo>
                  <a:pt x="2" y="658"/>
                </a:lnTo>
                <a:lnTo>
                  <a:pt x="20" y="874"/>
                </a:lnTo>
                <a:lnTo>
                  <a:pt x="44" y="897"/>
                </a:lnTo>
                <a:lnTo>
                  <a:pt x="62" y="920"/>
                </a:lnTo>
                <a:lnTo>
                  <a:pt x="80" y="941"/>
                </a:lnTo>
                <a:lnTo>
                  <a:pt x="98" y="962"/>
                </a:lnTo>
                <a:lnTo>
                  <a:pt x="113" y="984"/>
                </a:lnTo>
                <a:lnTo>
                  <a:pt x="126" y="1005"/>
                </a:lnTo>
                <a:lnTo>
                  <a:pt x="138" y="1028"/>
                </a:lnTo>
                <a:lnTo>
                  <a:pt x="149" y="1054"/>
                </a:lnTo>
                <a:lnTo>
                  <a:pt x="149" y="1054"/>
                </a:lnTo>
                <a:lnTo>
                  <a:pt x="152" y="1051"/>
                </a:lnTo>
                <a:lnTo>
                  <a:pt x="154" y="1049"/>
                </a:lnTo>
                <a:lnTo>
                  <a:pt x="154" y="104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2440" y="793800"/>
            <a:ext cx="14400" cy="79200"/>
          </a:xfrm>
          <a:custGeom>
            <a:avLst/>
            <a:gdLst/>
            <a:ahLst/>
            <a:rect l="l" t="t" r="r" b="b"/>
            <a:pathLst>
              <a:path w="132" h="701">
                <a:moveTo>
                  <a:pt x="10" y="701"/>
                </a:moveTo>
                <a:lnTo>
                  <a:pt x="122" y="701"/>
                </a:lnTo>
                <a:lnTo>
                  <a:pt x="132" y="14"/>
                </a:lnTo>
                <a:lnTo>
                  <a:pt x="22" y="0"/>
                </a:lnTo>
                <a:lnTo>
                  <a:pt x="4" y="164"/>
                </a:lnTo>
                <a:lnTo>
                  <a:pt x="0" y="342"/>
                </a:lnTo>
                <a:lnTo>
                  <a:pt x="6" y="522"/>
                </a:lnTo>
                <a:lnTo>
                  <a:pt x="4" y="696"/>
                </a:lnTo>
                <a:lnTo>
                  <a:pt x="4" y="696"/>
                </a:lnTo>
                <a:lnTo>
                  <a:pt x="8" y="698"/>
                </a:lnTo>
                <a:lnTo>
                  <a:pt x="10" y="701"/>
                </a:lnTo>
                <a:lnTo>
                  <a:pt x="10" y="70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49440" y="793800"/>
            <a:ext cx="39600" cy="79200"/>
          </a:xfrm>
          <a:custGeom>
            <a:avLst/>
            <a:gdLst/>
            <a:ahLst/>
            <a:rect l="l" t="t" r="r" b="b"/>
            <a:pathLst>
              <a:path w="336" h="701">
                <a:moveTo>
                  <a:pt x="8" y="701"/>
                </a:moveTo>
                <a:lnTo>
                  <a:pt x="323" y="701"/>
                </a:lnTo>
                <a:lnTo>
                  <a:pt x="336" y="14"/>
                </a:lnTo>
                <a:lnTo>
                  <a:pt x="8" y="0"/>
                </a:lnTo>
                <a:lnTo>
                  <a:pt x="0" y="696"/>
                </a:lnTo>
                <a:lnTo>
                  <a:pt x="0" y="696"/>
                </a:lnTo>
                <a:lnTo>
                  <a:pt x="4" y="698"/>
                </a:lnTo>
                <a:lnTo>
                  <a:pt x="8" y="701"/>
                </a:lnTo>
                <a:lnTo>
                  <a:pt x="8" y="70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6880" y="577800"/>
            <a:ext cx="250920" cy="239760"/>
          </a:xfrm>
          <a:custGeom>
            <a:avLst/>
            <a:gdLst/>
            <a:ahLst/>
            <a:rect l="l" t="t" r="r" b="b"/>
            <a:pathLst>
              <a:path w="2104" h="2124">
                <a:moveTo>
                  <a:pt x="1076" y="2124"/>
                </a:moveTo>
                <a:lnTo>
                  <a:pt x="1102" y="2124"/>
                </a:lnTo>
                <a:lnTo>
                  <a:pt x="1125" y="2124"/>
                </a:lnTo>
                <a:lnTo>
                  <a:pt x="1148" y="2119"/>
                </a:lnTo>
                <a:lnTo>
                  <a:pt x="1171" y="2108"/>
                </a:lnTo>
                <a:lnTo>
                  <a:pt x="1191" y="2098"/>
                </a:lnTo>
                <a:lnTo>
                  <a:pt x="1209" y="2084"/>
                </a:lnTo>
                <a:lnTo>
                  <a:pt x="1227" y="2066"/>
                </a:lnTo>
                <a:lnTo>
                  <a:pt x="1243" y="2044"/>
                </a:lnTo>
                <a:lnTo>
                  <a:pt x="1269" y="1996"/>
                </a:lnTo>
                <a:lnTo>
                  <a:pt x="1273" y="1948"/>
                </a:lnTo>
                <a:lnTo>
                  <a:pt x="1267" y="1896"/>
                </a:lnTo>
                <a:lnTo>
                  <a:pt x="1251" y="1844"/>
                </a:lnTo>
                <a:lnTo>
                  <a:pt x="1233" y="1796"/>
                </a:lnTo>
                <a:lnTo>
                  <a:pt x="1220" y="1747"/>
                </a:lnTo>
                <a:lnTo>
                  <a:pt x="1215" y="1698"/>
                </a:lnTo>
                <a:lnTo>
                  <a:pt x="1225" y="1654"/>
                </a:lnTo>
                <a:lnTo>
                  <a:pt x="1231" y="1650"/>
                </a:lnTo>
                <a:lnTo>
                  <a:pt x="1235" y="1642"/>
                </a:lnTo>
                <a:lnTo>
                  <a:pt x="1237" y="1640"/>
                </a:lnTo>
                <a:lnTo>
                  <a:pt x="1241" y="1636"/>
                </a:lnTo>
                <a:lnTo>
                  <a:pt x="1249" y="1632"/>
                </a:lnTo>
                <a:lnTo>
                  <a:pt x="1259" y="1628"/>
                </a:lnTo>
                <a:lnTo>
                  <a:pt x="1269" y="1624"/>
                </a:lnTo>
                <a:lnTo>
                  <a:pt x="1281" y="1622"/>
                </a:lnTo>
                <a:lnTo>
                  <a:pt x="1295" y="1622"/>
                </a:lnTo>
                <a:lnTo>
                  <a:pt x="1307" y="1622"/>
                </a:lnTo>
                <a:lnTo>
                  <a:pt x="1317" y="1622"/>
                </a:lnTo>
                <a:lnTo>
                  <a:pt x="1331" y="1626"/>
                </a:lnTo>
                <a:lnTo>
                  <a:pt x="1363" y="1668"/>
                </a:lnTo>
                <a:lnTo>
                  <a:pt x="1391" y="1714"/>
                </a:lnTo>
                <a:lnTo>
                  <a:pt x="1421" y="1762"/>
                </a:lnTo>
                <a:lnTo>
                  <a:pt x="1451" y="1808"/>
                </a:lnTo>
                <a:lnTo>
                  <a:pt x="1485" y="1850"/>
                </a:lnTo>
                <a:lnTo>
                  <a:pt x="1525" y="1886"/>
                </a:lnTo>
                <a:lnTo>
                  <a:pt x="1577" y="1914"/>
                </a:lnTo>
                <a:lnTo>
                  <a:pt x="1639" y="1930"/>
                </a:lnTo>
                <a:lnTo>
                  <a:pt x="1659" y="1930"/>
                </a:lnTo>
                <a:lnTo>
                  <a:pt x="1677" y="1924"/>
                </a:lnTo>
                <a:lnTo>
                  <a:pt x="1695" y="1919"/>
                </a:lnTo>
                <a:lnTo>
                  <a:pt x="1713" y="1912"/>
                </a:lnTo>
                <a:lnTo>
                  <a:pt x="1728" y="1904"/>
                </a:lnTo>
                <a:lnTo>
                  <a:pt x="1744" y="1894"/>
                </a:lnTo>
                <a:lnTo>
                  <a:pt x="1757" y="1883"/>
                </a:lnTo>
                <a:lnTo>
                  <a:pt x="1767" y="1870"/>
                </a:lnTo>
                <a:lnTo>
                  <a:pt x="1790" y="1822"/>
                </a:lnTo>
                <a:lnTo>
                  <a:pt x="1790" y="1764"/>
                </a:lnTo>
                <a:lnTo>
                  <a:pt x="1775" y="1708"/>
                </a:lnTo>
                <a:lnTo>
                  <a:pt x="1754" y="1654"/>
                </a:lnTo>
                <a:lnTo>
                  <a:pt x="1726" y="1622"/>
                </a:lnTo>
                <a:lnTo>
                  <a:pt x="1693" y="1596"/>
                </a:lnTo>
                <a:lnTo>
                  <a:pt x="1661" y="1572"/>
                </a:lnTo>
                <a:lnTo>
                  <a:pt x="1628" y="1554"/>
                </a:lnTo>
                <a:lnTo>
                  <a:pt x="1600" y="1534"/>
                </a:lnTo>
                <a:lnTo>
                  <a:pt x="1575" y="1510"/>
                </a:lnTo>
                <a:lnTo>
                  <a:pt x="1553" y="1482"/>
                </a:lnTo>
                <a:lnTo>
                  <a:pt x="1541" y="1446"/>
                </a:lnTo>
                <a:lnTo>
                  <a:pt x="1543" y="1422"/>
                </a:lnTo>
                <a:lnTo>
                  <a:pt x="1553" y="1398"/>
                </a:lnTo>
                <a:lnTo>
                  <a:pt x="1567" y="1382"/>
                </a:lnTo>
                <a:lnTo>
                  <a:pt x="1582" y="1370"/>
                </a:lnTo>
                <a:lnTo>
                  <a:pt x="1610" y="1372"/>
                </a:lnTo>
                <a:lnTo>
                  <a:pt x="1639" y="1378"/>
                </a:lnTo>
                <a:lnTo>
                  <a:pt x="1667" y="1386"/>
                </a:lnTo>
                <a:lnTo>
                  <a:pt x="1695" y="1396"/>
                </a:lnTo>
                <a:lnTo>
                  <a:pt x="1721" y="1406"/>
                </a:lnTo>
                <a:lnTo>
                  <a:pt x="1749" y="1416"/>
                </a:lnTo>
                <a:lnTo>
                  <a:pt x="1775" y="1424"/>
                </a:lnTo>
                <a:lnTo>
                  <a:pt x="1803" y="1434"/>
                </a:lnTo>
                <a:lnTo>
                  <a:pt x="1829" y="1442"/>
                </a:lnTo>
                <a:lnTo>
                  <a:pt x="1857" y="1450"/>
                </a:lnTo>
                <a:lnTo>
                  <a:pt x="1882" y="1454"/>
                </a:lnTo>
                <a:lnTo>
                  <a:pt x="1911" y="1458"/>
                </a:lnTo>
                <a:lnTo>
                  <a:pt x="1939" y="1458"/>
                </a:lnTo>
                <a:lnTo>
                  <a:pt x="1970" y="1452"/>
                </a:lnTo>
                <a:lnTo>
                  <a:pt x="1998" y="1444"/>
                </a:lnTo>
                <a:lnTo>
                  <a:pt x="2029" y="1432"/>
                </a:lnTo>
                <a:lnTo>
                  <a:pt x="2047" y="1416"/>
                </a:lnTo>
                <a:lnTo>
                  <a:pt x="2062" y="1400"/>
                </a:lnTo>
                <a:lnTo>
                  <a:pt x="2075" y="1382"/>
                </a:lnTo>
                <a:lnTo>
                  <a:pt x="2088" y="1364"/>
                </a:lnTo>
                <a:lnTo>
                  <a:pt x="2096" y="1344"/>
                </a:lnTo>
                <a:lnTo>
                  <a:pt x="2100" y="1326"/>
                </a:lnTo>
                <a:lnTo>
                  <a:pt x="2104" y="1304"/>
                </a:lnTo>
                <a:lnTo>
                  <a:pt x="2100" y="1280"/>
                </a:lnTo>
                <a:lnTo>
                  <a:pt x="2088" y="1250"/>
                </a:lnTo>
                <a:lnTo>
                  <a:pt x="2072" y="1226"/>
                </a:lnTo>
                <a:lnTo>
                  <a:pt x="2054" y="1206"/>
                </a:lnTo>
                <a:lnTo>
                  <a:pt x="2034" y="1188"/>
                </a:lnTo>
                <a:lnTo>
                  <a:pt x="2011" y="1172"/>
                </a:lnTo>
                <a:lnTo>
                  <a:pt x="1988" y="1156"/>
                </a:lnTo>
                <a:lnTo>
                  <a:pt x="1965" y="1144"/>
                </a:lnTo>
                <a:lnTo>
                  <a:pt x="1939" y="1128"/>
                </a:lnTo>
                <a:lnTo>
                  <a:pt x="1903" y="1121"/>
                </a:lnTo>
                <a:lnTo>
                  <a:pt x="1870" y="1118"/>
                </a:lnTo>
                <a:lnTo>
                  <a:pt x="1834" y="1118"/>
                </a:lnTo>
                <a:lnTo>
                  <a:pt x="1800" y="1118"/>
                </a:lnTo>
                <a:lnTo>
                  <a:pt x="1767" y="1118"/>
                </a:lnTo>
                <a:lnTo>
                  <a:pt x="1733" y="1114"/>
                </a:lnTo>
                <a:lnTo>
                  <a:pt x="1703" y="1106"/>
                </a:lnTo>
                <a:lnTo>
                  <a:pt x="1675" y="1090"/>
                </a:lnTo>
                <a:lnTo>
                  <a:pt x="1661" y="972"/>
                </a:lnTo>
                <a:lnTo>
                  <a:pt x="1669" y="962"/>
                </a:lnTo>
                <a:lnTo>
                  <a:pt x="1679" y="946"/>
                </a:lnTo>
                <a:lnTo>
                  <a:pt x="1693" y="936"/>
                </a:lnTo>
                <a:lnTo>
                  <a:pt x="1711" y="931"/>
                </a:lnTo>
                <a:lnTo>
                  <a:pt x="1757" y="928"/>
                </a:lnTo>
                <a:lnTo>
                  <a:pt x="1800" y="924"/>
                </a:lnTo>
                <a:lnTo>
                  <a:pt x="1847" y="916"/>
                </a:lnTo>
                <a:lnTo>
                  <a:pt x="1890" y="902"/>
                </a:lnTo>
                <a:lnTo>
                  <a:pt x="1931" y="884"/>
                </a:lnTo>
                <a:lnTo>
                  <a:pt x="1970" y="862"/>
                </a:lnTo>
                <a:lnTo>
                  <a:pt x="2006" y="836"/>
                </a:lnTo>
                <a:lnTo>
                  <a:pt x="2036" y="802"/>
                </a:lnTo>
                <a:lnTo>
                  <a:pt x="2054" y="754"/>
                </a:lnTo>
                <a:lnTo>
                  <a:pt x="2057" y="708"/>
                </a:lnTo>
                <a:lnTo>
                  <a:pt x="2052" y="662"/>
                </a:lnTo>
                <a:lnTo>
                  <a:pt x="2036" y="623"/>
                </a:lnTo>
                <a:lnTo>
                  <a:pt x="2014" y="605"/>
                </a:lnTo>
                <a:lnTo>
                  <a:pt x="1988" y="590"/>
                </a:lnTo>
                <a:lnTo>
                  <a:pt x="1962" y="580"/>
                </a:lnTo>
                <a:lnTo>
                  <a:pt x="1934" y="574"/>
                </a:lnTo>
                <a:lnTo>
                  <a:pt x="1906" y="569"/>
                </a:lnTo>
                <a:lnTo>
                  <a:pt x="1880" y="569"/>
                </a:lnTo>
                <a:lnTo>
                  <a:pt x="1852" y="574"/>
                </a:lnTo>
                <a:lnTo>
                  <a:pt x="1829" y="580"/>
                </a:lnTo>
                <a:lnTo>
                  <a:pt x="1785" y="587"/>
                </a:lnTo>
                <a:lnTo>
                  <a:pt x="1749" y="605"/>
                </a:lnTo>
                <a:lnTo>
                  <a:pt x="1713" y="626"/>
                </a:lnTo>
                <a:lnTo>
                  <a:pt x="1682" y="648"/>
                </a:lnTo>
                <a:lnTo>
                  <a:pt x="1649" y="670"/>
                </a:lnTo>
                <a:lnTo>
                  <a:pt x="1618" y="688"/>
                </a:lnTo>
                <a:lnTo>
                  <a:pt x="1585" y="698"/>
                </a:lnTo>
                <a:lnTo>
                  <a:pt x="1546" y="698"/>
                </a:lnTo>
                <a:lnTo>
                  <a:pt x="1523" y="674"/>
                </a:lnTo>
                <a:lnTo>
                  <a:pt x="1503" y="648"/>
                </a:lnTo>
                <a:lnTo>
                  <a:pt x="1487" y="620"/>
                </a:lnTo>
                <a:lnTo>
                  <a:pt x="1487" y="587"/>
                </a:lnTo>
                <a:lnTo>
                  <a:pt x="1495" y="574"/>
                </a:lnTo>
                <a:lnTo>
                  <a:pt x="1499" y="562"/>
                </a:lnTo>
                <a:lnTo>
                  <a:pt x="1503" y="552"/>
                </a:lnTo>
                <a:lnTo>
                  <a:pt x="1510" y="541"/>
                </a:lnTo>
                <a:lnTo>
                  <a:pt x="1621" y="423"/>
                </a:lnTo>
                <a:lnTo>
                  <a:pt x="1643" y="366"/>
                </a:lnTo>
                <a:lnTo>
                  <a:pt x="1659" y="308"/>
                </a:lnTo>
                <a:lnTo>
                  <a:pt x="1667" y="243"/>
                </a:lnTo>
                <a:lnTo>
                  <a:pt x="1661" y="176"/>
                </a:lnTo>
                <a:lnTo>
                  <a:pt x="1651" y="161"/>
                </a:lnTo>
                <a:lnTo>
                  <a:pt x="1639" y="148"/>
                </a:lnTo>
                <a:lnTo>
                  <a:pt x="1623" y="136"/>
                </a:lnTo>
                <a:lnTo>
                  <a:pt x="1607" y="125"/>
                </a:lnTo>
                <a:lnTo>
                  <a:pt x="1589" y="115"/>
                </a:lnTo>
                <a:lnTo>
                  <a:pt x="1569" y="107"/>
                </a:lnTo>
                <a:lnTo>
                  <a:pt x="1549" y="102"/>
                </a:lnTo>
                <a:lnTo>
                  <a:pt x="1528" y="100"/>
                </a:lnTo>
                <a:lnTo>
                  <a:pt x="1497" y="105"/>
                </a:lnTo>
                <a:lnTo>
                  <a:pt x="1469" y="118"/>
                </a:lnTo>
                <a:lnTo>
                  <a:pt x="1443" y="130"/>
                </a:lnTo>
                <a:lnTo>
                  <a:pt x="1421" y="148"/>
                </a:lnTo>
                <a:lnTo>
                  <a:pt x="1399" y="169"/>
                </a:lnTo>
                <a:lnTo>
                  <a:pt x="1379" y="190"/>
                </a:lnTo>
                <a:lnTo>
                  <a:pt x="1361" y="212"/>
                </a:lnTo>
                <a:lnTo>
                  <a:pt x="1345" y="233"/>
                </a:lnTo>
                <a:lnTo>
                  <a:pt x="1323" y="279"/>
                </a:lnTo>
                <a:lnTo>
                  <a:pt x="1307" y="328"/>
                </a:lnTo>
                <a:lnTo>
                  <a:pt x="1295" y="380"/>
                </a:lnTo>
                <a:lnTo>
                  <a:pt x="1287" y="433"/>
                </a:lnTo>
                <a:lnTo>
                  <a:pt x="1277" y="448"/>
                </a:lnTo>
                <a:lnTo>
                  <a:pt x="1263" y="464"/>
                </a:lnTo>
                <a:lnTo>
                  <a:pt x="1243" y="474"/>
                </a:lnTo>
                <a:lnTo>
                  <a:pt x="1223" y="477"/>
                </a:lnTo>
                <a:lnTo>
                  <a:pt x="1207" y="474"/>
                </a:lnTo>
                <a:lnTo>
                  <a:pt x="1191" y="472"/>
                </a:lnTo>
                <a:lnTo>
                  <a:pt x="1177" y="466"/>
                </a:lnTo>
                <a:lnTo>
                  <a:pt x="1163" y="464"/>
                </a:lnTo>
                <a:lnTo>
                  <a:pt x="1151" y="459"/>
                </a:lnTo>
                <a:lnTo>
                  <a:pt x="1141" y="454"/>
                </a:lnTo>
                <a:lnTo>
                  <a:pt x="1130" y="448"/>
                </a:lnTo>
                <a:lnTo>
                  <a:pt x="1123" y="441"/>
                </a:lnTo>
                <a:lnTo>
                  <a:pt x="1115" y="400"/>
                </a:lnTo>
                <a:lnTo>
                  <a:pt x="1115" y="356"/>
                </a:lnTo>
                <a:lnTo>
                  <a:pt x="1119" y="312"/>
                </a:lnTo>
                <a:lnTo>
                  <a:pt x="1125" y="266"/>
                </a:lnTo>
                <a:lnTo>
                  <a:pt x="1130" y="220"/>
                </a:lnTo>
                <a:lnTo>
                  <a:pt x="1130" y="176"/>
                </a:lnTo>
                <a:lnTo>
                  <a:pt x="1123" y="133"/>
                </a:lnTo>
                <a:lnTo>
                  <a:pt x="1102" y="89"/>
                </a:lnTo>
                <a:lnTo>
                  <a:pt x="1087" y="69"/>
                </a:lnTo>
                <a:lnTo>
                  <a:pt x="1069" y="48"/>
                </a:lnTo>
                <a:lnTo>
                  <a:pt x="1051" y="33"/>
                </a:lnTo>
                <a:lnTo>
                  <a:pt x="1030" y="20"/>
                </a:lnTo>
                <a:lnTo>
                  <a:pt x="1009" y="10"/>
                </a:lnTo>
                <a:lnTo>
                  <a:pt x="986" y="2"/>
                </a:lnTo>
                <a:lnTo>
                  <a:pt x="963" y="0"/>
                </a:lnTo>
                <a:lnTo>
                  <a:pt x="940" y="0"/>
                </a:lnTo>
                <a:lnTo>
                  <a:pt x="914" y="7"/>
                </a:lnTo>
                <a:lnTo>
                  <a:pt x="891" y="15"/>
                </a:lnTo>
                <a:lnTo>
                  <a:pt x="868" y="28"/>
                </a:lnTo>
                <a:lnTo>
                  <a:pt x="852" y="43"/>
                </a:lnTo>
                <a:lnTo>
                  <a:pt x="837" y="61"/>
                </a:lnTo>
                <a:lnTo>
                  <a:pt x="824" y="79"/>
                </a:lnTo>
                <a:lnTo>
                  <a:pt x="816" y="102"/>
                </a:lnTo>
                <a:lnTo>
                  <a:pt x="812" y="123"/>
                </a:lnTo>
                <a:lnTo>
                  <a:pt x="801" y="169"/>
                </a:lnTo>
                <a:lnTo>
                  <a:pt x="806" y="215"/>
                </a:lnTo>
                <a:lnTo>
                  <a:pt x="816" y="259"/>
                </a:lnTo>
                <a:lnTo>
                  <a:pt x="832" y="302"/>
                </a:lnTo>
                <a:lnTo>
                  <a:pt x="850" y="346"/>
                </a:lnTo>
                <a:lnTo>
                  <a:pt x="863" y="387"/>
                </a:lnTo>
                <a:lnTo>
                  <a:pt x="870" y="426"/>
                </a:lnTo>
                <a:lnTo>
                  <a:pt x="866" y="466"/>
                </a:lnTo>
                <a:lnTo>
                  <a:pt x="852" y="480"/>
                </a:lnTo>
                <a:lnTo>
                  <a:pt x="837" y="492"/>
                </a:lnTo>
                <a:lnTo>
                  <a:pt x="824" y="502"/>
                </a:lnTo>
                <a:lnTo>
                  <a:pt x="809" y="510"/>
                </a:lnTo>
                <a:lnTo>
                  <a:pt x="796" y="516"/>
                </a:lnTo>
                <a:lnTo>
                  <a:pt x="778" y="520"/>
                </a:lnTo>
                <a:lnTo>
                  <a:pt x="762" y="520"/>
                </a:lnTo>
                <a:lnTo>
                  <a:pt x="744" y="520"/>
                </a:lnTo>
                <a:lnTo>
                  <a:pt x="714" y="480"/>
                </a:lnTo>
                <a:lnTo>
                  <a:pt x="686" y="436"/>
                </a:lnTo>
                <a:lnTo>
                  <a:pt x="660" y="392"/>
                </a:lnTo>
                <a:lnTo>
                  <a:pt x="634" y="351"/>
                </a:lnTo>
                <a:lnTo>
                  <a:pt x="606" y="312"/>
                </a:lnTo>
                <a:lnTo>
                  <a:pt x="572" y="279"/>
                </a:lnTo>
                <a:lnTo>
                  <a:pt x="534" y="251"/>
                </a:lnTo>
                <a:lnTo>
                  <a:pt x="488" y="228"/>
                </a:lnTo>
                <a:lnTo>
                  <a:pt x="462" y="220"/>
                </a:lnTo>
                <a:lnTo>
                  <a:pt x="436" y="218"/>
                </a:lnTo>
                <a:lnTo>
                  <a:pt x="414" y="220"/>
                </a:lnTo>
                <a:lnTo>
                  <a:pt x="390" y="223"/>
                </a:lnTo>
                <a:lnTo>
                  <a:pt x="368" y="230"/>
                </a:lnTo>
                <a:lnTo>
                  <a:pt x="350" y="238"/>
                </a:lnTo>
                <a:lnTo>
                  <a:pt x="328" y="248"/>
                </a:lnTo>
                <a:lnTo>
                  <a:pt x="314" y="259"/>
                </a:lnTo>
                <a:lnTo>
                  <a:pt x="288" y="297"/>
                </a:lnTo>
                <a:lnTo>
                  <a:pt x="270" y="341"/>
                </a:lnTo>
                <a:lnTo>
                  <a:pt x="264" y="387"/>
                </a:lnTo>
                <a:lnTo>
                  <a:pt x="278" y="433"/>
                </a:lnTo>
                <a:lnTo>
                  <a:pt x="285" y="451"/>
                </a:lnTo>
                <a:lnTo>
                  <a:pt x="298" y="469"/>
                </a:lnTo>
                <a:lnTo>
                  <a:pt x="310" y="482"/>
                </a:lnTo>
                <a:lnTo>
                  <a:pt x="326" y="498"/>
                </a:lnTo>
                <a:lnTo>
                  <a:pt x="342" y="510"/>
                </a:lnTo>
                <a:lnTo>
                  <a:pt x="354" y="523"/>
                </a:lnTo>
                <a:lnTo>
                  <a:pt x="368" y="538"/>
                </a:lnTo>
                <a:lnTo>
                  <a:pt x="378" y="552"/>
                </a:lnTo>
                <a:lnTo>
                  <a:pt x="398" y="564"/>
                </a:lnTo>
                <a:lnTo>
                  <a:pt x="418" y="577"/>
                </a:lnTo>
                <a:lnTo>
                  <a:pt x="436" y="590"/>
                </a:lnTo>
                <a:lnTo>
                  <a:pt x="458" y="602"/>
                </a:lnTo>
                <a:lnTo>
                  <a:pt x="476" y="613"/>
                </a:lnTo>
                <a:lnTo>
                  <a:pt x="494" y="626"/>
                </a:lnTo>
                <a:lnTo>
                  <a:pt x="510" y="641"/>
                </a:lnTo>
                <a:lnTo>
                  <a:pt x="528" y="654"/>
                </a:lnTo>
                <a:lnTo>
                  <a:pt x="540" y="666"/>
                </a:lnTo>
                <a:lnTo>
                  <a:pt x="546" y="682"/>
                </a:lnTo>
                <a:lnTo>
                  <a:pt x="550" y="700"/>
                </a:lnTo>
                <a:lnTo>
                  <a:pt x="552" y="716"/>
                </a:lnTo>
                <a:lnTo>
                  <a:pt x="542" y="736"/>
                </a:lnTo>
                <a:lnTo>
                  <a:pt x="528" y="759"/>
                </a:lnTo>
                <a:lnTo>
                  <a:pt x="510" y="780"/>
                </a:lnTo>
                <a:lnTo>
                  <a:pt x="488" y="792"/>
                </a:lnTo>
                <a:lnTo>
                  <a:pt x="442" y="784"/>
                </a:lnTo>
                <a:lnTo>
                  <a:pt x="396" y="766"/>
                </a:lnTo>
                <a:lnTo>
                  <a:pt x="352" y="744"/>
                </a:lnTo>
                <a:lnTo>
                  <a:pt x="306" y="720"/>
                </a:lnTo>
                <a:lnTo>
                  <a:pt x="260" y="700"/>
                </a:lnTo>
                <a:lnTo>
                  <a:pt x="213" y="690"/>
                </a:lnTo>
                <a:lnTo>
                  <a:pt x="162" y="690"/>
                </a:lnTo>
                <a:lnTo>
                  <a:pt x="105" y="706"/>
                </a:lnTo>
                <a:lnTo>
                  <a:pt x="85" y="716"/>
                </a:lnTo>
                <a:lnTo>
                  <a:pt x="64" y="726"/>
                </a:lnTo>
                <a:lnTo>
                  <a:pt x="49" y="741"/>
                </a:lnTo>
                <a:lnTo>
                  <a:pt x="33" y="759"/>
                </a:lnTo>
                <a:lnTo>
                  <a:pt x="23" y="777"/>
                </a:lnTo>
                <a:lnTo>
                  <a:pt x="13" y="798"/>
                </a:lnTo>
                <a:lnTo>
                  <a:pt x="5" y="818"/>
                </a:lnTo>
                <a:lnTo>
                  <a:pt x="0" y="838"/>
                </a:lnTo>
                <a:lnTo>
                  <a:pt x="5" y="867"/>
                </a:lnTo>
                <a:lnTo>
                  <a:pt x="13" y="890"/>
                </a:lnTo>
                <a:lnTo>
                  <a:pt x="23" y="913"/>
                </a:lnTo>
                <a:lnTo>
                  <a:pt x="36" y="934"/>
                </a:lnTo>
                <a:lnTo>
                  <a:pt x="49" y="952"/>
                </a:lnTo>
                <a:lnTo>
                  <a:pt x="67" y="967"/>
                </a:lnTo>
                <a:lnTo>
                  <a:pt x="85" y="982"/>
                </a:lnTo>
                <a:lnTo>
                  <a:pt x="105" y="996"/>
                </a:lnTo>
                <a:lnTo>
                  <a:pt x="149" y="1016"/>
                </a:lnTo>
                <a:lnTo>
                  <a:pt x="192" y="1026"/>
                </a:lnTo>
                <a:lnTo>
                  <a:pt x="236" y="1028"/>
                </a:lnTo>
                <a:lnTo>
                  <a:pt x="282" y="1028"/>
                </a:lnTo>
                <a:lnTo>
                  <a:pt x="326" y="1032"/>
                </a:lnTo>
                <a:lnTo>
                  <a:pt x="370" y="1034"/>
                </a:lnTo>
                <a:lnTo>
                  <a:pt x="408" y="1044"/>
                </a:lnTo>
                <a:lnTo>
                  <a:pt x="444" y="1064"/>
                </a:lnTo>
                <a:lnTo>
                  <a:pt x="450" y="1070"/>
                </a:lnTo>
                <a:lnTo>
                  <a:pt x="454" y="1078"/>
                </a:lnTo>
                <a:lnTo>
                  <a:pt x="458" y="1080"/>
                </a:lnTo>
                <a:lnTo>
                  <a:pt x="460" y="1082"/>
                </a:lnTo>
                <a:lnTo>
                  <a:pt x="464" y="1164"/>
                </a:lnTo>
                <a:lnTo>
                  <a:pt x="452" y="1188"/>
                </a:lnTo>
                <a:lnTo>
                  <a:pt x="432" y="1204"/>
                </a:lnTo>
                <a:lnTo>
                  <a:pt x="408" y="1210"/>
                </a:lnTo>
                <a:lnTo>
                  <a:pt x="382" y="1214"/>
                </a:lnTo>
                <a:lnTo>
                  <a:pt x="354" y="1216"/>
                </a:lnTo>
                <a:lnTo>
                  <a:pt x="326" y="1218"/>
                </a:lnTo>
                <a:lnTo>
                  <a:pt x="300" y="1224"/>
                </a:lnTo>
                <a:lnTo>
                  <a:pt x="278" y="1234"/>
                </a:lnTo>
                <a:lnTo>
                  <a:pt x="246" y="1242"/>
                </a:lnTo>
                <a:lnTo>
                  <a:pt x="221" y="1252"/>
                </a:lnTo>
                <a:lnTo>
                  <a:pt x="195" y="1262"/>
                </a:lnTo>
                <a:lnTo>
                  <a:pt x="172" y="1274"/>
                </a:lnTo>
                <a:lnTo>
                  <a:pt x="149" y="1290"/>
                </a:lnTo>
                <a:lnTo>
                  <a:pt x="128" y="1306"/>
                </a:lnTo>
                <a:lnTo>
                  <a:pt x="110" y="1326"/>
                </a:lnTo>
                <a:lnTo>
                  <a:pt x="92" y="1346"/>
                </a:lnTo>
                <a:lnTo>
                  <a:pt x="74" y="1386"/>
                </a:lnTo>
                <a:lnTo>
                  <a:pt x="69" y="1426"/>
                </a:lnTo>
                <a:lnTo>
                  <a:pt x="74" y="1468"/>
                </a:lnTo>
                <a:lnTo>
                  <a:pt x="87" y="1508"/>
                </a:lnTo>
                <a:lnTo>
                  <a:pt x="116" y="1536"/>
                </a:lnTo>
                <a:lnTo>
                  <a:pt x="195" y="1568"/>
                </a:lnTo>
                <a:lnTo>
                  <a:pt x="254" y="1568"/>
                </a:lnTo>
                <a:lnTo>
                  <a:pt x="306" y="1552"/>
                </a:lnTo>
                <a:lnTo>
                  <a:pt x="352" y="1528"/>
                </a:lnTo>
                <a:lnTo>
                  <a:pt x="392" y="1498"/>
                </a:lnTo>
                <a:lnTo>
                  <a:pt x="434" y="1470"/>
                </a:lnTo>
                <a:lnTo>
                  <a:pt x="478" y="1446"/>
                </a:lnTo>
                <a:lnTo>
                  <a:pt x="524" y="1432"/>
                </a:lnTo>
                <a:lnTo>
                  <a:pt x="576" y="1432"/>
                </a:lnTo>
                <a:lnTo>
                  <a:pt x="594" y="1446"/>
                </a:lnTo>
                <a:lnTo>
                  <a:pt x="612" y="1468"/>
                </a:lnTo>
                <a:lnTo>
                  <a:pt x="622" y="1490"/>
                </a:lnTo>
                <a:lnTo>
                  <a:pt x="626" y="1518"/>
                </a:lnTo>
                <a:lnTo>
                  <a:pt x="598" y="1558"/>
                </a:lnTo>
                <a:lnTo>
                  <a:pt x="568" y="1594"/>
                </a:lnTo>
                <a:lnTo>
                  <a:pt x="534" y="1628"/>
                </a:lnTo>
                <a:lnTo>
                  <a:pt x="504" y="1664"/>
                </a:lnTo>
                <a:lnTo>
                  <a:pt x="472" y="1700"/>
                </a:lnTo>
                <a:lnTo>
                  <a:pt x="450" y="1740"/>
                </a:lnTo>
                <a:lnTo>
                  <a:pt x="432" y="1782"/>
                </a:lnTo>
                <a:lnTo>
                  <a:pt x="424" y="1834"/>
                </a:lnTo>
                <a:lnTo>
                  <a:pt x="426" y="1862"/>
                </a:lnTo>
                <a:lnTo>
                  <a:pt x="428" y="1888"/>
                </a:lnTo>
                <a:lnTo>
                  <a:pt x="434" y="1914"/>
                </a:lnTo>
                <a:lnTo>
                  <a:pt x="444" y="1934"/>
                </a:lnTo>
                <a:lnTo>
                  <a:pt x="458" y="1948"/>
                </a:lnTo>
                <a:lnTo>
                  <a:pt x="472" y="1960"/>
                </a:lnTo>
                <a:lnTo>
                  <a:pt x="490" y="1972"/>
                </a:lnTo>
                <a:lnTo>
                  <a:pt x="510" y="1983"/>
                </a:lnTo>
                <a:lnTo>
                  <a:pt x="528" y="1994"/>
                </a:lnTo>
                <a:lnTo>
                  <a:pt x="550" y="1998"/>
                </a:lnTo>
                <a:lnTo>
                  <a:pt x="570" y="1998"/>
                </a:lnTo>
                <a:lnTo>
                  <a:pt x="590" y="1996"/>
                </a:lnTo>
                <a:lnTo>
                  <a:pt x="622" y="1983"/>
                </a:lnTo>
                <a:lnTo>
                  <a:pt x="650" y="1968"/>
                </a:lnTo>
                <a:lnTo>
                  <a:pt x="672" y="1952"/>
                </a:lnTo>
                <a:lnTo>
                  <a:pt x="694" y="1932"/>
                </a:lnTo>
                <a:lnTo>
                  <a:pt x="712" y="1914"/>
                </a:lnTo>
                <a:lnTo>
                  <a:pt x="726" y="1894"/>
                </a:lnTo>
                <a:lnTo>
                  <a:pt x="742" y="1870"/>
                </a:lnTo>
                <a:lnTo>
                  <a:pt x="755" y="1848"/>
                </a:lnTo>
                <a:lnTo>
                  <a:pt x="770" y="1808"/>
                </a:lnTo>
                <a:lnTo>
                  <a:pt x="776" y="1770"/>
                </a:lnTo>
                <a:lnTo>
                  <a:pt x="780" y="1736"/>
                </a:lnTo>
                <a:lnTo>
                  <a:pt x="791" y="1700"/>
                </a:lnTo>
                <a:lnTo>
                  <a:pt x="794" y="1694"/>
                </a:lnTo>
                <a:lnTo>
                  <a:pt x="794" y="1688"/>
                </a:lnTo>
                <a:lnTo>
                  <a:pt x="794" y="1686"/>
                </a:lnTo>
                <a:lnTo>
                  <a:pt x="794" y="1682"/>
                </a:lnTo>
                <a:lnTo>
                  <a:pt x="798" y="1670"/>
                </a:lnTo>
                <a:lnTo>
                  <a:pt x="806" y="1660"/>
                </a:lnTo>
                <a:lnTo>
                  <a:pt x="814" y="1652"/>
                </a:lnTo>
                <a:lnTo>
                  <a:pt x="824" y="1644"/>
                </a:lnTo>
                <a:lnTo>
                  <a:pt x="837" y="1640"/>
                </a:lnTo>
                <a:lnTo>
                  <a:pt x="850" y="1634"/>
                </a:lnTo>
                <a:lnTo>
                  <a:pt x="863" y="1632"/>
                </a:lnTo>
                <a:lnTo>
                  <a:pt x="876" y="1628"/>
                </a:lnTo>
                <a:lnTo>
                  <a:pt x="889" y="1632"/>
                </a:lnTo>
                <a:lnTo>
                  <a:pt x="901" y="1634"/>
                </a:lnTo>
                <a:lnTo>
                  <a:pt x="914" y="1640"/>
                </a:lnTo>
                <a:lnTo>
                  <a:pt x="925" y="1644"/>
                </a:lnTo>
                <a:lnTo>
                  <a:pt x="932" y="1650"/>
                </a:lnTo>
                <a:lnTo>
                  <a:pt x="943" y="1654"/>
                </a:lnTo>
                <a:lnTo>
                  <a:pt x="950" y="1660"/>
                </a:lnTo>
                <a:lnTo>
                  <a:pt x="958" y="1664"/>
                </a:lnTo>
                <a:lnTo>
                  <a:pt x="968" y="1706"/>
                </a:lnTo>
                <a:lnTo>
                  <a:pt x="963" y="1750"/>
                </a:lnTo>
                <a:lnTo>
                  <a:pt x="953" y="1798"/>
                </a:lnTo>
                <a:lnTo>
                  <a:pt x="945" y="1842"/>
                </a:lnTo>
                <a:lnTo>
                  <a:pt x="935" y="1876"/>
                </a:lnTo>
                <a:lnTo>
                  <a:pt x="937" y="1906"/>
                </a:lnTo>
                <a:lnTo>
                  <a:pt x="943" y="1934"/>
                </a:lnTo>
                <a:lnTo>
                  <a:pt x="945" y="1960"/>
                </a:lnTo>
                <a:lnTo>
                  <a:pt x="955" y="2001"/>
                </a:lnTo>
                <a:lnTo>
                  <a:pt x="971" y="2034"/>
                </a:lnTo>
                <a:lnTo>
                  <a:pt x="986" y="2062"/>
                </a:lnTo>
                <a:lnTo>
                  <a:pt x="1004" y="2088"/>
                </a:lnTo>
                <a:lnTo>
                  <a:pt x="1076" y="21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0480" y="666720"/>
            <a:ext cx="63720" cy="61920"/>
          </a:xfrm>
          <a:custGeom>
            <a:avLst/>
            <a:gdLst/>
            <a:ahLst/>
            <a:rect l="l" t="t" r="r" b="b"/>
            <a:pathLst>
              <a:path w="541" h="542">
                <a:moveTo>
                  <a:pt x="272" y="542"/>
                </a:moveTo>
                <a:lnTo>
                  <a:pt x="311" y="536"/>
                </a:lnTo>
                <a:lnTo>
                  <a:pt x="347" y="530"/>
                </a:lnTo>
                <a:lnTo>
                  <a:pt x="383" y="516"/>
                </a:lnTo>
                <a:lnTo>
                  <a:pt x="416" y="498"/>
                </a:lnTo>
                <a:lnTo>
                  <a:pt x="447" y="478"/>
                </a:lnTo>
                <a:lnTo>
                  <a:pt x="475" y="452"/>
                </a:lnTo>
                <a:lnTo>
                  <a:pt x="495" y="424"/>
                </a:lnTo>
                <a:lnTo>
                  <a:pt x="513" y="390"/>
                </a:lnTo>
                <a:lnTo>
                  <a:pt x="529" y="352"/>
                </a:lnTo>
                <a:lnTo>
                  <a:pt x="539" y="314"/>
                </a:lnTo>
                <a:lnTo>
                  <a:pt x="541" y="272"/>
                </a:lnTo>
                <a:lnTo>
                  <a:pt x="539" y="234"/>
                </a:lnTo>
                <a:lnTo>
                  <a:pt x="531" y="198"/>
                </a:lnTo>
                <a:lnTo>
                  <a:pt x="519" y="162"/>
                </a:lnTo>
                <a:lnTo>
                  <a:pt x="503" y="128"/>
                </a:lnTo>
                <a:lnTo>
                  <a:pt x="485" y="98"/>
                </a:lnTo>
                <a:lnTo>
                  <a:pt x="457" y="70"/>
                </a:lnTo>
                <a:lnTo>
                  <a:pt x="429" y="46"/>
                </a:lnTo>
                <a:lnTo>
                  <a:pt x="395" y="28"/>
                </a:lnTo>
                <a:lnTo>
                  <a:pt x="362" y="16"/>
                </a:lnTo>
                <a:lnTo>
                  <a:pt x="326" y="6"/>
                </a:lnTo>
                <a:lnTo>
                  <a:pt x="290" y="0"/>
                </a:lnTo>
                <a:lnTo>
                  <a:pt x="254" y="0"/>
                </a:lnTo>
                <a:lnTo>
                  <a:pt x="215" y="3"/>
                </a:lnTo>
                <a:lnTo>
                  <a:pt x="177" y="16"/>
                </a:lnTo>
                <a:lnTo>
                  <a:pt x="144" y="32"/>
                </a:lnTo>
                <a:lnTo>
                  <a:pt x="115" y="50"/>
                </a:lnTo>
                <a:lnTo>
                  <a:pt x="90" y="72"/>
                </a:lnTo>
                <a:lnTo>
                  <a:pt x="66" y="96"/>
                </a:lnTo>
                <a:lnTo>
                  <a:pt x="46" y="121"/>
                </a:lnTo>
                <a:lnTo>
                  <a:pt x="28" y="150"/>
                </a:lnTo>
                <a:lnTo>
                  <a:pt x="12" y="180"/>
                </a:lnTo>
                <a:lnTo>
                  <a:pt x="2" y="218"/>
                </a:lnTo>
                <a:lnTo>
                  <a:pt x="0" y="258"/>
                </a:lnTo>
                <a:lnTo>
                  <a:pt x="2" y="293"/>
                </a:lnTo>
                <a:lnTo>
                  <a:pt x="8" y="332"/>
                </a:lnTo>
                <a:lnTo>
                  <a:pt x="18" y="364"/>
                </a:lnTo>
                <a:lnTo>
                  <a:pt x="33" y="398"/>
                </a:lnTo>
                <a:lnTo>
                  <a:pt x="51" y="430"/>
                </a:lnTo>
                <a:lnTo>
                  <a:pt x="72" y="454"/>
                </a:lnTo>
                <a:lnTo>
                  <a:pt x="92" y="472"/>
                </a:lnTo>
                <a:lnTo>
                  <a:pt x="115" y="488"/>
                </a:lnTo>
                <a:lnTo>
                  <a:pt x="139" y="504"/>
                </a:lnTo>
                <a:lnTo>
                  <a:pt x="164" y="516"/>
                </a:lnTo>
                <a:lnTo>
                  <a:pt x="190" y="526"/>
                </a:lnTo>
                <a:lnTo>
                  <a:pt x="218" y="534"/>
                </a:lnTo>
                <a:lnTo>
                  <a:pt x="244" y="540"/>
                </a:lnTo>
                <a:lnTo>
                  <a:pt x="272" y="54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0480" y="176040"/>
            <a:ext cx="495360" cy="500400"/>
          </a:xfrm>
          <a:custGeom>
            <a:avLst/>
            <a:gdLst/>
            <a:ahLst/>
            <a:rect l="l" t="t" r="r" b="b"/>
            <a:pathLst>
              <a:path w="4145" h="4416">
                <a:moveTo>
                  <a:pt x="3097" y="4416"/>
                </a:moveTo>
                <a:lnTo>
                  <a:pt x="3164" y="4332"/>
                </a:lnTo>
                <a:lnTo>
                  <a:pt x="3230" y="4246"/>
                </a:lnTo>
                <a:lnTo>
                  <a:pt x="3298" y="4160"/>
                </a:lnTo>
                <a:lnTo>
                  <a:pt x="3364" y="4070"/>
                </a:lnTo>
                <a:lnTo>
                  <a:pt x="3430" y="3982"/>
                </a:lnTo>
                <a:lnTo>
                  <a:pt x="3494" y="3892"/>
                </a:lnTo>
                <a:lnTo>
                  <a:pt x="3562" y="3800"/>
                </a:lnTo>
                <a:lnTo>
                  <a:pt x="3626" y="3710"/>
                </a:lnTo>
                <a:lnTo>
                  <a:pt x="3692" y="3618"/>
                </a:lnTo>
                <a:lnTo>
                  <a:pt x="3757" y="3528"/>
                </a:lnTo>
                <a:lnTo>
                  <a:pt x="3821" y="3436"/>
                </a:lnTo>
                <a:lnTo>
                  <a:pt x="3885" y="3346"/>
                </a:lnTo>
                <a:lnTo>
                  <a:pt x="3949" y="3253"/>
                </a:lnTo>
                <a:lnTo>
                  <a:pt x="4013" y="3164"/>
                </a:lnTo>
                <a:lnTo>
                  <a:pt x="4081" y="3077"/>
                </a:lnTo>
                <a:lnTo>
                  <a:pt x="4145" y="2987"/>
                </a:lnTo>
                <a:lnTo>
                  <a:pt x="4088" y="2943"/>
                </a:lnTo>
                <a:lnTo>
                  <a:pt x="4031" y="2899"/>
                </a:lnTo>
                <a:lnTo>
                  <a:pt x="3978" y="2856"/>
                </a:lnTo>
                <a:lnTo>
                  <a:pt x="3921" y="2809"/>
                </a:lnTo>
                <a:lnTo>
                  <a:pt x="3865" y="2766"/>
                </a:lnTo>
                <a:lnTo>
                  <a:pt x="3808" y="2722"/>
                </a:lnTo>
                <a:lnTo>
                  <a:pt x="3752" y="2676"/>
                </a:lnTo>
                <a:lnTo>
                  <a:pt x="3698" y="2633"/>
                </a:lnTo>
                <a:lnTo>
                  <a:pt x="3641" y="2589"/>
                </a:lnTo>
                <a:lnTo>
                  <a:pt x="3582" y="2545"/>
                </a:lnTo>
                <a:lnTo>
                  <a:pt x="3526" y="2501"/>
                </a:lnTo>
                <a:lnTo>
                  <a:pt x="3470" y="2461"/>
                </a:lnTo>
                <a:lnTo>
                  <a:pt x="3410" y="2419"/>
                </a:lnTo>
                <a:lnTo>
                  <a:pt x="3352" y="2379"/>
                </a:lnTo>
                <a:lnTo>
                  <a:pt x="3292" y="2340"/>
                </a:lnTo>
                <a:lnTo>
                  <a:pt x="3233" y="2301"/>
                </a:lnTo>
                <a:lnTo>
                  <a:pt x="3176" y="2322"/>
                </a:lnTo>
                <a:lnTo>
                  <a:pt x="3122" y="2345"/>
                </a:lnTo>
                <a:lnTo>
                  <a:pt x="3066" y="2365"/>
                </a:lnTo>
                <a:lnTo>
                  <a:pt x="3012" y="2389"/>
                </a:lnTo>
                <a:lnTo>
                  <a:pt x="2958" y="2411"/>
                </a:lnTo>
                <a:lnTo>
                  <a:pt x="2902" y="2433"/>
                </a:lnTo>
                <a:lnTo>
                  <a:pt x="2848" y="2455"/>
                </a:lnTo>
                <a:lnTo>
                  <a:pt x="2794" y="2479"/>
                </a:lnTo>
                <a:lnTo>
                  <a:pt x="2740" y="2501"/>
                </a:lnTo>
                <a:lnTo>
                  <a:pt x="2686" y="2525"/>
                </a:lnTo>
                <a:lnTo>
                  <a:pt x="2632" y="2545"/>
                </a:lnTo>
                <a:lnTo>
                  <a:pt x="2578" y="2569"/>
                </a:lnTo>
                <a:lnTo>
                  <a:pt x="2524" y="2591"/>
                </a:lnTo>
                <a:lnTo>
                  <a:pt x="2471" y="2615"/>
                </a:lnTo>
                <a:lnTo>
                  <a:pt x="2417" y="2637"/>
                </a:lnTo>
                <a:lnTo>
                  <a:pt x="2363" y="2661"/>
                </a:lnTo>
                <a:lnTo>
                  <a:pt x="2309" y="2687"/>
                </a:lnTo>
                <a:lnTo>
                  <a:pt x="2255" y="2709"/>
                </a:lnTo>
                <a:lnTo>
                  <a:pt x="2201" y="2733"/>
                </a:lnTo>
                <a:lnTo>
                  <a:pt x="2147" y="2755"/>
                </a:lnTo>
                <a:lnTo>
                  <a:pt x="2095" y="2779"/>
                </a:lnTo>
                <a:lnTo>
                  <a:pt x="2041" y="2802"/>
                </a:lnTo>
                <a:lnTo>
                  <a:pt x="1987" y="2825"/>
                </a:lnTo>
                <a:lnTo>
                  <a:pt x="1933" y="2848"/>
                </a:lnTo>
                <a:lnTo>
                  <a:pt x="1880" y="2871"/>
                </a:lnTo>
                <a:lnTo>
                  <a:pt x="1826" y="2894"/>
                </a:lnTo>
                <a:lnTo>
                  <a:pt x="1774" y="2917"/>
                </a:lnTo>
                <a:lnTo>
                  <a:pt x="1720" y="2941"/>
                </a:lnTo>
                <a:lnTo>
                  <a:pt x="1666" y="2963"/>
                </a:lnTo>
                <a:lnTo>
                  <a:pt x="1612" y="2984"/>
                </a:lnTo>
                <a:lnTo>
                  <a:pt x="1558" y="3007"/>
                </a:lnTo>
                <a:lnTo>
                  <a:pt x="1504" y="3030"/>
                </a:lnTo>
                <a:lnTo>
                  <a:pt x="1518" y="2789"/>
                </a:lnTo>
                <a:lnTo>
                  <a:pt x="1538" y="2545"/>
                </a:lnTo>
                <a:lnTo>
                  <a:pt x="1564" y="2301"/>
                </a:lnTo>
                <a:lnTo>
                  <a:pt x="1590" y="2055"/>
                </a:lnTo>
                <a:lnTo>
                  <a:pt x="1614" y="1811"/>
                </a:lnTo>
                <a:lnTo>
                  <a:pt x="1638" y="1565"/>
                </a:lnTo>
                <a:lnTo>
                  <a:pt x="1650" y="1323"/>
                </a:lnTo>
                <a:lnTo>
                  <a:pt x="1650" y="1083"/>
                </a:lnTo>
                <a:lnTo>
                  <a:pt x="1608" y="1049"/>
                </a:lnTo>
                <a:lnTo>
                  <a:pt x="1564" y="1015"/>
                </a:lnTo>
                <a:lnTo>
                  <a:pt x="1520" y="983"/>
                </a:lnTo>
                <a:lnTo>
                  <a:pt x="1478" y="951"/>
                </a:lnTo>
                <a:lnTo>
                  <a:pt x="1436" y="919"/>
                </a:lnTo>
                <a:lnTo>
                  <a:pt x="1392" y="887"/>
                </a:lnTo>
                <a:lnTo>
                  <a:pt x="1348" y="857"/>
                </a:lnTo>
                <a:lnTo>
                  <a:pt x="1306" y="823"/>
                </a:lnTo>
                <a:lnTo>
                  <a:pt x="1263" y="793"/>
                </a:lnTo>
                <a:lnTo>
                  <a:pt x="1220" y="759"/>
                </a:lnTo>
                <a:lnTo>
                  <a:pt x="1178" y="729"/>
                </a:lnTo>
                <a:lnTo>
                  <a:pt x="1135" y="695"/>
                </a:lnTo>
                <a:lnTo>
                  <a:pt x="1094" y="661"/>
                </a:lnTo>
                <a:lnTo>
                  <a:pt x="1050" y="629"/>
                </a:lnTo>
                <a:lnTo>
                  <a:pt x="1009" y="595"/>
                </a:lnTo>
                <a:lnTo>
                  <a:pt x="968" y="559"/>
                </a:lnTo>
                <a:lnTo>
                  <a:pt x="246" y="0"/>
                </a:lnTo>
                <a:lnTo>
                  <a:pt x="0" y="184"/>
                </a:lnTo>
                <a:lnTo>
                  <a:pt x="1042" y="1683"/>
                </a:lnTo>
                <a:lnTo>
                  <a:pt x="1096" y="1755"/>
                </a:lnTo>
                <a:lnTo>
                  <a:pt x="1060" y="1789"/>
                </a:lnTo>
                <a:lnTo>
                  <a:pt x="1024" y="1819"/>
                </a:lnTo>
                <a:lnTo>
                  <a:pt x="986" y="1849"/>
                </a:lnTo>
                <a:lnTo>
                  <a:pt x="947" y="1881"/>
                </a:lnTo>
                <a:lnTo>
                  <a:pt x="909" y="1911"/>
                </a:lnTo>
                <a:lnTo>
                  <a:pt x="867" y="1939"/>
                </a:lnTo>
                <a:lnTo>
                  <a:pt x="829" y="1967"/>
                </a:lnTo>
                <a:lnTo>
                  <a:pt x="788" y="1996"/>
                </a:lnTo>
                <a:lnTo>
                  <a:pt x="749" y="2027"/>
                </a:lnTo>
                <a:lnTo>
                  <a:pt x="709" y="2055"/>
                </a:lnTo>
                <a:lnTo>
                  <a:pt x="669" y="2083"/>
                </a:lnTo>
                <a:lnTo>
                  <a:pt x="629" y="2114"/>
                </a:lnTo>
                <a:lnTo>
                  <a:pt x="593" y="2145"/>
                </a:lnTo>
                <a:lnTo>
                  <a:pt x="555" y="2179"/>
                </a:lnTo>
                <a:lnTo>
                  <a:pt x="519" y="2211"/>
                </a:lnTo>
                <a:lnTo>
                  <a:pt x="483" y="2245"/>
                </a:lnTo>
                <a:lnTo>
                  <a:pt x="372" y="3425"/>
                </a:lnTo>
                <a:lnTo>
                  <a:pt x="439" y="3438"/>
                </a:lnTo>
                <a:lnTo>
                  <a:pt x="505" y="3454"/>
                </a:lnTo>
                <a:lnTo>
                  <a:pt x="573" y="3472"/>
                </a:lnTo>
                <a:lnTo>
                  <a:pt x="637" y="3495"/>
                </a:lnTo>
                <a:lnTo>
                  <a:pt x="698" y="3518"/>
                </a:lnTo>
                <a:lnTo>
                  <a:pt x="759" y="3546"/>
                </a:lnTo>
                <a:lnTo>
                  <a:pt x="819" y="3574"/>
                </a:lnTo>
                <a:lnTo>
                  <a:pt x="875" y="3608"/>
                </a:lnTo>
                <a:lnTo>
                  <a:pt x="932" y="3644"/>
                </a:lnTo>
                <a:lnTo>
                  <a:pt x="983" y="3682"/>
                </a:lnTo>
                <a:lnTo>
                  <a:pt x="1035" y="3723"/>
                </a:lnTo>
                <a:lnTo>
                  <a:pt x="1083" y="3769"/>
                </a:lnTo>
                <a:lnTo>
                  <a:pt x="1130" y="3816"/>
                </a:lnTo>
                <a:lnTo>
                  <a:pt x="1171" y="3867"/>
                </a:lnTo>
                <a:lnTo>
                  <a:pt x="1212" y="3921"/>
                </a:lnTo>
                <a:lnTo>
                  <a:pt x="1248" y="3977"/>
                </a:lnTo>
                <a:lnTo>
                  <a:pt x="1253" y="3995"/>
                </a:lnTo>
                <a:lnTo>
                  <a:pt x="1260" y="4008"/>
                </a:lnTo>
                <a:lnTo>
                  <a:pt x="1268" y="4021"/>
                </a:lnTo>
                <a:lnTo>
                  <a:pt x="1281" y="4028"/>
                </a:lnTo>
                <a:lnTo>
                  <a:pt x="2123" y="3680"/>
                </a:lnTo>
                <a:lnTo>
                  <a:pt x="2234" y="3744"/>
                </a:lnTo>
                <a:lnTo>
                  <a:pt x="3089" y="4416"/>
                </a:lnTo>
                <a:lnTo>
                  <a:pt x="3089" y="4416"/>
                </a:lnTo>
                <a:lnTo>
                  <a:pt x="3094" y="4416"/>
                </a:lnTo>
                <a:lnTo>
                  <a:pt x="3097" y="4416"/>
                </a:lnTo>
                <a:lnTo>
                  <a:pt x="3097" y="441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2760" y="204840"/>
            <a:ext cx="588960" cy="436680"/>
          </a:xfrm>
          <a:custGeom>
            <a:avLst/>
            <a:gdLst/>
            <a:ahLst/>
            <a:rect l="l" t="t" r="r" b="b"/>
            <a:pathLst>
              <a:path w="4944" h="3859">
                <a:moveTo>
                  <a:pt x="3205" y="3859"/>
                </a:moveTo>
                <a:lnTo>
                  <a:pt x="3236" y="3803"/>
                </a:lnTo>
                <a:lnTo>
                  <a:pt x="3272" y="3749"/>
                </a:lnTo>
                <a:lnTo>
                  <a:pt x="3308" y="3695"/>
                </a:lnTo>
                <a:lnTo>
                  <a:pt x="3349" y="3641"/>
                </a:lnTo>
                <a:lnTo>
                  <a:pt x="3390" y="3592"/>
                </a:lnTo>
                <a:lnTo>
                  <a:pt x="3436" y="3544"/>
                </a:lnTo>
                <a:lnTo>
                  <a:pt x="3482" y="3498"/>
                </a:lnTo>
                <a:lnTo>
                  <a:pt x="3534" y="3451"/>
                </a:lnTo>
                <a:lnTo>
                  <a:pt x="3586" y="3410"/>
                </a:lnTo>
                <a:lnTo>
                  <a:pt x="3640" y="3372"/>
                </a:lnTo>
                <a:lnTo>
                  <a:pt x="3698" y="3336"/>
                </a:lnTo>
                <a:lnTo>
                  <a:pt x="3758" y="3302"/>
                </a:lnTo>
                <a:lnTo>
                  <a:pt x="3818" y="3274"/>
                </a:lnTo>
                <a:lnTo>
                  <a:pt x="3883" y="3248"/>
                </a:lnTo>
                <a:lnTo>
                  <a:pt x="3952" y="3228"/>
                </a:lnTo>
                <a:lnTo>
                  <a:pt x="4022" y="3210"/>
                </a:lnTo>
                <a:lnTo>
                  <a:pt x="3930" y="2263"/>
                </a:lnTo>
                <a:lnTo>
                  <a:pt x="4944" y="1483"/>
                </a:lnTo>
                <a:lnTo>
                  <a:pt x="3922" y="0"/>
                </a:lnTo>
                <a:lnTo>
                  <a:pt x="3862" y="41"/>
                </a:lnTo>
                <a:lnTo>
                  <a:pt x="3806" y="85"/>
                </a:lnTo>
                <a:lnTo>
                  <a:pt x="3746" y="125"/>
                </a:lnTo>
                <a:lnTo>
                  <a:pt x="3690" y="169"/>
                </a:lnTo>
                <a:lnTo>
                  <a:pt x="3632" y="213"/>
                </a:lnTo>
                <a:lnTo>
                  <a:pt x="3572" y="257"/>
                </a:lnTo>
                <a:lnTo>
                  <a:pt x="3516" y="300"/>
                </a:lnTo>
                <a:lnTo>
                  <a:pt x="3457" y="343"/>
                </a:lnTo>
                <a:lnTo>
                  <a:pt x="3400" y="390"/>
                </a:lnTo>
                <a:lnTo>
                  <a:pt x="3341" y="433"/>
                </a:lnTo>
                <a:lnTo>
                  <a:pt x="3285" y="479"/>
                </a:lnTo>
                <a:lnTo>
                  <a:pt x="3228" y="525"/>
                </a:lnTo>
                <a:lnTo>
                  <a:pt x="3172" y="572"/>
                </a:lnTo>
                <a:lnTo>
                  <a:pt x="3118" y="618"/>
                </a:lnTo>
                <a:lnTo>
                  <a:pt x="3061" y="667"/>
                </a:lnTo>
                <a:lnTo>
                  <a:pt x="3007" y="713"/>
                </a:lnTo>
                <a:lnTo>
                  <a:pt x="3028" y="947"/>
                </a:lnTo>
                <a:lnTo>
                  <a:pt x="3049" y="1177"/>
                </a:lnTo>
                <a:lnTo>
                  <a:pt x="3071" y="1409"/>
                </a:lnTo>
                <a:lnTo>
                  <a:pt x="3097" y="1639"/>
                </a:lnTo>
                <a:lnTo>
                  <a:pt x="3123" y="1871"/>
                </a:lnTo>
                <a:lnTo>
                  <a:pt x="3149" y="2099"/>
                </a:lnTo>
                <a:lnTo>
                  <a:pt x="3172" y="2329"/>
                </a:lnTo>
                <a:lnTo>
                  <a:pt x="3195" y="2561"/>
                </a:lnTo>
                <a:lnTo>
                  <a:pt x="3192" y="2569"/>
                </a:lnTo>
                <a:lnTo>
                  <a:pt x="3190" y="2573"/>
                </a:lnTo>
                <a:lnTo>
                  <a:pt x="3185" y="2576"/>
                </a:lnTo>
                <a:lnTo>
                  <a:pt x="3177" y="2579"/>
                </a:lnTo>
                <a:lnTo>
                  <a:pt x="1479" y="1839"/>
                </a:lnTo>
                <a:lnTo>
                  <a:pt x="1081" y="2119"/>
                </a:lnTo>
                <a:lnTo>
                  <a:pt x="439" y="2594"/>
                </a:lnTo>
                <a:lnTo>
                  <a:pt x="0" y="2907"/>
                </a:lnTo>
                <a:lnTo>
                  <a:pt x="70" y="3171"/>
                </a:lnTo>
                <a:lnTo>
                  <a:pt x="1880" y="2625"/>
                </a:lnTo>
                <a:lnTo>
                  <a:pt x="2142" y="3390"/>
                </a:lnTo>
                <a:lnTo>
                  <a:pt x="3205" y="385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932520" y="765000"/>
            <a:ext cx="277920" cy="3193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704000" y="765000"/>
            <a:ext cx="262080" cy="3193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8459640" y="770040"/>
            <a:ext cx="498600" cy="314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6272280" y="765000"/>
            <a:ext cx="166680" cy="33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1989000"/>
            <a:ext cx="9144000" cy="18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03280" indent="0" algn="ctr">
              <a:lnSpc>
                <a:spcPct val="90000"/>
              </a:lnSpc>
              <a:spcBef>
                <a:spcPts val="2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1500" spc="-1" strike="noStrike">
                <a:solidFill>
                  <a:srgbClr val="800000"/>
                </a:solidFill>
                <a:latin typeface="Papyrus"/>
              </a:rPr>
              <a:t>AMTyF</a:t>
            </a:r>
            <a:endParaRPr b="0" lang="en-US" sz="115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58920" y="3573360"/>
            <a:ext cx="57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800000"/>
                </a:solidFill>
                <a:latin typeface="Papyrus"/>
              </a:rPr>
              <a:t>Análisis de Mediciones de Tiempo y Frecuencia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65520" y="5157720"/>
            <a:ext cx="340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33"/>
                </a:solidFill>
                <a:latin typeface="Times New Roman"/>
              </a:rPr>
              <a:t>Ing. Francisco J. Jiménez Tapia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11280" y="5805360"/>
            <a:ext cx="439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fjimenez@cenam.mx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61160" y="5445000"/>
            <a:ext cx="465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</a:rPr>
              <a:t>Centro Nacional de Metrología, CENAM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96000" y="0"/>
            <a:ext cx="2448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3F1055-104B-4409-B24E-BDCBC264B9BC}" type="datetime1">
              <a:rPr lang="en-US"/>
              <a:t>07/31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227320" y="2160720"/>
            <a:ext cx="4897440" cy="3159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84280" y="797040"/>
            <a:ext cx="838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996633"/>
                </a:solidFill>
                <a:latin typeface="Arial"/>
              </a:rPr>
              <a:t>Ventana  principal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649301-52A9-475A-9BAF-8E55D971FD6E}" type="datetime1">
              <a:rPr lang="en-US"/>
              <a:t>07/31/26</a:t>
            </a:fld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86920" y="1341360"/>
            <a:ext cx="8363160" cy="15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03280" indent="-5032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99"/>
                </a:solidFill>
                <a:latin typeface="Times New Roman"/>
              </a:rPr>
              <a:t>Puede cargar archivos de datos, que contienen las mediciones realizadas por su equipo de medición, de mediciones de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584360" y="2421000"/>
            <a:ext cx="2587680" cy="35845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896000" y="2421000"/>
            <a:ext cx="2590560" cy="35877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792000" y="1989000"/>
            <a:ext cx="18115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03280" indent="-503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99"/>
                </a:solidFill>
                <a:latin typeface="Times New Roman"/>
              </a:rPr>
              <a:t>frecuencia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2023920"/>
            <a:ext cx="51958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03280" indent="-503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99"/>
                </a:solidFill>
                <a:latin typeface="Times New Roman"/>
              </a:rPr>
              <a:t>y de mediciones de diferencia de fase. 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68040" y="605808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99"/>
                </a:solidFill>
                <a:latin typeface="Times New Roman"/>
              </a:rPr>
              <a:t>Mediciones de frecuencia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98240" y="60213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99"/>
                </a:solidFill>
                <a:latin typeface="Times New Roman"/>
              </a:rPr>
              <a:t>Mediciones de diferencia de fase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4280" y="797040"/>
            <a:ext cx="838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996633"/>
                </a:solidFill>
                <a:latin typeface="Arial"/>
              </a:rPr>
              <a:t>Archivos de medición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5521AB-E124-470D-B084-9649CF1E9C7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350"/>
                            </p:stCondLst>
                            <p:childTnLst>
                              <p:par>
                                <p:cTn id="36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6300"/>
                            </p:stCondLst>
                            <p:childTnLst>
                              <p:par>
                                <p:cTn id="3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7300"/>
                            </p:stCondLst>
                            <p:childTnLst>
                              <p:par>
                                <p:cTn id="37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8850"/>
                            </p:stCondLst>
                            <p:childTnLst>
                              <p:par>
                                <p:cTn id="386" nodeType="afterEffect" fill="hold" presetClass="entr" presetID="4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2900"/>
                            </p:stCondLst>
                            <p:childTnLst>
                              <p:par>
                                <p:cTn id="3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3400"/>
                            </p:stCondLst>
                            <p:childTnLst>
                              <p:par>
                                <p:cTn id="39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31640" y="1520640"/>
            <a:ext cx="8110800" cy="13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03280" indent="-5032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imes New Roman"/>
              </a:rPr>
              <a:t>Cuenta con herramientas para personalizar sus gráficos como títulos, colores del gráfico y puede desplazarse en los gráficos explorando los datos.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50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251" t="5980" r="47185" b="89752"/>
          <a:stretch/>
        </p:blipFill>
        <p:spPr>
          <a:xfrm>
            <a:off x="647640" y="4479840"/>
            <a:ext cx="7809120" cy="425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5111640" y="296064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imes New Roman"/>
              </a:rPr>
              <a:t>Desplazamiento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imes New Roman"/>
              </a:rPr>
              <a:t>del gráfico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660720" y="576252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imes New Roman"/>
              </a:rPr>
              <a:t>Zoom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740720" y="32781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imes New Roman"/>
              </a:rPr>
              <a:t>Ayuda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62920" y="5740560"/>
            <a:ext cx="172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imes New Roman"/>
              </a:rPr>
              <a:t>Propiedades del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imes New Roman"/>
              </a:rPr>
              <a:t>panel del gráfico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77080" y="2960640"/>
            <a:ext cx="138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imes New Roman"/>
              </a:rPr>
              <a:t>Propiedades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imes New Roman"/>
              </a:rPr>
              <a:t>de los puntos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02960" y="5740560"/>
            <a:ext cx="12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imes New Roman"/>
              </a:rPr>
              <a:t>Propiedades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imes New Roman"/>
              </a:rPr>
              <a:t>del archivo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619280" y="5049720"/>
            <a:ext cx="0" cy="719280"/>
          </a:xfrm>
          <a:prstGeom prst="line">
            <a:avLst/>
          </a:prstGeom>
          <a:ln w="381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356000" y="5049720"/>
            <a:ext cx="0" cy="719280"/>
          </a:xfrm>
          <a:prstGeom prst="line">
            <a:avLst/>
          </a:prstGeom>
          <a:ln w="381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6985080" y="5049720"/>
            <a:ext cx="0" cy="719280"/>
          </a:xfrm>
          <a:prstGeom prst="line">
            <a:avLst/>
          </a:prstGeom>
          <a:ln w="381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3024360" y="3608280"/>
            <a:ext cx="0" cy="719280"/>
          </a:xfrm>
          <a:prstGeom prst="line">
            <a:avLst/>
          </a:prstGeom>
          <a:ln w="38160">
            <a:solidFill>
              <a:srgbClr val="3366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832360" y="3608280"/>
            <a:ext cx="0" cy="719280"/>
          </a:xfrm>
          <a:prstGeom prst="line">
            <a:avLst/>
          </a:prstGeom>
          <a:ln w="38160">
            <a:solidFill>
              <a:srgbClr val="3366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8172360" y="3717720"/>
            <a:ext cx="0" cy="718920"/>
          </a:xfrm>
          <a:prstGeom prst="line">
            <a:avLst/>
          </a:prstGeom>
          <a:ln w="38160">
            <a:solidFill>
              <a:srgbClr val="3366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63640" y="5013360"/>
            <a:ext cx="1512720" cy="0"/>
          </a:xfrm>
          <a:prstGeom prst="line">
            <a:avLst/>
          </a:prstGeom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48000" y="4400640"/>
            <a:ext cx="118728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43280" y="4976640"/>
            <a:ext cx="133344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11640" y="4400640"/>
            <a:ext cx="13320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516720" y="4976640"/>
            <a:ext cx="97164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4280" y="797040"/>
            <a:ext cx="838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996633"/>
                </a:solidFill>
                <a:latin typeface="Arial"/>
              </a:rPr>
              <a:t>Barra de herramientas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E13FFC-F6AB-4784-A9F4-AC0AA43EB5F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3" presetSubtype="52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6750"/>
                            </p:stCondLst>
                            <p:childTnLst>
                              <p:par>
                                <p:cTn id="424" nodeType="afterEffect" fill="hold" presetClass="entr" presetID="45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9750"/>
                            </p:stCondLst>
                            <p:childTnLst>
                              <p:par>
                                <p:cTn id="4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250"/>
                            </p:stCondLst>
                            <p:childTnLst>
                              <p:par>
                                <p:cTn id="439" nodeType="afterEffect" fill="hold" presetClass="entr" presetID="45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3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3250"/>
                            </p:stCondLst>
                            <p:childTnLst>
                              <p:par>
                                <p:cTn id="4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3750"/>
                            </p:stCondLst>
                            <p:childTnLst>
                              <p:par>
                                <p:cTn id="45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6750"/>
                            </p:stCondLst>
                            <p:childTnLst>
                              <p:par>
                                <p:cTn id="4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7250"/>
                            </p:stCondLst>
                            <p:childTnLst>
                              <p:par>
                                <p:cTn id="46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250"/>
                            </p:stCondLst>
                            <p:childTnLst>
                              <p:par>
                                <p:cTn id="4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0750"/>
                            </p:stCondLst>
                            <p:childTnLst>
                              <p:par>
                                <p:cTn id="48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3750"/>
                            </p:stCondLst>
                            <p:childTnLst>
                              <p:par>
                                <p:cTn id="4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4250"/>
                            </p:stCondLst>
                            <p:childTnLst>
                              <p:par>
                                <p:cTn id="49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4950"/>
                            </p:stCondLst>
                            <p:childTnLst>
                              <p:par>
                                <p:cTn id="5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50920" y="1412640"/>
            <a:ext cx="8532720" cy="16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03280" indent="-5032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imes New Roman"/>
              </a:rPr>
              <a:t>Puede guardar los gráficos generados en formato BMP, guardar los reportes de las mediciones en formato TXT y archivos de datos resultado de algunos cálculos en formato DAT.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843280" y="3444840"/>
            <a:ext cx="3666960" cy="28288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39640" y="2600280"/>
            <a:ext cx="212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Selección del o los componentes a guardar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376360" y="3176640"/>
            <a:ext cx="79056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66920" y="3176640"/>
            <a:ext cx="0" cy="828720"/>
          </a:xfrm>
          <a:prstGeom prst="line">
            <a:avLst/>
          </a:prstGeom>
          <a:ln w="381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84280" y="797040"/>
            <a:ext cx="838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996633"/>
                </a:solidFill>
                <a:latin typeface="Arial"/>
              </a:rPr>
              <a:t>Guardando información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78850D-5589-4767-BDF2-268527818D2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7700"/>
                            </p:stCondLst>
                            <p:childTnLst>
                              <p:par>
                                <p:cTn id="524" nodeType="afterEffect" fill="hold" presetClass="entr" presetID="4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140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1900"/>
                            </p:stCondLst>
                            <p:childTnLst>
                              <p:par>
                                <p:cTn id="5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215640" y="1304640"/>
            <a:ext cx="8351640" cy="143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0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503280" indent="-5032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imes New Roman"/>
              </a:rPr>
              <a:t>Puede imprimir los gráficos y los reportes directamente en su impresora.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095640" y="3933720"/>
            <a:ext cx="2736720" cy="19558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6551640" y="3448080"/>
            <a:ext cx="21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Configuración de la impresora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5687640" y="5229360"/>
            <a:ext cx="1189080" cy="0"/>
          </a:xfrm>
          <a:prstGeom prst="line">
            <a:avLst/>
          </a:prstGeom>
          <a:ln w="381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877080" y="4257360"/>
            <a:ext cx="0" cy="97164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9640" y="2998800"/>
            <a:ext cx="212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Selección del o los componentes a imprimir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2376000" y="3645000"/>
            <a:ext cx="107964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56000" y="3645000"/>
            <a:ext cx="0" cy="828720"/>
          </a:xfrm>
          <a:prstGeom prst="line">
            <a:avLst/>
          </a:prstGeom>
          <a:ln w="381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84280" y="797040"/>
            <a:ext cx="838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996633"/>
                </a:solidFill>
                <a:latin typeface="Arial"/>
              </a:rPr>
              <a:t>Imprimiendo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7FA73C-1D15-4B72-B7E9-F9FE940C415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3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3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3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4050"/>
                            </p:stCondLst>
                            <p:childTnLst>
                              <p:par>
                                <p:cTn id="557" nodeType="afterEffect" fill="hold" presetClass="entr" presetID="4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7800"/>
                            </p:stCondLst>
                            <p:childTnLst>
                              <p:par>
                                <p:cTn id="5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83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8800"/>
                            </p:stCondLst>
                            <p:childTnLst>
                              <p:par>
                                <p:cTn id="573" nodeType="afterEffect" fill="hold" presetClass="entr" presetID="41">
                                  <p:stCondLst>
                                    <p:cond delay="3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4050"/>
                            </p:stCondLst>
                            <p:childTnLst>
                              <p:par>
                                <p:cTn id="5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4550"/>
                            </p:stCondLst>
                            <p:childTnLst>
                              <p:par>
                                <p:cTn id="5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328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00000"/>
                </a:solidFill>
                <a:latin typeface="Arial"/>
              </a:rPr>
              <a:t>Descripción de los componentes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A7F4DC-F05F-4D64-A118-5E6511BC4F2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268360" y="1881360"/>
            <a:ext cx="4797720" cy="34192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84280" y="797040"/>
            <a:ext cx="838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996633"/>
                </a:solidFill>
                <a:latin typeface="Arial"/>
              </a:rPr>
              <a:t>Ventana  principal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DEC9F5-B2C8-4715-9266-173C5F45EB9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482840" y="1697040"/>
            <a:ext cx="6041880" cy="45766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87280" y="2349360"/>
            <a:ext cx="1297080" cy="43200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128000" y="2097000"/>
            <a:ext cx="1728720" cy="432000"/>
          </a:xfrm>
          <a:custGeom>
            <a:avLst/>
            <a:gdLst>
              <a:gd name="textAreaLeft" fmla="*/ 270000 w 1728720"/>
              <a:gd name="textAreaRight" fmla="*/ 1512720 w 172872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5400000">
            <a:off x="4301640" y="1790640"/>
            <a:ext cx="1081080" cy="46836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7000 h 468360"/>
              <a:gd name="textAreaBottom" fmla="*/ 351360 h 468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740720" y="2371680"/>
            <a:ext cx="12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ff"/>
                </a:solidFill>
                <a:latin typeface="Times New Roman"/>
              </a:rPr>
              <a:t>Barra de herramientas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9280" y="2817720"/>
            <a:ext cx="133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ff"/>
                </a:solidFill>
                <a:latin typeface="Times New Roman"/>
              </a:rPr>
              <a:t>Hoja de Trabajo “Datos Originales” 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19280" y="1268280"/>
            <a:ext cx="24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ff"/>
                </a:solidFill>
                <a:latin typeface="Times New Roman"/>
              </a:rPr>
              <a:t>Hoja de trabajo “Desviación Fraccional de Frecuencia”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967280" y="1255680"/>
            <a:ext cx="24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ff"/>
                </a:solidFill>
                <a:latin typeface="Times New Roman"/>
              </a:rPr>
              <a:t>Hoja de trabajo “Raíz de la Varianza de Allan”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84360" y="1701720"/>
            <a:ext cx="2519280" cy="289080"/>
          </a:xfrm>
          <a:prstGeom prst="rect">
            <a:avLst/>
          </a:prstGeom>
          <a:solidFill>
            <a:srgbClr val="0000ff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5400000">
            <a:off x="2753640" y="1791720"/>
            <a:ext cx="1009440" cy="468000"/>
          </a:xfrm>
          <a:custGeom>
            <a:avLst/>
            <a:gdLst>
              <a:gd name="textAreaLeft" fmla="*/ 157680 w 1009440"/>
              <a:gd name="textAreaRight" fmla="*/ 883440 w 1009440"/>
              <a:gd name="textAreaTop" fmla="*/ 117000 h 468000"/>
              <a:gd name="textAreaBottom" fmla="*/ 351000 h 468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4280" y="797040"/>
            <a:ext cx="838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996633"/>
                </a:solidFill>
                <a:latin typeface="Arial"/>
              </a:rPr>
              <a:t>Aplicación: Mediciones de frecuencia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55E3DF-2892-4764-A807-FD14A72A65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500"/>
                            </p:stCondLst>
                            <p:childTnLst>
                              <p:par>
                                <p:cTn id="6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12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500"/>
                            </p:stCondLst>
                            <p:childTnLst>
                              <p:par>
                                <p:cTn id="614" nodeType="after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4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8400"/>
                            </p:stCondLst>
                            <p:childTnLst>
                              <p:par>
                                <p:cTn id="625" nodeType="afterEffect" fill="hold" presetClass="emph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6" dur="indefinite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mph" presetID="3" presetSubtype="2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28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0900"/>
                            </p:stCondLst>
                            <p:childTnLst>
                              <p:par>
                                <p:cTn id="630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2900"/>
                            </p:stCondLst>
                            <p:childTnLst>
                              <p:par>
                                <p:cTn id="6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4850"/>
                            </p:stCondLst>
                            <p:childTnLst>
                              <p:par>
                                <p:cTn id="642" nodeType="afterEffect" fill="hold" presetClass="emph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43" dur="indefinite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3" presetSubtype="2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45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7350"/>
                            </p:stCondLst>
                            <p:childTnLst>
                              <p:par>
                                <p:cTn id="64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8850"/>
                            </p:stCondLst>
                            <p:childTnLst>
                              <p:par>
                                <p:cTn id="65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21650"/>
                            </p:stCondLst>
                            <p:childTnLst>
                              <p:par>
                                <p:cTn id="659" nodeType="after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0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mph" presetID="3" presetSubtype="2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62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24150"/>
                            </p:stCondLst>
                            <p:childTnLst>
                              <p:par>
                                <p:cTn id="6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24650"/>
                            </p:stCondLst>
                            <p:childTnLst>
                              <p:par>
                                <p:cTn id="66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566720" y="1736640"/>
            <a:ext cx="6029640" cy="4572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58920" y="2384280"/>
            <a:ext cx="1296720" cy="432000"/>
          </a:xfrm>
          <a:custGeom>
            <a:avLst/>
            <a:gdLst>
              <a:gd name="textAreaLeft" fmla="*/ 202320 w 1296720"/>
              <a:gd name="textAreaRight" fmla="*/ 1134720 w 129672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84360" y="1736640"/>
            <a:ext cx="2879640" cy="289080"/>
          </a:xfrm>
          <a:prstGeom prst="rect">
            <a:avLst/>
          </a:prstGeom>
          <a:solidFill>
            <a:srgbClr val="0000ff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9280" y="2852640"/>
            <a:ext cx="133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ff"/>
                </a:solidFill>
                <a:latin typeface="Times New Roman"/>
              </a:rPr>
              <a:t>Hoja de Trabajo “Datos Originales” 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2034000" y="1755000"/>
            <a:ext cx="1152360" cy="468360"/>
          </a:xfrm>
          <a:custGeom>
            <a:avLst/>
            <a:gdLst>
              <a:gd name="textAreaLeft" fmla="*/ 180000 w 1152360"/>
              <a:gd name="textAreaRight" fmla="*/ 1045080 w 1152360"/>
              <a:gd name="textAreaTop" fmla="*/ 123840 h 468360"/>
              <a:gd name="textAreaBottom" fmla="*/ 344520 h 468360"/>
            </a:gdLst>
            <a:ahLst/>
            <a:rect l="textAreaLeft" t="textAreaTop" r="textAreaRight" b="textAreaBottom"/>
            <a:pathLst>
              <a:path w="21600" h="21600">
                <a:moveTo>
                  <a:pt x="3375" y="5711"/>
                </a:moveTo>
                <a:lnTo>
                  <a:pt x="17320" y="5711"/>
                </a:lnTo>
                <a:lnTo>
                  <a:pt x="17320" y="0"/>
                </a:lnTo>
                <a:lnTo>
                  <a:pt x="21600" y="10800"/>
                </a:lnTo>
                <a:lnTo>
                  <a:pt x="17320" y="21600"/>
                </a:lnTo>
                <a:lnTo>
                  <a:pt x="17320" y="15889"/>
                </a:lnTo>
                <a:lnTo>
                  <a:pt x="3375" y="15889"/>
                </a:lnTo>
                <a:close/>
              </a:path>
              <a:path w="21600" h="21600">
                <a:moveTo>
                  <a:pt x="0" y="5711"/>
                </a:moveTo>
                <a:lnTo>
                  <a:pt x="675" y="5711"/>
                </a:lnTo>
                <a:lnTo>
                  <a:pt x="675" y="15889"/>
                </a:lnTo>
                <a:lnTo>
                  <a:pt x="0" y="15889"/>
                </a:lnTo>
                <a:close/>
              </a:path>
              <a:path w="21600" h="21600">
                <a:moveTo>
                  <a:pt x="1350" y="5711"/>
                </a:moveTo>
                <a:lnTo>
                  <a:pt x="2700" y="5711"/>
                </a:lnTo>
                <a:lnTo>
                  <a:pt x="2700" y="15889"/>
                </a:lnTo>
                <a:lnTo>
                  <a:pt x="1350" y="15889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8000" y="1290600"/>
            <a:ext cx="24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ff"/>
                </a:solidFill>
                <a:latin typeface="Times New Roman"/>
              </a:rPr>
              <a:t>Hoja de trabajo “Fase Acumulada”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5400000">
            <a:off x="3150000" y="1897920"/>
            <a:ext cx="863640" cy="468360"/>
          </a:xfrm>
          <a:custGeom>
            <a:avLst/>
            <a:gdLst>
              <a:gd name="textAreaLeft" fmla="*/ 135000 w 863640"/>
              <a:gd name="textAreaRight" fmla="*/ 783000 w 863640"/>
              <a:gd name="textAreaTop" fmla="*/ 123840 h 468360"/>
              <a:gd name="textAreaBottom" fmla="*/ 344520 h 468360"/>
            </a:gdLst>
            <a:ahLst/>
            <a:rect l="textAreaLeft" t="textAreaTop" r="textAreaRight" b="textAreaBottom"/>
            <a:pathLst>
              <a:path w="21600" h="21600">
                <a:moveTo>
                  <a:pt x="3375" y="5711"/>
                </a:moveTo>
                <a:lnTo>
                  <a:pt x="17320" y="5711"/>
                </a:lnTo>
                <a:lnTo>
                  <a:pt x="17320" y="0"/>
                </a:lnTo>
                <a:lnTo>
                  <a:pt x="21600" y="10800"/>
                </a:lnTo>
                <a:lnTo>
                  <a:pt x="17320" y="21600"/>
                </a:lnTo>
                <a:lnTo>
                  <a:pt x="17320" y="15889"/>
                </a:lnTo>
                <a:lnTo>
                  <a:pt x="3375" y="15889"/>
                </a:lnTo>
                <a:close/>
              </a:path>
              <a:path w="21600" h="21600">
                <a:moveTo>
                  <a:pt x="0" y="5711"/>
                </a:moveTo>
                <a:lnTo>
                  <a:pt x="675" y="5711"/>
                </a:lnTo>
                <a:lnTo>
                  <a:pt x="675" y="15889"/>
                </a:lnTo>
                <a:lnTo>
                  <a:pt x="0" y="15889"/>
                </a:lnTo>
                <a:close/>
              </a:path>
              <a:path w="21600" h="21600">
                <a:moveTo>
                  <a:pt x="1350" y="5711"/>
                </a:moveTo>
                <a:lnTo>
                  <a:pt x="2700" y="5711"/>
                </a:lnTo>
                <a:lnTo>
                  <a:pt x="2700" y="15889"/>
                </a:lnTo>
                <a:lnTo>
                  <a:pt x="1350" y="15889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700360" y="1255680"/>
            <a:ext cx="17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ff"/>
                </a:solidFill>
                <a:latin typeface="Times New Roman"/>
              </a:rPr>
              <a:t>Hoja de trabajo “Residuos”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rot="5400000">
            <a:off x="4067280" y="1772280"/>
            <a:ext cx="1114560" cy="468360"/>
          </a:xfrm>
          <a:custGeom>
            <a:avLst/>
            <a:gdLst>
              <a:gd name="textAreaLeft" fmla="*/ 173880 w 1114560"/>
              <a:gd name="textAreaRight" fmla="*/ 1010520 w 1114560"/>
              <a:gd name="textAreaTop" fmla="*/ 123840 h 468360"/>
              <a:gd name="textAreaBottom" fmla="*/ 344520 h 468360"/>
            </a:gdLst>
            <a:ahLst/>
            <a:rect l="textAreaLeft" t="textAreaTop" r="textAreaRight" b="textAreaBottom"/>
            <a:pathLst>
              <a:path w="21600" h="21600">
                <a:moveTo>
                  <a:pt x="3375" y="5711"/>
                </a:moveTo>
                <a:lnTo>
                  <a:pt x="17320" y="5711"/>
                </a:lnTo>
                <a:lnTo>
                  <a:pt x="17320" y="0"/>
                </a:lnTo>
                <a:lnTo>
                  <a:pt x="21600" y="10800"/>
                </a:lnTo>
                <a:lnTo>
                  <a:pt x="17320" y="21600"/>
                </a:lnTo>
                <a:lnTo>
                  <a:pt x="17320" y="15889"/>
                </a:lnTo>
                <a:lnTo>
                  <a:pt x="3375" y="15889"/>
                </a:lnTo>
                <a:close/>
              </a:path>
              <a:path w="21600" h="21600">
                <a:moveTo>
                  <a:pt x="0" y="5711"/>
                </a:moveTo>
                <a:lnTo>
                  <a:pt x="675" y="5711"/>
                </a:lnTo>
                <a:lnTo>
                  <a:pt x="675" y="15889"/>
                </a:lnTo>
                <a:lnTo>
                  <a:pt x="0" y="15889"/>
                </a:lnTo>
                <a:close/>
              </a:path>
              <a:path w="21600" h="21600">
                <a:moveTo>
                  <a:pt x="1350" y="5711"/>
                </a:moveTo>
                <a:lnTo>
                  <a:pt x="2700" y="5711"/>
                </a:lnTo>
                <a:lnTo>
                  <a:pt x="2700" y="15889"/>
                </a:lnTo>
                <a:lnTo>
                  <a:pt x="1350" y="15889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680000" y="1290600"/>
            <a:ext cx="17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ff"/>
                </a:solidFill>
                <a:latin typeface="Times New Roman"/>
              </a:rPr>
              <a:t>Hoja de trabajo “Varianza de Allan”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7128000" y="2133720"/>
            <a:ext cx="1728720" cy="431640"/>
          </a:xfrm>
          <a:custGeom>
            <a:avLst/>
            <a:gdLst>
              <a:gd name="textAreaLeft" fmla="*/ 270000 w 1728720"/>
              <a:gd name="textAreaRight" fmla="*/ 1550160 w 1728720"/>
              <a:gd name="textAreaTop" fmla="*/ 10764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399"/>
                </a:moveTo>
                <a:lnTo>
                  <a:pt x="17137" y="5399"/>
                </a:lnTo>
                <a:lnTo>
                  <a:pt x="17137" y="0"/>
                </a:lnTo>
                <a:lnTo>
                  <a:pt x="21600" y="10800"/>
                </a:lnTo>
                <a:lnTo>
                  <a:pt x="17137" y="21600"/>
                </a:lnTo>
                <a:lnTo>
                  <a:pt x="17137" y="16201"/>
                </a:lnTo>
                <a:lnTo>
                  <a:pt x="3375" y="16201"/>
                </a:lnTo>
                <a:close/>
              </a:path>
              <a:path w="21600" h="21600">
                <a:moveTo>
                  <a:pt x="0" y="5399"/>
                </a:moveTo>
                <a:lnTo>
                  <a:pt x="675" y="5399"/>
                </a:lnTo>
                <a:lnTo>
                  <a:pt x="675" y="16201"/>
                </a:lnTo>
                <a:lnTo>
                  <a:pt x="0" y="16201"/>
                </a:lnTo>
                <a:close/>
              </a:path>
              <a:path w="21600" h="21600">
                <a:moveTo>
                  <a:pt x="1350" y="5399"/>
                </a:moveTo>
                <a:lnTo>
                  <a:pt x="2700" y="5399"/>
                </a:lnTo>
                <a:lnTo>
                  <a:pt x="2700" y="16201"/>
                </a:lnTo>
                <a:lnTo>
                  <a:pt x="1350" y="16201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740720" y="2406600"/>
            <a:ext cx="12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ff"/>
                </a:solidFill>
                <a:latin typeface="Times New Roman"/>
              </a:rPr>
              <a:t>Barra de herramientas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84280" y="797040"/>
            <a:ext cx="838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996633"/>
                </a:solidFill>
                <a:latin typeface="Arial"/>
              </a:rPr>
              <a:t>Aplicación: Mediciones de diferencia de fase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B22D2C-995E-4D52-B0CE-E3868140917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0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89" dur="3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50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6500"/>
                            </p:stCondLst>
                            <p:childTnLst>
                              <p:par>
                                <p:cTn id="6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8450"/>
                            </p:stCondLst>
                            <p:childTnLst>
                              <p:par>
                                <p:cTn id="703" nodeType="afterEffect" fill="remove" presetClass="emph" presetID="9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4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06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0450"/>
                            </p:stCondLst>
                            <p:childTnLst>
                              <p:par>
                                <p:cTn id="7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0950"/>
                            </p:stCondLst>
                            <p:childTnLst>
                              <p:par>
                                <p:cTn id="7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2800"/>
                            </p:stCondLst>
                            <p:childTnLst>
                              <p:par>
                                <p:cTn id="720" nodeType="afterEffect" fill="remove" presetClass="emph" presetID="9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1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23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4800"/>
                            </p:stCondLst>
                            <p:childTnLst>
                              <p:par>
                                <p:cTn id="7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5300"/>
                            </p:stCondLst>
                            <p:childTnLst>
                              <p:par>
                                <p:cTn id="7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6900"/>
                            </p:stCondLst>
                            <p:childTnLst>
                              <p:par>
                                <p:cTn id="737" nodeType="after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8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40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8900"/>
                            </p:stCondLst>
                            <p:childTnLst>
                              <p:par>
                                <p:cTn id="7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9400"/>
                            </p:stCondLst>
                            <p:childTnLst>
                              <p:par>
                                <p:cTn id="7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21350"/>
                            </p:stCondLst>
                            <p:childTnLst>
                              <p:par>
                                <p:cTn id="754" nodeType="after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5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mph" presetID="3" presetSubtype="2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57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23850"/>
                            </p:stCondLst>
                            <p:childTnLst>
                              <p:par>
                                <p:cTn id="7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24350"/>
                            </p:stCondLst>
                            <p:childTnLst>
                              <p:par>
                                <p:cTn id="7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328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00000"/>
                </a:solidFill>
                <a:latin typeface="Arial"/>
              </a:rPr>
              <a:t>Requerimientos de hardware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E3EF08-F259-46B1-A6B8-33B3CDCD93A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332000" y="1773360"/>
            <a:ext cx="6624720" cy="39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34784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44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  <a:p>
            <a:pPr marL="444600" indent="-444600">
              <a:lnSpc>
                <a:spcPct val="125000"/>
              </a:lnSpc>
              <a:spcBef>
                <a:spcPts val="451"/>
              </a:spcBef>
              <a:buClr>
                <a:srgbClr val="996633"/>
              </a:buClr>
              <a:buFont typeface="Arial"/>
              <a:buAutoNum type="arabicPeriod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336600"/>
                </a:solidFill>
                <a:latin typeface="Arial"/>
              </a:rPr>
              <a:t>Objetivo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  <a:p>
            <a:pPr marL="444600" indent="-444600">
              <a:lnSpc>
                <a:spcPct val="125000"/>
              </a:lnSpc>
              <a:spcBef>
                <a:spcPts val="451"/>
              </a:spcBef>
              <a:buClr>
                <a:srgbClr val="996633"/>
              </a:buClr>
              <a:buFont typeface="Arial"/>
              <a:buAutoNum type="arabicPeriod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00"/>
                </a:solidFill>
                <a:latin typeface="Arial"/>
              </a:rPr>
              <a:t>Introducción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  <a:p>
            <a:pPr marL="444600" indent="-444600">
              <a:lnSpc>
                <a:spcPct val="125000"/>
              </a:lnSpc>
              <a:spcBef>
                <a:spcPts val="451"/>
              </a:spcBef>
              <a:buClr>
                <a:srgbClr val="996633"/>
              </a:buClr>
              <a:buFont typeface="Arial"/>
              <a:buAutoNum type="arabicPeriod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00"/>
                </a:solidFill>
                <a:latin typeface="Arial"/>
              </a:rPr>
              <a:t>Descripción de componentes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  <a:p>
            <a:pPr marL="444600" indent="-444600">
              <a:lnSpc>
                <a:spcPct val="125000"/>
              </a:lnSpc>
              <a:spcBef>
                <a:spcPts val="451"/>
              </a:spcBef>
              <a:buClr>
                <a:srgbClr val="996633"/>
              </a:buClr>
              <a:buFont typeface="Arial"/>
              <a:buAutoNum type="arabicPeriod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00"/>
                </a:solidFill>
                <a:latin typeface="Arial"/>
              </a:rPr>
              <a:t>Requerimiento de hardware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  <a:p>
            <a:pPr marL="444600" indent="-444600">
              <a:lnSpc>
                <a:spcPct val="125000"/>
              </a:lnSpc>
              <a:spcBef>
                <a:spcPts val="451"/>
              </a:spcBef>
              <a:buClr>
                <a:srgbClr val="996633"/>
              </a:buClr>
              <a:buFont typeface="Arial"/>
              <a:buAutoNum type="arabicPeriod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00"/>
                </a:solidFill>
                <a:latin typeface="Arial"/>
              </a:rPr>
              <a:t>Instalación del software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  <a:p>
            <a:pPr marL="444600" indent="-444600">
              <a:lnSpc>
                <a:spcPct val="125000"/>
              </a:lnSpc>
              <a:spcBef>
                <a:spcPts val="451"/>
              </a:spcBef>
              <a:buClr>
                <a:srgbClr val="996633"/>
              </a:buClr>
              <a:buFont typeface="Arial"/>
              <a:buAutoNum type="arabicPeriod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00"/>
                </a:solidFill>
                <a:latin typeface="Arial"/>
              </a:rPr>
              <a:t>Ejemplos de análisis de frecuencia y fase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  <a:p>
            <a:pPr marL="444600" indent="-444600">
              <a:lnSpc>
                <a:spcPct val="125000"/>
              </a:lnSpc>
              <a:spcBef>
                <a:spcPts val="451"/>
              </a:spcBef>
              <a:buClr>
                <a:srgbClr val="996633"/>
              </a:buClr>
              <a:buFont typeface="Arial"/>
              <a:buAutoNum type="arabicPeriod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00"/>
                </a:solidFill>
                <a:latin typeface="Arial"/>
              </a:rPr>
              <a:t>Vistazo al contenido de la ayuda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  <a:p>
            <a:pPr marL="44460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  <a:p>
            <a:pPr marL="44460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583920" y="796680"/>
            <a:ext cx="8380440" cy="47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996633"/>
                </a:solidFill>
                <a:latin typeface="Arial"/>
              </a:rPr>
              <a:t>Contenido</a:t>
            </a:r>
            <a:endParaRPr b="1" i="1" lang="en-US" sz="20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D83A53-7FB7-4EC9-985E-550E4D1FD6E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934920" y="1700280"/>
            <a:ext cx="7453440" cy="449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98240" indent="-498240">
              <a:lnSpc>
                <a:spcPct val="8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imes New Roman"/>
              </a:rPr>
              <a:t>Computadora Personal IBM o compatible.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498240" indent="-498240">
              <a:lnSpc>
                <a:spcPct val="8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imes New Roman"/>
              </a:rPr>
              <a:t>Monitor VGA.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498240" indent="-498240">
              <a:lnSpc>
                <a:spcPct val="8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imes New Roman"/>
              </a:rPr>
              <a:t>Procesador Pentium o más reciente.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498240" indent="-498240">
              <a:lnSpc>
                <a:spcPct val="8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imes New Roman"/>
              </a:rPr>
              <a:t>50 MBytes de memoria disponible en disco duro.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498240" indent="-498240">
              <a:lnSpc>
                <a:spcPct val="8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imes New Roman"/>
              </a:rPr>
              <a:t>256 Mbytes en RAM.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498240" indent="-498240">
              <a:lnSpc>
                <a:spcPct val="8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imes New Roman"/>
              </a:rPr>
              <a:t>1 GHz de velocidad.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498240" indent="-498240">
              <a:lnSpc>
                <a:spcPct val="8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imes New Roman"/>
              </a:rPr>
              <a:t>Unidad CD-ROM para la instalación del programa.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498240" indent="-498240">
              <a:lnSpc>
                <a:spcPct val="8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imes New Roman"/>
              </a:rPr>
              <a:t>Microsoft Windows 95, 98, 98 SE, 2000, ME, XP Home o XP Profesional.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498240" indent="-498240">
              <a:lnSpc>
                <a:spcPct val="8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imes New Roman"/>
              </a:rPr>
              <a:t>Impresora con 4 Mbytes de memoria RAM SIMM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84280" y="797040"/>
            <a:ext cx="838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996633"/>
                </a:solidFill>
                <a:latin typeface="Arial"/>
              </a:rPr>
              <a:t>Requerimientos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61B73F-0D86-454C-A200-59E42CB3560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2650"/>
                            </p:stCondLst>
                            <p:childTnLst>
                              <p:par>
                                <p:cTn id="782" nodeType="afterEffect" fill="hold" presetClass="entr" presetID="4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5650"/>
                            </p:stCondLst>
                            <p:childTnLst>
                              <p:par>
                                <p:cTn id="790" nodeType="afterEffect" fill="hold" presetClass="entr" presetID="4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9600"/>
                            </p:stCondLst>
                            <p:childTnLst>
                              <p:par>
                                <p:cTn id="798" nodeType="afterEffect" fill="hold" presetClass="entr" presetID="4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14000"/>
                            </p:stCondLst>
                            <p:childTnLst>
                              <p:par>
                                <p:cTn id="806" nodeType="afterEffect" fill="hold" presetClass="entr" presetID="4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7200"/>
                            </p:stCondLst>
                            <p:childTnLst>
                              <p:par>
                                <p:cTn id="814" nodeType="afterEffect" fill="hold" presetClass="entr" presetID="4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0450"/>
                            </p:stCondLst>
                            <p:childTnLst>
                              <p:par>
                                <p:cTn id="822" nodeType="afterEffect" fill="hold" presetClass="entr" presetID="4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5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24950"/>
                            </p:stCondLst>
                            <p:childTnLst>
                              <p:par>
                                <p:cTn id="830" nodeType="afterEffect" fill="hold" presetClass="entr" presetID="4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6" dur="500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30200"/>
                            </p:stCondLst>
                            <p:childTnLst>
                              <p:par>
                                <p:cTn id="838" nodeType="afterEffect" fill="hold" presetClass="entr" presetID="41">
                                  <p:stCondLst>
                                    <p:cond delay="6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328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00000"/>
                </a:solidFill>
                <a:latin typeface="Arial"/>
              </a:rPr>
              <a:t>Instalación del software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3E6E03-B398-4F2C-9D2C-B2967DB1B8C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2997360"/>
            <a:ext cx="91440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ctr">
              <a:lnSpc>
                <a:spcPct val="110000"/>
              </a:lnSpc>
              <a:spcBef>
                <a:spcPts val="4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6600"/>
                </a:solidFill>
                <a:latin typeface="Comic Sans MS"/>
              </a:rPr>
              <a:t>¡GRACIAS!</a:t>
            </a:r>
            <a:endParaRPr b="0" lang="en-US" sz="5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F006C5-2BCB-4392-AEC7-4CA892BBE036}" type="datetime1">
              <a:rPr lang="en-US"/>
              <a:t>07/31/26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328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00000"/>
                </a:solidFill>
                <a:latin typeface="Arial"/>
              </a:rPr>
              <a:t>Objetivo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307D92-828E-46A0-BD08-B4F694E4755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55640" y="2852640"/>
            <a:ext cx="777240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66"/>
                </a:solidFill>
                <a:latin typeface="Times New Roman"/>
              </a:rPr>
              <a:t>Desarrollo de un software para el cálculo de la varianza de Allan y análisis gráfico de mediciones de tiempo y frecuencia. 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83920" y="796680"/>
            <a:ext cx="8380440" cy="47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996633"/>
                </a:solidFill>
                <a:latin typeface="Arial"/>
              </a:rPr>
              <a:t>Objetivo</a:t>
            </a:r>
            <a:endParaRPr b="1" i="1" lang="en-US" sz="20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595A9B-1B35-425A-A415-C7CFE124E53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328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00000"/>
                </a:solidFill>
                <a:latin typeface="Arial"/>
              </a:rPr>
              <a:t>Introducción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8A00FD-0849-41E2-9D97-1B07F326B3E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721400" y="1703520"/>
                <a:ext cx="16318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f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5854680" y="3213000"/>
                <a:ext cx="28940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Δf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±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</m:e>
                    </m:d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41" name="" descr=""/>
          <p:cNvPicPr/>
          <p:nvPr/>
        </p:nvPicPr>
        <p:blipFill>
          <a:blip r:embed="rId1"/>
          <a:srcRect l="31221" t="23792" r="3863" b="5744"/>
          <a:stretch/>
        </p:blipFill>
        <p:spPr>
          <a:xfrm>
            <a:off x="1079640" y="4005360"/>
            <a:ext cx="2700360" cy="21636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195640" y="3573360"/>
            <a:ext cx="576000" cy="360360"/>
          </a:xfrm>
          <a:prstGeom prst="downArrow">
            <a:avLst>
              <a:gd name="adj1" fmla="val 52620"/>
              <a:gd name="adj2" fmla="val 45375"/>
            </a:avLst>
          </a:prstGeom>
          <a:solidFill>
            <a:srgbClr val="00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716360" y="4834080"/>
                <a:ext cx="7239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4" name="" descr=""/>
          <p:cNvPicPr/>
          <p:nvPr/>
        </p:nvPicPr>
        <p:blipFill>
          <a:blip r:embed="rId2"/>
          <a:srcRect l="32199" t="24188" r="4478" b="6071"/>
          <a:stretch/>
        </p:blipFill>
        <p:spPr>
          <a:xfrm>
            <a:off x="1042920" y="1341360"/>
            <a:ext cx="2700360" cy="2160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 rot="16200000">
            <a:off x="3924360" y="1989000"/>
            <a:ext cx="576000" cy="360360"/>
          </a:xfrm>
          <a:prstGeom prst="downArrow">
            <a:avLst>
              <a:gd name="adj1" fmla="val 52620"/>
              <a:gd name="adj2" fmla="val 45375"/>
            </a:avLst>
          </a:prstGeom>
          <a:solidFill>
            <a:srgbClr val="00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3924360" y="4941720"/>
            <a:ext cx="576000" cy="360360"/>
          </a:xfrm>
          <a:prstGeom prst="downArrow">
            <a:avLst>
              <a:gd name="adj1" fmla="val 52620"/>
              <a:gd name="adj2" fmla="val 45375"/>
            </a:avLst>
          </a:prstGeom>
          <a:solidFill>
            <a:srgbClr val="00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64000" y="2529000"/>
            <a:ext cx="194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6699"/>
                </a:solidFill>
                <a:latin typeface="Arial"/>
              </a:rPr>
              <a:t>Desviación fraccional de frecuencia promedio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84720" y="5348160"/>
            <a:ext cx="16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6699"/>
                </a:solidFill>
                <a:latin typeface="Arial"/>
              </a:rPr>
              <a:t>Raíz de la varianza de Allan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6481800" y="4371840"/>
                <a:ext cx="42876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6443640" y="4724280"/>
                <a:ext cx="4572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6948360" y="4400640"/>
            <a:ext cx="19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6699"/>
                </a:solidFill>
                <a:latin typeface="Arial"/>
              </a:rPr>
              <a:t>Frecuencia verdadera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48360" y="4724280"/>
            <a:ext cx="19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6699"/>
                </a:solidFill>
                <a:latin typeface="Arial"/>
              </a:rPr>
              <a:t>Frecuencia nominal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44160" y="141300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exactitud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51760" y="443088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estabilidad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335640" y="2571840"/>
            <a:ext cx="24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Relación con el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patrón de referencia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19640" y="1268280"/>
            <a:ext cx="2160360" cy="2052720"/>
          </a:xfrm>
          <a:prstGeom prst="ellipse">
            <a:avLst/>
          </a:prstGeom>
          <a:solidFill>
            <a:srgbClr val="666699">
              <a:alpha val="12000"/>
            </a:srgbClr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32360" y="4076640"/>
            <a:ext cx="2124000" cy="2197080"/>
          </a:xfrm>
          <a:prstGeom prst="ellipse">
            <a:avLst/>
          </a:prstGeom>
          <a:solidFill>
            <a:srgbClr val="666699">
              <a:alpha val="12000"/>
            </a:srgbClr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79280" y="4329000"/>
                <a:ext cx="405612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τ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584280" y="797040"/>
            <a:ext cx="838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996633"/>
                </a:solidFill>
                <a:latin typeface="Arial"/>
              </a:rPr>
              <a:t>Mediciones de frecuencia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0E62E9-4463-4AA2-BDBE-836003E415CF}" type="datetime1">
              <a:rPr lang="en-US"/>
              <a:t>07/31/26</a:t>
            </a:fld>
          </a:p>
        </p:txBody>
      </p:sp>
    </p:spTree>
  </p:cSld>
  <p:transition>
    <p:zoom dir="in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9400"/>
                            </p:stCondLst>
                            <p:childTnLst>
                              <p:par>
                                <p:cTn id="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5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500"/>
                            </p:stCondLst>
                            <p:childTnLst>
                              <p:par>
                                <p:cTn id="8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700"/>
                            </p:stCondLst>
                            <p:childTnLst>
                              <p:par>
                                <p:cTn id="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7000"/>
                            </p:stCondLst>
                            <p:childTnLst>
                              <p:par>
                                <p:cTn id="159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6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43200000">
                                      <p:cBhvr>
                                        <p:cTn id="16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824360" y="1670040"/>
                <a:ext cx="12175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f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999040" y="3255840"/>
                <a:ext cx="28940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Δf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±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</m:e>
                    </m:d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335640" y="5553000"/>
                <a:ext cx="42552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3" name="" descr=""/>
          <p:cNvPicPr/>
          <p:nvPr/>
        </p:nvPicPr>
        <p:blipFill>
          <a:blip r:embed="rId1"/>
          <a:srcRect l="31760" t="24388" r="4110" b="5923"/>
          <a:stretch/>
        </p:blipFill>
        <p:spPr>
          <a:xfrm>
            <a:off x="1008000" y="1376280"/>
            <a:ext cx="2700360" cy="2098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35851" t="24048" r="4341" b="6916"/>
          <a:stretch/>
        </p:blipFill>
        <p:spPr>
          <a:xfrm>
            <a:off x="1008000" y="4005360"/>
            <a:ext cx="2664000" cy="2198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643280" y="5013360"/>
                <a:ext cx="7239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 rot="16200000">
            <a:off x="3924360" y="1989000"/>
            <a:ext cx="576000" cy="360360"/>
          </a:xfrm>
          <a:prstGeom prst="downArrow">
            <a:avLst>
              <a:gd name="adj1" fmla="val 52620"/>
              <a:gd name="adj2" fmla="val 45375"/>
            </a:avLst>
          </a:prstGeom>
          <a:solidFill>
            <a:srgbClr val="00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16200000">
            <a:off x="3959280" y="5084280"/>
            <a:ext cx="576360" cy="360360"/>
          </a:xfrm>
          <a:prstGeom prst="downArrow">
            <a:avLst>
              <a:gd name="adj1" fmla="val 52620"/>
              <a:gd name="adj2" fmla="val 45375"/>
            </a:avLst>
          </a:prstGeom>
          <a:solidFill>
            <a:srgbClr val="00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50920" y="3573360"/>
            <a:ext cx="576360" cy="360360"/>
          </a:xfrm>
          <a:prstGeom prst="downArrow">
            <a:avLst>
              <a:gd name="adj1" fmla="val 52620"/>
              <a:gd name="adj2" fmla="val 45375"/>
            </a:avLst>
          </a:prstGeom>
          <a:solidFill>
            <a:srgbClr val="00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82920" y="2529000"/>
            <a:ext cx="194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6699"/>
                </a:solidFill>
                <a:latin typeface="Arial"/>
              </a:rPr>
              <a:t>Desviación fraccional de frecuencia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372360" y="4708440"/>
                <a:ext cx="4204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6300720" y="5084640"/>
                <a:ext cx="4572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6912000" y="4702320"/>
            <a:ext cx="19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6699"/>
                </a:solidFill>
                <a:latin typeface="Arial"/>
              </a:rPr>
              <a:t>Frecuencia verdadera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12000" y="5133960"/>
            <a:ext cx="19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6699"/>
                </a:solidFill>
                <a:latin typeface="Arial"/>
              </a:rPr>
              <a:t>Frecuencia nominal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912000" y="5494320"/>
            <a:ext cx="19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6699"/>
                </a:solidFill>
                <a:latin typeface="Arial"/>
              </a:rPr>
              <a:t>Pendiente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82160" y="141300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exactitud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75280" y="552780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6699"/>
                </a:solidFill>
                <a:latin typeface="Arial"/>
              </a:rPr>
              <a:t>Raíz de la varianza de Allan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5400" y="46101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estabilidad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80000" y="2571840"/>
            <a:ext cx="24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Relación con el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patrón de referencia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76720" y="1197000"/>
            <a:ext cx="2160720" cy="2052720"/>
          </a:xfrm>
          <a:prstGeom prst="ellipse">
            <a:avLst/>
          </a:prstGeom>
          <a:solidFill>
            <a:srgbClr val="666699">
              <a:alpha val="12000"/>
            </a:srgbClr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59280" y="4184640"/>
            <a:ext cx="2124000" cy="2197080"/>
          </a:xfrm>
          <a:prstGeom prst="ellipse">
            <a:avLst/>
          </a:prstGeom>
          <a:solidFill>
            <a:srgbClr val="666699">
              <a:alpha val="12000"/>
            </a:srgbClr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87280" y="4257720"/>
                <a:ext cx="55609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τ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e>
                        </m:d>
                        <m:sSup>
                          <m:e>
                            <m:r>
                              <m:t xml:space="preserve">τ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m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m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584280" y="797040"/>
            <a:ext cx="838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996633"/>
                </a:solidFill>
                <a:latin typeface="Arial"/>
              </a:rPr>
              <a:t>Mediciones de diferencia de fase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E08098-DA06-48D6-8C93-39775B9127AD}" type="datetime1">
              <a:rPr lang="en-US"/>
              <a:t>07/31/26</a:t>
            </a:fld>
          </a:p>
        </p:txBody>
      </p:sp>
    </p:spTree>
  </p:cSld>
  <p:transition>
    <p:zoom dir="in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7100"/>
                            </p:stCondLst>
                            <p:childTnLst>
                              <p:par>
                                <p:cTn id="1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50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6500"/>
                            </p:stCondLst>
                            <p:childTnLst>
                              <p:par>
                                <p:cTn id="2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9700"/>
                            </p:stCondLst>
                            <p:childTnLst>
                              <p:par>
                                <p:cTn id="2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43200000">
                                      <p:cBhvr>
                                        <p:cTn id="31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0"/>
                            </p:stCondLst>
                            <p:childTnLst>
                              <p:par>
                                <p:cTn id="324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2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328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00000"/>
                </a:solidFill>
                <a:latin typeface="Arial"/>
              </a:rPr>
              <a:t>¿Qué es </a:t>
            </a:r>
            <a:r>
              <a:rPr b="1" i="1" lang="es-ES_tradnl" sz="3200" spc="-1" strike="noStrike">
                <a:solidFill>
                  <a:srgbClr val="800000"/>
                </a:solidFill>
                <a:latin typeface="Papyrus"/>
              </a:rPr>
              <a:t>AMTyF</a:t>
            </a:r>
            <a:r>
              <a:rPr b="0" i="1" lang="es-ES_tradnl" sz="3200" spc="-1" strike="noStrike">
                <a:solidFill>
                  <a:srgbClr val="800000"/>
                </a:solidFill>
                <a:latin typeface="Papyrus"/>
              </a:rPr>
              <a:t> </a:t>
            </a:r>
            <a:r>
              <a:rPr b="0" lang="es-ES_tradnl" sz="3200" spc="-1" strike="noStrike">
                <a:solidFill>
                  <a:srgbClr val="8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6C710E-A36C-48A5-96CD-8E18255A7DA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935000" y="1998720"/>
            <a:ext cx="5488200" cy="34034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84280" y="797040"/>
            <a:ext cx="838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996633"/>
                </a:solidFill>
                <a:latin typeface="Arial"/>
              </a:rPr>
              <a:t>Acerca de…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F4F58C-D094-4852-A5BA-E4A163E2B1D2}" type="datetime1">
              <a:rPr lang="en-US"/>
              <a:t>07/31/26</a:t>
            </a:fld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35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7T15:42:23Z</dcterms:created>
  <dc:creator>Francisco Jiménez Tapia</dc:creator>
  <dc:description/>
  <dc:language>en-US</dc:language>
  <cp:lastModifiedBy>Gerencia de Sistemas</cp:lastModifiedBy>
  <cp:lastPrinted>1999-07-15T21:38:51Z</cp:lastPrinted>
  <dcterms:modified xsi:type="dcterms:W3CDTF">2010-03-08T21:02:42Z</dcterms:modified>
  <cp:revision>377</cp:revision>
  <dc:subject/>
  <dc:title>Generación y Medición de Frecuencia</dc:title>
</cp:coreProperties>
</file>