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B6E-AFFC-4A5A-BEEA-59C91CBF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0391-ACC0-4711-BAE2-91D1A191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599-EBD3-4937-800F-5C9A8449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E6D-3218-4246-9106-C4FD2E6C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30A-D3E3-4141-B0AA-D7640E12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F01-8CB2-47CC-9F6B-ADAF456D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1B6-99C6-4205-A73E-8383A815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C57-3B07-499F-9A06-ABF81891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01DD-5E2F-40AF-BA67-32BBE9B9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737-7C74-4D4E-B509-373DC10B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18A8-6915-4A49-88C2-9BDA1FF6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0D6-F72B-4EEC-B6A9-730906DE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0851-BDD9-4457-8750-D49B59D0C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0360" y="2330280"/>
            <a:ext cx="8459640" cy="32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45280" y="639720"/>
            <a:ext cx="48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OS DE LA ERG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6000" y="1162080"/>
            <a:ext cx="8820000" cy="2871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71640" y="3751200"/>
            <a:ext cx="734544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820000" cy="2924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89080" y="3592440"/>
            <a:ext cx="8459640" cy="628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95280" y="4149720"/>
            <a:ext cx="835344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9640" y="1035000"/>
            <a:ext cx="8280360" cy="203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3635280"/>
            <a:ext cx="8280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7280" y="1846440"/>
            <a:ext cx="874872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222120"/>
            <a:ext cx="8351640" cy="65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920" y="671400"/>
            <a:ext cx="856908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141560"/>
            <a:ext cx="84960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360" y="2212920"/>
            <a:ext cx="88203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53272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7859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CION AD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7440" y="1668600"/>
            <a:ext cx="867564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85840"/>
            <a:ext cx="88930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360" y="476280"/>
            <a:ext cx="8820360" cy="3014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4246560"/>
            <a:ext cx="83516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8000" y="1255680"/>
            <a:ext cx="885672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1033560"/>
            <a:ext cx="889344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675640" cy="2036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08000" y="2781360"/>
            <a:ext cx="889308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4360" y="892080"/>
            <a:ext cx="8748720" cy="1168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3720960"/>
            <a:ext cx="7991280" cy="23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2289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249228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cado al puesto de trabajo 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2852640"/>
            <a:ext cx="8351640" cy="533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874872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828720"/>
            <a:ext cx="8353440" cy="1376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2903400"/>
            <a:ext cx="806472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920960"/>
            <a:ext cx="87487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731960"/>
            <a:ext cx="85690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287360"/>
            <a:ext cx="8353440" cy="1122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41440" y="3146400"/>
            <a:ext cx="835164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009880"/>
            <a:ext cx="8893080" cy="213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71440" y="83196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P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735120"/>
            <a:ext cx="7993080" cy="4792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353440" cy="681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99960" y="5451480"/>
            <a:ext cx="77011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360" y="189000"/>
            <a:ext cx="8820360" cy="65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17:05Z</dcterms:created>
  <dc:creator>Salon03</dc:creator>
  <dc:description/>
  <dc:language>en-US</dc:language>
  <cp:lastModifiedBy>Salon03</cp:lastModifiedBy>
  <dcterms:modified xsi:type="dcterms:W3CDTF">2009-06-25T21:17:09Z</dcterms:modified>
  <cp:revision>10</cp:revision>
  <dc:subject/>
  <dc:title>Diapositiva 1</dc:title>
</cp:coreProperties>
</file>