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AF3-740C-4F54-85F5-EF7FBE42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8A3-BA84-431B-9173-672CCD57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6C3-C824-4F76-A551-171AADCA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920-4FA3-48B3-A557-5FC6B1AE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B6F-44AC-4B18-8052-6AB0E42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7D6-8FF4-4461-9ABB-E9FDD73E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57E-280F-4670-B9E4-1CB9FED9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BCD-6A8B-44FB-85D9-00ABF95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476-D4D7-4A33-A32A-F464B62D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299-367C-44F0-B9BC-E81BBEF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427-C5E3-48D4-A237-9660312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24D-7824-4799-9951-B475F2D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F1F2-F925-44CE-83B6-38F9FD813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0360" y="2330280"/>
            <a:ext cx="8459640" cy="32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45280" y="63972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OS DE LA 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6000" y="1162080"/>
            <a:ext cx="8820000" cy="28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3751200"/>
            <a:ext cx="73454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080" y="3592440"/>
            <a:ext cx="845964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035000"/>
            <a:ext cx="828036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63528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280" y="1846440"/>
            <a:ext cx="8748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22120"/>
            <a:ext cx="835164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671400"/>
            <a:ext cx="85690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41560"/>
            <a:ext cx="8496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360" y="2212920"/>
            <a:ext cx="8820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3272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ON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7440" y="1668600"/>
            <a:ext cx="8675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88930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360" y="476280"/>
            <a:ext cx="8820360" cy="301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4246560"/>
            <a:ext cx="8351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000" y="1255680"/>
            <a:ext cx="8856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033560"/>
            <a:ext cx="88934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75640" cy="203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88930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360" y="892080"/>
            <a:ext cx="8748720" cy="1168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3720960"/>
            <a:ext cx="799128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2289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249228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do al puesto de trabajo 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835164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87487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828720"/>
            <a:ext cx="8353440" cy="137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903400"/>
            <a:ext cx="806472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920960"/>
            <a:ext cx="87487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31960"/>
            <a:ext cx="8569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287360"/>
            <a:ext cx="8353440" cy="112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440" y="3146400"/>
            <a:ext cx="8351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889308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71440" y="8319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35120"/>
            <a:ext cx="7993080" cy="479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353440" cy="6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9960" y="5451480"/>
            <a:ext cx="7701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360" y="189000"/>
            <a:ext cx="8820360" cy="65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17:05Z</dcterms:created>
  <dc:creator>Salon03</dc:creator>
  <dc:description/>
  <dc:language>en-US</dc:language>
  <cp:lastModifiedBy>Salon03</cp:lastModifiedBy>
  <dcterms:modified xsi:type="dcterms:W3CDTF">2009-06-25T21:17:09Z</dcterms:modified>
  <cp:revision>10</cp:revision>
  <dc:subject/>
  <dc:title>Diapositiva 1</dc:title>
</cp:coreProperties>
</file>