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E45-D52D-4D69-8414-6319A19F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139-3000-41F5-87EF-61529B2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2F1-8F3D-4B15-9177-AAF4227C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B7C-8B35-4C89-BC10-AFD00333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FC9A-0E4E-4626-BBF3-778D8494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6670-3A8B-4796-A856-C67D1C31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F7B5-B16C-4B6E-902A-FA5C6C59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53BF-A576-49CB-B360-5D9E9756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5D80-FCC0-4C5E-995D-50C0B51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574E-6625-4F9A-9F7E-F365A1C9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6CB6-EBB9-4018-9147-D83CEEF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A1D-CE1E-4CD5-B038-0EC8706F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34B-C926-4064-B7D8-E3BD151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77E0-ACEE-4413-B4DE-C013AC60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A75F-C8E7-478A-AFB0-8B67E1E4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C5E4-06DE-4AF0-A938-9B379180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3B8-8A94-4F5E-A4B5-055A2CE4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F7C-DA95-4572-A15F-F23CC13E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30A-FA6B-48BC-BEC9-B9FEC16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C0B-04E0-43C9-9E18-82A4702F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CFF-A1D3-45EA-9132-C9480159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F28-5E70-4076-8549-735EB3B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5AE-B57F-444D-A632-765E500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CB4-5916-43F7-81F0-CC79608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2142-DF68-4606-9780-0B6DDBBC19E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CF74-62AC-4D01-9E1C-D0DBE2C4638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36800"/>
            <a:ext cx="67816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UNEXPO ANTONIO JOSE DE SUCRE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RECCION DE INVESTIGACION Y POSTGRADO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ATEDRA: ERGONOMIA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gonomía Discipl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25360" y="5802480"/>
            <a:ext cx="189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LABORADO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YANEID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GLADYS MA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emplearse el menor número de elementos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o therbligs, y éstos se deben limitar a los del más bajo orden o clasificación posible. Estas clasificaciones, enlistadas en orden ascendente del tiempo y el esfuerzo requeridos para llevarlas a cabo, 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 y muñe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; muñeca y anteb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, muñeca, antebrazo y b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, muñeca, antebrazo, brazo y todo el cue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ebe procurarse qu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odo trabajo que pueda hacerse con los pies se ejecute al mismo tiemp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que el efectuado con las manos. Hay que reconocer, sin embargo, que los movimientos simultáneos de pies y manos son difíciles de reali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Los dedos cordial y pulgar son los más fuertes para el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El índice, el anular y el meñique no pueden soportar o manejar cargas considerables por largo tiem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os pies no pueden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ccionar pedales eficientemente cuando el operario está de pie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movimientos de torsión deben realizarse con los codos flexionado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ara asir herramientas deben emplearse las falange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o segmentos de los dedos, más cercanos a la palma de la 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n destinars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sitios fijos para toda herramienta y todo material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a fin de permitir la mejor secuencia de operaciones y eliminar o reducir los therbligs buscar y seleccion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Hay qu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tilizar depósitos con alimentación por gravedad y entrega por caída deslizamient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para reducir los tiempos de alcanzar y mover; asimismo, conviene disponer de expulsores, siempre que sea posible, para retirar automáticamente las piezas acab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Todos los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materiales y las herramientas deben ubicarse dentro del perímetro normal de trabaj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tanto en el plano horizontal como en el vertic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720" y="1447920"/>
            <a:ext cx="54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posición y condiciones en el sitio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nvien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roporcionar un asiento cómodo al operari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en que sea posible tener la altura apropiada para que el trabajo pueda llevarse a cabo eficientemente, alternando las posiciones de sentado y de p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 deb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ar con el alumbrado, la ventilación y la temperatura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adecu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eben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enerse en consideración los requisitos visuale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o de visibilidad en estación de trabajo, para reducir al mínimo las exigencias de fijación de la v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Un buen ritmo es esencial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para llevar a cabo suave y automáticamente una operación, y el trabajo debe organizarse de manera que permita obtener un ritmo fácil y natural siempre que sea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720" y="1447920"/>
            <a:ext cx="54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posición y condiciones en el sitio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n efectuarse, siempre que sea posible,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operaciones múltiples de las herramientas combinando dos o más de ellas en una sola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o bien disponiendo operación múltiple en los dispositivos alimentadores, si fuera el caso (por ejemplo, en tornos con carro transversal y de torreta hexago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Todas las palancas, manijas, volantes y otros elementos de manejo deben estar fácilmente accesibles al operari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y deben diseñarse de manera que proporcionen la ventaja mecánica máxima posible y pueda utilizarse el conjunto muscular más fue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Las piezas en trabaj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deben sostenerse en posici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por medio de dispositivos de suje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Se debe investigar siempre la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posibilidad de utilizar herramientas mecanizadas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(eléctricas o de otro tipo) o semiautomáticas, como aprietatuercas y destornilladores motorizados y llaves de tuercas de velocida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600" y="144792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eño de las herramientas y el equip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elección y orientación profesionales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técnico profe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solución de probl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proy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lexi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organ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comunicati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para trabajar en equ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gridad person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674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Ocasiones de la optimización ergonómica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14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vestigación de las demandas físicas, fisiológicas, psicológicas y socioculturales de una tarea o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mparación de las tareas o actividad con las capacidades y limitaciones de las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nto de eliminar los desajustes demanda/capacidades mediante mejoras en selección, capacitación, inducción, aclimatación, motivación, diseño, rediseño de equipo, vestimenta, método de trabajo, y condiciones generales de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7335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cias por su atención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ciplinas con funciones ergonómicas y su integración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246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relacionada con disciplinas afin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86000"/>
            <a:ext cx="4267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investigación de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studio del tr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 de tiempos y mov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530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ciplinas con funciones ergonómicas y su integración.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natom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trata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y estructura de los distintos órganos del cuerp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del organismo en su conju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ntropometr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describe l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ci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itativas de las medidas del cuerp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estudia las dimensiones considerando las distintas estructuras anatóm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Biomecánic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plica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yes de la mecánica a las estructuras del aparato locomotor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que permite analizar los distintos elementos que intervienen en el desarrollo de los mov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Fisiologí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 ocupa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onamiento de los sistemas fisiológicos del organism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se centra principalmente en el consumo metabólico durante el trabaj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sicologí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rata de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tas del comportamient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actitudes y mecanismos implicados en la percepción y carga men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Ingenier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se ocupa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ño de las máquinas y equipos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así como de las instalaciones y acondicionamiento del medio ambiente fís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729000"/>
            <a:ext cx="7543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ondiciones ambientales de trabajo e higiene labo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114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iene y seguridad del trabaj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de higiene del trabajo (servicios médicos, primeros auxil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s inform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 regular de convenios o colaboración con entidades loc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ambiental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ciones de tiempo (horarios, horas ext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ciones sociales (ambiente y clima lab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iene en el trabajo (iluminación ruido y condiciones atmosféric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333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3080" y="1657440"/>
            <a:ext cx="8458200" cy="3543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7880" y="1445400"/>
            <a:ext cx="56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Método TEPS Técnicas  psicológicas en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480" y="1854360"/>
            <a:ext cx="891540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148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Estas leyes son todas aplicables a cualquier tipo de trabajo, pero se agrupan en tres subdivisiones básic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429000"/>
            <a:ext cx="41148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Aplicación y uso del cuerp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Arreglo del área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Diseño de herramient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962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mbas manos deben comenzar y terminar simultáneamente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los elementos o divisiones básicas de trabajo, y no deben estar inactivas al mismo tiempo, excepto durante los periodos de descan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Los movimientos de las manos deben ser simétrico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efectuarse simultáneamente al alejarse del cuerpo y acercándose a é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Siempre que sea posible debe aprovecharse el impulso o ímpetu físic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como ayuda al obrero, y reducirse a un mínimo cuando haya que ser contrarrestado mediante su esfuerzo mus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on,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referibles los movimientos continuos en línea curva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en vez de los rectilíneos que impliquen cambios de dirección repentinos y bruscos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9:03:03Z</dcterms:created>
  <dc:creator>Gerencia de Sistemas</dc:creator>
  <dc:description/>
  <dc:language>en-US</dc:language>
  <cp:lastModifiedBy>Gerencia de Sistemas</cp:lastModifiedBy>
  <dcterms:modified xsi:type="dcterms:W3CDTF">2010-03-23T20:00:51Z</dcterms:modified>
  <cp:revision>11</cp:revision>
  <dc:subject/>
  <dc:title>UNEXPO ANTONIO JOSE DE SUCRE DIRECCION DE INVESTIGACION Y POSTGRADO CATEDRA: ERGONOMIA</dc:title>
</cp:coreProperties>
</file>