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B2E-644F-4E11-A500-A4330C6C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D34-6ECC-434B-88AB-CC218591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508-2D1D-44D0-A2B3-D06C2EC6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368-E791-45D1-84A5-F201AB61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C9A6-C606-4480-9FA4-7F5A75FD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A850-30A3-4F4C-A24F-8525BBDB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2760-58FE-4890-8062-3CFB1148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7B3C-B858-4630-BE28-97A380EA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46E8-38B7-4447-A03F-565CF6D1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DCA1-92D4-4D87-B550-AB6FE2F2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ABCA-5D2A-40A8-BC30-C37B72F2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702-7E9E-427B-A298-A8B8AEB8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1EA0-97E6-4213-8EA7-7CCE4623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D31D-9986-4EDB-9E7D-F6C1A5F6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DCDC-FAC7-480F-9471-662FD93C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07E7-AB55-4C56-B770-B55C7867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0B43-328D-4568-B530-7BA6C31D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8B7-29FB-4ABF-A735-F58BAAA8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652-F066-4800-B5CB-81C29BFB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F6F-69A4-46B5-B18E-3698B6E6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8FC-A058-4531-B7FC-9AFC563F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6B7-C883-4BF4-81EF-93E8710D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9D8-2BFF-41FA-AA21-6E0CF8C8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DF9-35AA-457B-908A-948E4E0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20DD-096E-4D08-A183-EB61E3AC67A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9ABC-FBF3-493F-8717-1B5A09E4332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36800"/>
            <a:ext cx="67816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UNEXPO ANTONIO JOSE DE SUCRE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RECCION DE INVESTIGACION Y POSTGRADO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CATEDRA: ERGONOMIA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gonomía Discipl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25360" y="5802480"/>
            <a:ext cx="189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ELABORADO P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YANEID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GLADYS MA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Debe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emplearse el menor número de elementos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o therbligs, y éstos se deben limitar a los del más bajo orden o clasificación posible. Estas clasificaciones, enlistadas en orden ascendente del tiempo y el esfuerzo requeridos para llevarlas a cabo, 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 y muñe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; muñeca y antebr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, muñeca, antebrazo y br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, muñeca, antebrazo, brazo y todo el cue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4479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Relativos al uso del cuerp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ebe procurarse que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todo trabajo que pueda hacerse con los pies se ejecute al mismo tiemp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que el efectuado con las manos. Hay que reconocer, sin embargo, que los movimientos simultáneos de pies y manos son difíciles de reali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Los dedos cordial y pulgar son los más fuertes para el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 El índice, el anular y el meñique no pueden soportar o manejar cargas considerables por largo tiem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os pies no pueden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ccionar pedales eficientemente cuando el operario está de pie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movimientos de torsión deben realizarse con los codos flexionado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ara asir herramientas deben emplearse las falange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, o segmentos de los dedos, más cercanos a la palma de la 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4479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Relativos al uso del cuerp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Deben destinarse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sitios fijos para toda herramienta y todo material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a fin de permitir la mejor secuencia de operaciones y eliminar o reducir los therbligs buscar y seleccion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Hay que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utilizar depósitos con alimentación por gravedad y entrega por caída deslizamient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para reducir los tiempos de alcanzar y mover; asimismo, conviene disponer de expulsores, siempre que sea posible, para retirar automáticamente las piezas acab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Todos los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materiales y las herramientas deben ubicarse dentro del perímetro normal de trabaj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tanto en el plano horizontal como en el vertic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720" y="1447920"/>
            <a:ext cx="54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Disposición y condiciones en el sitio de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onviene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roporcionar un asiento cómodo al operari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, en que sea posible tener la altura apropiada para que el trabajo pueda llevarse a cabo eficientemente, alternando las posiciones de sentado y de p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 debe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ar con el alumbrado, la ventilación y la temperatura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adecu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eben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tenerse en consideración los requisitos visuale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o de visibilidad en estación de trabajo, para reducir al mínimo las exigencias de fijación de la vi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Un buen ritmo es esencial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para llevar a cabo suave y automáticamente una operación, y el trabajo debe organizarse de manera que permita obtener un ritmo fácil y natural siempre que sea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720" y="1447920"/>
            <a:ext cx="54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Disposición y condiciones en el sitio de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Deben efectuarse, siempre que sea posible,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operaciones múltiples de las herramientas combinando dos o más de ellas en una sola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o bien disponiendo operación múltiple en los dispositivos alimentadores, si fuera el caso (por ejemplo, en tornos con carro transversal y de torreta hexago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Todas las palancas, manijas, volantes y otros elementos de manejo deben estar fácilmente accesibles al operari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y deben diseñarse de manera que proporcionen la ventaja mecánica máxima posible y pueda utilizarse el conjunto muscular más fue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Las piezas en trabaj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deben sostenerse en posición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por medio de dispositivos de suje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Se debe investigar siempre la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posibilidad de utilizar herramientas mecanizadas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(eléctricas o de otro tipo) o semiautomáticas, como aprietatuercas y destornilladores motorizados y llaves de tuercas de velocida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1600" y="144792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Diseño de las herramientas y el equip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elección y orientación profesionales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técnico profe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de solución de probl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de proye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Flexi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de organ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comunicati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para trabajar en equi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gridad person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2674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Ocasiones de la optimización ergonómica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14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vestigación de las demandas físicas, fisiológicas, psicológicas y socioculturales de una tarea o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omparación de las tareas o actividad con las capacidades y limitaciones de las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nto de eliminar los desajustes demanda/capacidades mediante mejoras en selección, capacitación, inducción, aclimatación, motivación, diseño, rediseño de equipo, vestimenta, método de trabajo, y condiciones generales de la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73356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cias por su atención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ciplinas con funciones ergonómicas y su integración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246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relacionada con disciplinas afin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86000"/>
            <a:ext cx="4267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investigación de 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estudio del tr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 de tiempos y mov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5304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ciplinas con funciones ergonómicas y su integración.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natomía: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trata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y estructura de los distintos órganos del cuerp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del organismo en su conju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ntropometría: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describe l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erenci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itativas de las medidas del cuerp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estudia las dimensiones considerando las distintas estructuras anatóm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Biomecánica: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plica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yes de la mecánica a las estructuras del aparato locomotor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que permite analizar los distintos elementos que intervienen en el desarrollo de los movimi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Fisiología: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 ocupa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onamiento de los sistemas fisiológicos del organism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se centra principalmente en el consumo metabólico durante el trabaj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sicología: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trata de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utas del comportamient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, actitudes y mecanismos implicados en la percepción y carga men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Ingeniería: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se ocupa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ño de las máquinas y equipos de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así como de las instalaciones y acondicionamiento del medio ambiente fís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729000"/>
            <a:ext cx="7543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Condiciones ambientales de trabajo e higiene laboral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114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iene y seguridad del trabaj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de higiene del trabajo (servicios médicos, primeros auxil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s inform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 regular de convenios o colaboración con entidades loc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ambiental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ciones de tiempo (horarios, horas ext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ciones sociales (ambiente y clima labo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iene en el trabajo (iluminación ruido y condiciones atmosféric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333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Métodos de trabajo y seguridad integrada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Métodos de trabajo y seguridad integrada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3080" y="1657440"/>
            <a:ext cx="8458200" cy="3543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7880" y="1445400"/>
            <a:ext cx="56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Método TEPS Técnicas  psicológicas en 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Métodos de trabajo y seguridad integrada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480" y="1854360"/>
            <a:ext cx="891540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148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Estas leyes son todas aplicables a cualquier tipo de trabajo, pero se agrupan en tres subdivisiones básic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429000"/>
            <a:ext cx="41148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60000"/>
              </a:lnSpc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Aplicación y uso del cuerp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60000"/>
              </a:lnSpc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Arreglo del área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60000"/>
              </a:lnSpc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Diseño de herramient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9625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mbas manos deben comenzar y terminar simultáneamente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los elementos o divisiones básicas de trabajo, y no deben estar inactivas al mismo tiempo, excepto durante los periodos de descan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Los movimientos de las manos deben ser simétrico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efectuarse simultáneamente al alejarse del cuerpo y acercándose a é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Siempre que sea posible debe aprovecharse el impulso o ímpetu físic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como ayuda al obrero, y reducirse a un mínimo cuando haya que ser contrarrestado mediante su esfuerzo mus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on,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referibles los movimientos continuos en línea curva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en vez de los rectilíneos que impliquen cambios de dirección repentinos y bruscos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4479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Relativos al uso del cuerp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9:03:03Z</dcterms:created>
  <dc:creator>Gerencia de Sistemas</dc:creator>
  <dc:description/>
  <dc:language>en-US</dc:language>
  <cp:lastModifiedBy>Gerencia de Sistemas</cp:lastModifiedBy>
  <dcterms:modified xsi:type="dcterms:W3CDTF">2010-03-23T20:00:51Z</dcterms:modified>
  <cp:revision>11</cp:revision>
  <dc:subject/>
  <dc:title>UNEXPO ANTONIO JOSE DE SUCRE DIRECCION DE INVESTIGACION Y POSTGRADO CATEDRA: ERGONOMIA</dc:title>
</cp:coreProperties>
</file>