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829-37F8-4CFA-89BA-6B1B8011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CE3-3436-4D7B-B6DD-F9949E7E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FD1-0B21-4D17-9C2A-6A861802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311-C0D1-4061-B45B-10FAB4E4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38B2-7394-433F-8797-5049EEFC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1481-B717-41BC-B8EA-85BB97EA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1F3D-AA8E-425D-A461-C230DC70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1026-B3B6-4BA4-982A-B8BC1119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6B61-37AC-4B94-862B-F22D05BA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CC53-DA8C-4DEB-B396-F9F34560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80B7-5293-4329-A9DB-1FFCE187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6F2-F509-4784-B386-5307D007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4B1E-8135-459D-81C3-FE0E3A60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4099-0402-4667-812A-4A3B75F0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FF0B-0DB1-461E-BDA9-63C5B5C5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636B-86D5-471D-AC57-178AABE5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8BDE-FC5E-458C-BA6E-90EB34B5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299-72EA-477B-9B9A-BB1562BA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6C7-DFAC-4D92-AE12-F9E69583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830-D48E-4002-9C8E-95381FC7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178-F464-414E-B0A7-A3618777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F30-62D6-4A8A-BF7E-BE1638FB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63D-778A-4F13-BA1F-145525E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BBA-4597-4D5D-98FF-CFF3A0CB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79F3-C7CE-41AB-88FB-73ED6EED587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95F9-4F65-444C-B3FA-EA5326346A3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36800"/>
            <a:ext cx="67816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UNEXPO ANTONIO JOSE DE SUCRE</a:t>
            </a:r>
            <a:br>
              <a:rPr sz="2200"/>
            </a:b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RECCION DE INVESTIGACION Y POSTGRADO</a:t>
            </a:r>
            <a:br>
              <a:rPr sz="2200"/>
            </a:b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CATEDRA: ERGONOMIA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ERAMIENTAS ERGONO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25000" y="5802480"/>
            <a:ext cx="18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ELABORADO P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YANEID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720" y="1219320"/>
            <a:ext cx="75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DURACION DE LA TAREA POR 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90720" y="2428920"/>
            <a:ext cx="7053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219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CALCULO DE LOS FACTORES MULTIPL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5120" y="1911240"/>
            <a:ext cx="49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219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PUESTO DE TRABAJO EN ESTUDI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PERSONAL DE TAQUILLA - Recepción de enví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02800" y="2736720"/>
            <a:ext cx="293616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0066"/>
                </a:solidFill>
                <a:latin typeface="Arial"/>
              </a:rPr>
              <a:t>CALCULO DEL STRAIN INDE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0066"/>
                </a:solidFill>
                <a:latin typeface="Arial"/>
              </a:rPr>
              <a:t>JSI = IE*DE*EM*HWP*SW*D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0066"/>
                </a:solidFill>
                <a:latin typeface="Arial"/>
              </a:rPr>
              <a:t>JSI = 3*1*1*1.5*1*1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0066"/>
                </a:solidFill>
                <a:latin typeface="Arial"/>
              </a:rPr>
              <a:t>JSI = 6.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2133720"/>
          <a:ext cx="5867280" cy="3625560"/>
        </p:xfrm>
        <a:graphic>
          <a:graphicData uri="http://schemas.openxmlformats.org/drawingml/2006/table">
            <a:tbl>
              <a:tblPr/>
              <a:tblGrid>
                <a:gridCol w="2268360"/>
                <a:gridCol w="1675080"/>
                <a:gridCol w="19238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ATOS OBTEN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MULTIPLIC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ntensidad del esfuer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uración del esfuer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sfuerzo por min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ostura mano-muñe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Velocidad de trabaj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uración de la tarea por dí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cias por su atención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8862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étodo se basa en la medición de variables para determinar los posibles riesgos a los que esta asociado el trabajador en su puesto de trabajo, asociados al uso de la ma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2262240"/>
            <a:ext cx="41054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947600"/>
            <a:ext cx="84582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Determinar los </a:t>
            </a: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ciclos de trabajo y observar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al trabajador durante varios de estos cic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Determinar las tareas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que se evaluaran y el </a:t>
            </a: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tiempo de observación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neces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Determinar el </a:t>
            </a: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valor de los multiplicadores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de la ecuación de acuerdo con las escalas propuestas por el méto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Revisar las puntuaciones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para determinar donde es necesario aplicar correc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Rediseñar el puesto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o introducir cambios para disminuir el riesgo </a:t>
            </a: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si es necesario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En caso de haber realizado los cambio, </a:t>
            </a: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evaluar nuevamente con el método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para comprobar al efectividad de la mej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7320" y="1306440"/>
            <a:ext cx="28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Aplicación del mét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152280" y="1981080"/>
            <a:ext cx="129564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INTENSIDAD DEL ESFUER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1676520" y="1981080"/>
            <a:ext cx="137160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DURACION DEL ESFUER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3" action="ppaction://hlinksldjump"/>
          </p:cNvPr>
          <p:cNvSpPr/>
          <p:nvPr/>
        </p:nvSpPr>
        <p:spPr>
          <a:xfrm>
            <a:off x="3276720" y="1981080"/>
            <a:ext cx="124128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ESFUERZO POR MIN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1981080"/>
            <a:ext cx="129528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POSTURA MANO-MUÑ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HW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1981080"/>
            <a:ext cx="129564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VELOCIDAD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S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1981080"/>
            <a:ext cx="129528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DURACION DE LA TAREA POR 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D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9000" y="114300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S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0200" y="4303800"/>
            <a:ext cx="34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ALCULO DEL STRAIN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JSI= IE*DE*EM*HWP*SW*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2160" y="582768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onde: Valores de JSI superiores o iguales a 3 indican que la tarea es se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Valores superiores o iguales a 7 indican que la tarea es pelig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7480" y="1219320"/>
            <a:ext cx="68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INTENSIDAD DEL ESFUE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89154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160" y="1219320"/>
            <a:ext cx="66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DURACION DEL ESFUE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54520" y="6019920"/>
            <a:ext cx="4950720" cy="580680"/>
            <a:chOff x="2054520" y="6019920"/>
            <a:chExt cx="4950720" cy="580680"/>
          </a:xfrm>
        </p:grpSpPr>
        <p:sp>
          <p:nvSpPr>
            <p:cNvPr id="174" name=""/>
            <p:cNvSpPr/>
            <p:nvPr/>
          </p:nvSpPr>
          <p:spPr>
            <a:xfrm>
              <a:off x="2054520" y="6019920"/>
              <a:ext cx="495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% DURACION = 100 * DURACION DEL ESFUERZ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TIEMPO DE OBSERV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51760" y="6340680"/>
              <a:ext cx="323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7724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2800" y="1219320"/>
            <a:ext cx="65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ESFUERZOS POR MIN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04840" y="2405160"/>
            <a:ext cx="6743880" cy="31795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608480" y="6019920"/>
            <a:ext cx="6240240" cy="580680"/>
            <a:chOff x="1608480" y="6019920"/>
            <a:chExt cx="6240240" cy="580680"/>
          </a:xfrm>
        </p:grpSpPr>
        <p:sp>
          <p:nvSpPr>
            <p:cNvPr id="181" name=""/>
            <p:cNvSpPr/>
            <p:nvPr/>
          </p:nvSpPr>
          <p:spPr>
            <a:xfrm>
              <a:off x="1608480" y="6019920"/>
              <a:ext cx="616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ESFUERZOS POR MINUTO = NUMERO DE ESFUERZ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                                                 </a:t>
              </a: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TIEMPO DE OBSERVACION (MI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457880" y="6332760"/>
              <a:ext cx="339084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1720" y="1219320"/>
            <a:ext cx="656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POSTURA MANO-MUÑ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320" y="2471760"/>
            <a:ext cx="89154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2440" y="1219320"/>
            <a:ext cx="648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VELOCIDAD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2451" t="0" r="2857" b="0"/>
          <a:stretch/>
        </p:blipFill>
        <p:spPr>
          <a:xfrm>
            <a:off x="152280" y="2343240"/>
            <a:ext cx="88394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9:03:03Z</dcterms:created>
  <dc:creator>Gerencia de Sistemas</dc:creator>
  <dc:description/>
  <dc:language>en-US</dc:language>
  <cp:lastModifiedBy>Gerencia de Sistemas</cp:lastModifiedBy>
  <dcterms:modified xsi:type="dcterms:W3CDTF">2010-04-13T19:19:52Z</dcterms:modified>
  <cp:revision>32</cp:revision>
  <dc:subject/>
  <dc:title>UNEXPO ANTONIO JOSE DE SUCRE DIRECCION DE INVESTIGACION Y POSTGRADO CATEDRA: ERGONOMIA</dc:title>
</cp:coreProperties>
</file>