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A61-9E46-416C-A907-F0BE58B1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2C3-6109-4069-B538-CE518A88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774-6488-4201-9470-F961FDA4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223-D253-4A7C-9A07-458DEE6B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C198-968D-4745-BACC-FA8B5F5F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42D2-2AE3-44DA-8859-08469CBB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A6B4-27F7-4682-9A14-89ACCF1E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C1AE-EBAB-495E-9E79-20058CFE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327B-C2E8-4853-A503-2ED64E8C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F883-65B1-4484-8AC3-551A8BB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83A4-B770-4C4C-BC45-B0EF1A9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164-F86E-4E9C-948F-A5515068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04DF-4DFF-4FA8-9CF3-5DEF3FCA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2A4A-BC61-45F1-84C7-8A7D08B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2803-D60C-47B0-ABD2-CA78D41A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59B6-8187-485A-8BD6-1BDD07A8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D127-D045-4B24-85F6-20B6BBBB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07D-F3A8-4075-8E78-91CFC983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BD4-E9E2-4D66-B25D-ED6A93AC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268-2833-48EB-9AC6-9AC677DB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6DA-0AB8-4DEA-BA53-F10AC8DD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ECE-3C48-4522-B981-62823879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642-F5D7-4B12-BEE6-A68C788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9A1-C5A0-48C2-BDB3-DDD1235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486F-DF97-4837-A762-7766BCE31E0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C83B-B183-4E7E-97D8-441668B600E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36800"/>
            <a:ext cx="67816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UNEXPO ANTONIO JOSE DE SUCRE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DIRECCION DE INVESTIGACION Y POSTGRADO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CATEDRA: ERGONOMIA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ERAMIENTAS ERGONO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25000" y="5802480"/>
            <a:ext cx="18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ELABORADO P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YANEID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720" y="1219320"/>
            <a:ext cx="75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DURACION DE LA TAREA POR 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90720" y="2428920"/>
            <a:ext cx="7053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219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CALCULO DE LOS FACTORES MULTIPL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5120" y="1911240"/>
            <a:ext cx="49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19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PUESTO DE TRABAJO EN ESTUDI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PERSONAL DE TAQUILLA - Recepción de enví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02800" y="2736720"/>
            <a:ext cx="293616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0066"/>
                </a:solidFill>
                <a:latin typeface="Arial"/>
              </a:rPr>
              <a:t>CALCULO DEL STRAIN INDE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0066"/>
                </a:solidFill>
                <a:latin typeface="Arial"/>
              </a:rPr>
              <a:t>JSI = IE*DE*EM*HWP*SW*D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0066"/>
                </a:solidFill>
                <a:latin typeface="Arial"/>
              </a:rPr>
              <a:t>JSI = 3*1*1*1.5*1*1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0066"/>
                </a:solidFill>
                <a:latin typeface="Arial"/>
              </a:rPr>
              <a:t>JSI = 6.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2133720"/>
          <a:ext cx="5867280" cy="3625560"/>
        </p:xfrm>
        <a:graphic>
          <a:graphicData uri="http://schemas.openxmlformats.org/drawingml/2006/table">
            <a:tbl>
              <a:tblPr/>
              <a:tblGrid>
                <a:gridCol w="2268360"/>
                <a:gridCol w="1675080"/>
                <a:gridCol w="19238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ATOS OBTE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MULTIPLIC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ntensidad del esfuer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uración del esfuer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sfuerzo por min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ostura mano-muñe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Velocidad de trabaj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uración de la tarea por dí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cias por su atención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8862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étodo se basa en la medición de variables para determinar los posibles riesgos a los que esta asociado el trabajador en su puesto de trabajo, asociados al uso de la m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2262240"/>
            <a:ext cx="41054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947600"/>
            <a:ext cx="84582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Determinar los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ciclos de trabajo y observar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al trabajador durante varios de estos cic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Determinar las tareas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que se evaluaran y el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tiempo de observación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neces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Determinar el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valor de los multiplicadores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de la ecuación de acuerdo con las escalas propuestas por el méto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Revisar las puntuaciones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para determinar donde es necesario aplicar correc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Rediseñar el puesto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o introducir cambios para disminuir el riesgo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si es necesario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4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En caso de haber realizado los cambio, </a:t>
            </a:r>
            <a:r>
              <a:rPr b="1" i="1" lang="en-US" sz="1600" spc="-1" strike="noStrike">
                <a:solidFill>
                  <a:srgbClr val="330066"/>
                </a:solidFill>
                <a:latin typeface="Arial"/>
              </a:rPr>
              <a:t>evaluar nuevamente con el método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para comprobar al efectividad de la mej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7320" y="1306440"/>
            <a:ext cx="28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Aplicación del mé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152280" y="1981080"/>
            <a:ext cx="129564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INTENSIDAD DEL ESFUER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1676520" y="1981080"/>
            <a:ext cx="137160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DURACION DEL ESFUER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3276720" y="1981080"/>
            <a:ext cx="124128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ESFUERZO POR MIN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981080"/>
            <a:ext cx="129528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POSTURA MANO-MUÑ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HW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1981080"/>
            <a:ext cx="129564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ELOCIDAD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S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1981080"/>
            <a:ext cx="1295280" cy="1143000"/>
          </a:xfrm>
          <a:prstGeom prst="rect">
            <a:avLst/>
          </a:prstGeom>
          <a:solidFill>
            <a:srgbClr val="69cd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DURACION DE LA TAREA POR 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(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9000" y="114300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S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0200" y="4303800"/>
            <a:ext cx="34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ALCULO DEL STRAIN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JSI= IE*DE*EM*HWP*SW*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2160" y="582768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onde: Valores de JSI superiores o iguales a 3 indican que la tarea es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Valores superiores o iguales a 7 indican que la tarea es pelig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7480" y="1219320"/>
            <a:ext cx="68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INTENSIDAD DEL ES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89154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160" y="1219320"/>
            <a:ext cx="66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DURACION DEL ES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54520" y="6019920"/>
            <a:ext cx="4950720" cy="580680"/>
            <a:chOff x="2054520" y="6019920"/>
            <a:chExt cx="4950720" cy="580680"/>
          </a:xfrm>
        </p:grpSpPr>
        <p:sp>
          <p:nvSpPr>
            <p:cNvPr id="174" name=""/>
            <p:cNvSpPr/>
            <p:nvPr/>
          </p:nvSpPr>
          <p:spPr>
            <a:xfrm>
              <a:off x="2054520" y="6019920"/>
              <a:ext cx="495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% DURACION = 100 * DURACION DEL ESFUERZ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TIEMPO DE OBSERV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51760" y="6340680"/>
              <a:ext cx="323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7724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2800" y="1219320"/>
            <a:ext cx="65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ESFUERZOS POR MIN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04840" y="2405160"/>
            <a:ext cx="6743880" cy="31795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608480" y="6019920"/>
            <a:ext cx="6240240" cy="580680"/>
            <a:chOff x="1608480" y="6019920"/>
            <a:chExt cx="6240240" cy="580680"/>
          </a:xfrm>
        </p:grpSpPr>
        <p:sp>
          <p:nvSpPr>
            <p:cNvPr id="181" name=""/>
            <p:cNvSpPr/>
            <p:nvPr/>
          </p:nvSpPr>
          <p:spPr>
            <a:xfrm>
              <a:off x="1608480" y="6019920"/>
              <a:ext cx="616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ESFUERZOS POR MINUTO = NUMERO DE ESFUERZ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                                                 </a:t>
              </a:r>
              <a:r>
                <a:rPr b="0" lang="en-US" sz="1600" spc="-1" strike="noStrike">
                  <a:solidFill>
                    <a:srgbClr val="330066"/>
                  </a:solidFill>
                  <a:latin typeface="Arial"/>
                </a:rPr>
                <a:t>TIEMPO DE OBSERVACION (MI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457880" y="6332760"/>
              <a:ext cx="339084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1720" y="1219320"/>
            <a:ext cx="656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POSTURA MANO-MUÑ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320" y="2471760"/>
            <a:ext cx="8915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ÉTODO JSI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2440" y="1219320"/>
            <a:ext cx="648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VARIABLE DE ESTUDIO: VELOCIDAD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451" t="0" r="2857" b="0"/>
          <a:stretch/>
        </p:blipFill>
        <p:spPr>
          <a:xfrm>
            <a:off x="152280" y="2343240"/>
            <a:ext cx="88394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9:03:03Z</dcterms:created>
  <dc:creator>Gerencia de Sistemas</dc:creator>
  <dc:description/>
  <dc:language>en-US</dc:language>
  <cp:lastModifiedBy>Gerencia de Sistemas</cp:lastModifiedBy>
  <dcterms:modified xsi:type="dcterms:W3CDTF">2010-04-13T19:19:52Z</dcterms:modified>
  <cp:revision>32</cp:revision>
  <dc:subject/>
  <dc:title>UNEXPO ANTONIO JOSE DE SUCRE DIRECCION DE INVESTIGACION Y POSTGRADO CATEDRA: ERGONOMIA</dc:title>
</cp:coreProperties>
</file>